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C3B9-F006-4DF2-86D8-00758E2C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21C8-6153-410A-B150-AA8AB7AC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4E8-9C72-4B33-9B6E-CA110D91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1CC0-4ACC-4729-AE81-8FB74A5B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42AA-A497-44B7-8BCB-8E077E20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6CD0-B737-4E37-92C2-65FA4227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212A-2A2D-4A38-8206-8F3848F8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5955-BBF3-42C6-BCB4-F99734D4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FA68-0B12-4734-A71A-B4BB78FD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5379-EE8F-459D-B9D3-551A08E0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E536-D6F7-47B6-968A-FDCEFF9A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C99-3531-4A7B-A35E-7626F314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AA96-C3CD-418B-B291-14562926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BA77-06EC-4A35-B4DC-B503A82C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89D8-BA12-4FAC-AB3B-8D28998A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4BAF-8E49-4AA4-BCD7-93B1C401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5645-88A6-429F-BB07-A72B6827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8BB-F3F0-4409-960C-A39FCBCE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4570-B62E-4F2B-BDED-2ECA840B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F88A-6C26-484E-A80D-3437745D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E2A4-C229-4FB5-B459-C5AB20B8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64E-E2C1-4F6C-9676-EE2E86FC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F298-8186-40A6-9CE1-BB6D11F4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5459-32BE-4B48-8495-CBF7129C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994E-D2F8-44D0-A57B-21C9BFAF0C7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DEEA-7068-4FEB-BA7A-DD58ECD71D2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C453-7996-47C3-80DA-9AFB8DDDBDC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9336-EDB8-45EB-8066-C29BC7D6AB7A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52480" y="3276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2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equency Respons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f FIR Filter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B368-9890-4676-8A74-592523D7BDA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392DECF-3AA7-48BC-83A3-15EC98722B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-pt AVG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320" y="1514520"/>
            <a:ext cx="8991360" cy="5343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68120" y="4114800"/>
            <a:ext cx="24879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USE PAST VALU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371240" y="4495680"/>
            <a:ext cx="152280" cy="6098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62120" y="1363680"/>
                <a:ext cx="7968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put: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34E6-7C07-4E74-962C-62987D25648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DCF78-723F-46A7-8B9A-64BBDC0E0D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7-pt FIR EXAMPLE (AVG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280" y="1424160"/>
            <a:ext cx="8915400" cy="5433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8560" y="3962520"/>
            <a:ext cx="27867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CAUSAL: Use Previou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2895480"/>
            <a:ext cx="106668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0280" y="2362320"/>
            <a:ext cx="10670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24760" y="2438280"/>
            <a:ext cx="0" cy="32767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21200" y="6462720"/>
            <a:ext cx="2181600" cy="3682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LONGER OUTP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343400"/>
            <a:ext cx="685800" cy="16765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62120" y="1295280"/>
                <a:ext cx="7968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put: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A200-F362-4AB8-A896-C6B2BEF4FA3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00497-2868-4E25-964A-0D06DA2BCF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AL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PUT:  x[n] = SINUSOI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UTPUT:  y[n] will also be a SINUSOI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fferent Amplitude and Pha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SAM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Frequenc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PLITUDE &amp; PHASE CHANG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lled the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FREQUENCY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D114-1BE2-4D34-8370-1B0D03FD83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75BB4-9E70-4D69-9206-60453D7ABF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432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CONVDEMO: MATLAB GUI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772400" cy="53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8CDB-3D3F-418C-ADA0-85C7D4EDEA7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1D799-D293-42F2-94FD-14B8E59F80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LEX EXPONENTIA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62120" y="3301920"/>
            <a:ext cx="7619760" cy="1897560"/>
            <a:chOff x="762120" y="3301920"/>
            <a:chExt cx="7619760" cy="1897560"/>
          </a:xfrm>
        </p:grpSpPr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762120" y="3301920"/>
                  <a:ext cx="7619760" cy="14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[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"/>
            <p:cNvSpPr/>
            <p:nvPr/>
          </p:nvSpPr>
          <p:spPr>
            <a:xfrm>
              <a:off x="1911240" y="4800600"/>
              <a:ext cx="378972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FIR DIFFERENCE EQUATION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990720" y="2438280"/>
            <a:ext cx="2514600" cy="12956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85800" y="1676520"/>
            <a:ext cx="6781680" cy="1236960"/>
            <a:chOff x="685800" y="1676520"/>
            <a:chExt cx="6781680" cy="123696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685800" y="1676520"/>
                  <a:ext cx="678168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p>
                          <m:r>
                            <m:t xml:space="preserve">jϕ</m:t>
                          </m:r>
                        </m:sup>
                      </m:sSup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  <m:r>
                            <m:t xml:space="preserve">n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&lt;</m:t>
                      </m:r>
                      <m:r>
                        <m:t xml:space="preserve">n</m:t>
                      </m:r>
                      <m:r>
                        <m:t xml:space="preserve">&lt;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2135880" y="2514600"/>
              <a:ext cx="528012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x[n] is the input signal—a complex exponential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C9E2-6239-40FF-913C-98C653B037F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B1D22-98D2-492C-9056-8B2EAAB564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LEX EXP OUTP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se the FIR “Difference Equation”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057400" y="5359320"/>
                <a:ext cx="43689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66680" y="2284560"/>
                <a:ext cx="706140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905120" y="3664080"/>
                <a:ext cx="5029200" cy="15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e>
                    </m: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AB1-3415-4BFC-BD02-2C31F862FE8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C93D9-FD3F-4471-B4A3-4848EF78C7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3886200"/>
            <a:ext cx="8178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lex-valued formula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as MAGNITUDE vs. frequenc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d PHASE vs. frequenc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ta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4120" y="2743200"/>
            <a:ext cx="2419200" cy="703800"/>
            <a:chOff x="5334120" y="2743200"/>
            <a:chExt cx="2419200" cy="703800"/>
          </a:xfrm>
        </p:grpSpPr>
        <p:sp>
          <p:nvSpPr>
            <p:cNvPr id="177" name=""/>
            <p:cNvSpPr/>
            <p:nvPr/>
          </p:nvSpPr>
          <p:spPr>
            <a:xfrm>
              <a:off x="5958720" y="2743200"/>
              <a:ext cx="1794600" cy="703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FREQUENCY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RESPONS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5334120" y="3048120"/>
              <a:ext cx="60912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07960" y="1752480"/>
            <a:ext cx="81788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t each frequency, we can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FIN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819520" y="5597640"/>
                <a:ext cx="4662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in place of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841400" y="2479680"/>
                <a:ext cx="332604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447920" y="2443320"/>
                <a:ext cx="36576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D28-56A2-40BE-AD65-10FDF683FD1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B585E-3946-4C07-B14B-911192FB5F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6.1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756320" y="2514600"/>
            <a:ext cx="3988800" cy="914400"/>
            <a:chOff x="4756320" y="2514600"/>
            <a:chExt cx="3988800" cy="914400"/>
          </a:xfrm>
        </p:grpSpPr>
        <p:sp>
          <p:nvSpPr>
            <p:cNvPr id="185" name=""/>
            <p:cNvSpPr/>
            <p:nvPr/>
          </p:nvSpPr>
          <p:spPr>
            <a:xfrm>
              <a:off x="6755400" y="2514600"/>
              <a:ext cx="198972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EXPLOIT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SYMMETRY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4756320" y="2666520"/>
              <a:ext cx="198144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137200" y="2971800"/>
              <a:ext cx="1600200" cy="457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803240" y="1752480"/>
                <a:ext cx="2311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81200" y="2516040"/>
                <a:ext cx="441324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647720" y="4373640"/>
                <a:ext cx="539136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ce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Magnitude is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and  Phase is  </m:t>
                    </m:r>
                    <m:r>
                      <m:t xml:space="preserve">∠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45B-6AAB-4BD7-BC84-52B004AD715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E64D7-76CF-4C66-9866-19A431BFFE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LOT of FREQ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271440"/>
            <a:ext cx="8686800" cy="658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438280" y="3117960"/>
                <a:ext cx="3853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94" name=""/>
          <p:cNvGrpSpPr/>
          <p:nvPr/>
        </p:nvGrpSpPr>
        <p:grpSpPr>
          <a:xfrm>
            <a:off x="6095520" y="1599840"/>
            <a:ext cx="2522520" cy="3657960"/>
            <a:chOff x="6095520" y="1599840"/>
            <a:chExt cx="2522520" cy="3657960"/>
          </a:xfrm>
        </p:grpSpPr>
        <p:sp>
          <p:nvSpPr>
            <p:cNvPr id="195" name=""/>
            <p:cNvSpPr/>
            <p:nvPr/>
          </p:nvSpPr>
          <p:spPr>
            <a:xfrm flipH="1" flipV="1">
              <a:off x="6095520" y="1599840"/>
              <a:ext cx="685800" cy="1600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6095520" y="3581280"/>
              <a:ext cx="838440" cy="1676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13760" y="3200400"/>
              <a:ext cx="220428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RESPONSE at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/3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047000" y="685800"/>
                <a:ext cx="18684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962520" y="6432480"/>
                <a:ext cx="14475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ian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0880" y="6226200"/>
                <a:ext cx="5922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8458200" y="6242040"/>
                <a:ext cx="4460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8715240" y="2790720"/>
                <a:ext cx="3524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1D3-BA9E-4E27-8F70-27D39A263D0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072D8-4166-484F-9910-FFCE4F7F3E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6.2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057400" y="3657600"/>
            <a:ext cx="4572000" cy="1219320"/>
            <a:chOff x="2057400" y="3657600"/>
            <a:chExt cx="4572000" cy="1219320"/>
          </a:xfrm>
        </p:grpSpPr>
        <p:sp>
          <p:nvSpPr>
            <p:cNvPr id="205" name=""/>
            <p:cNvSpPr/>
            <p:nvPr/>
          </p:nvSpPr>
          <p:spPr>
            <a:xfrm>
              <a:off x="3352680" y="36576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62320" y="411480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57800" y="41148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11160" y="365760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16040" y="36576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7400" y="4876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819520" y="4343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04812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59092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200400" y="4647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438280" y="4647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29200" y="4876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791320" y="4343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019920" y="47242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562720" y="47242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17220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41008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3430440" y="3719520"/>
                  <a:ext cx="182268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844640" y="5343480"/>
                <a:ext cx="53802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793800" y="1676520"/>
                <a:ext cx="7251480" cy="16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when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know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0691-BFD6-4516-BC45-090CAD3B3E0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CB5FD-AEC4-41ED-8A9F-C3E95F76B062}" type="datetime1">
              <a:rPr lang="en-US"/>
              <a:t>07/29/26</a:t>
            </a:fld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ADA-8406-42B8-B2D5-699C8AB290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7ACD5-C864-4DE8-B61C-2F7F9BCBCA53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39840" y="1638360"/>
                <a:ext cx="831204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6.2 (answer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03120" y="2637000"/>
                <a:ext cx="7472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One Step-evaluate 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 flipH="1">
            <a:off x="7162560" y="2133720"/>
            <a:ext cx="609480" cy="685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6720" y="3486240"/>
                <a:ext cx="53802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98520" y="4275000"/>
                <a:ext cx="61545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@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52280" y="5176800"/>
                <a:ext cx="56786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×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821200" y="5181480"/>
                <a:ext cx="31705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j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F23-48A4-41A1-8325-DBD380F697E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34DD8-8A54-4603-8F22-216E7BAB7A83}" type="datetime1">
              <a:rPr lang="en-US"/>
              <a:t>07/29/26</a:t>
            </a:fld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: COSINE INP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63680" y="1673280"/>
                <a:ext cx="8146800" cy="18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when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s know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 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844640" y="5321160"/>
                <a:ext cx="5380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36" name=""/>
          <p:cNvGrpSpPr/>
          <p:nvPr/>
        </p:nvGrpSpPr>
        <p:grpSpPr>
          <a:xfrm>
            <a:off x="2057400" y="3657600"/>
            <a:ext cx="4789440" cy="1509840"/>
            <a:chOff x="2057400" y="3657600"/>
            <a:chExt cx="4789440" cy="1509840"/>
          </a:xfrm>
        </p:grpSpPr>
        <p:grpSp>
          <p:nvGrpSpPr>
            <p:cNvPr id="237" name=""/>
            <p:cNvGrpSpPr/>
            <p:nvPr/>
          </p:nvGrpSpPr>
          <p:grpSpPr>
            <a:xfrm>
              <a:off x="2057400" y="3657600"/>
              <a:ext cx="4572000" cy="1219320"/>
              <a:chOff x="2057400" y="3657600"/>
              <a:chExt cx="4572000" cy="1219320"/>
            </a:xfrm>
          </p:grpSpPr>
          <p:sp>
            <p:nvSpPr>
              <p:cNvPr id="238" name=""/>
              <p:cNvSpPr/>
              <p:nvPr/>
            </p:nvSpPr>
            <p:spPr>
              <a:xfrm>
                <a:off x="3352680" y="3657600"/>
                <a:ext cx="1905120" cy="914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62320" y="4114800"/>
                <a:ext cx="99036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257800" y="411480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411160" y="3657600"/>
                <a:ext cx="68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y[n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516040" y="36576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x[n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57400" y="487692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2819520" y="4343400"/>
                <a:ext cx="0" cy="5335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304812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259092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3200400" y="464796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2438280" y="464796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029200" y="487692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5791320" y="4343400"/>
                <a:ext cx="0" cy="5335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6019920" y="4724280"/>
                <a:ext cx="0" cy="1526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5562720" y="4724280"/>
                <a:ext cx="0" cy="1526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617220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541008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3430440" y="3711600"/>
                    <a:ext cx="1822680" cy="86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3581280" y="4800600"/>
                  <a:ext cx="29376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6553080" y="4800600"/>
                  <a:ext cx="29376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953-CE8C-42FA-973D-27725B06476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3552E-157D-45CE-8E1A-D98E6FC2E62F}" type="datetime1">
              <a:rPr lang="en-US"/>
              <a:t>07/29/26</a:t>
            </a:fld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: COSINE INP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5560" y="1627200"/>
                <a:ext cx="8964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when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n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68360" y="2708280"/>
                <a:ext cx="843588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585800" y="4378320"/>
                <a:ext cx="6170760" cy="22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151200" y="4419720"/>
            <a:ext cx="1301040" cy="8254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ineari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A796-FD33-41BF-8DAA-163F2887B7A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02740-FB0B-49BB-AF19-0995EBC81CBD}" type="datetime1">
              <a:rPr lang="en-US"/>
              <a:t>07/29/26</a:t>
            </a:fld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: COSINE INPUT (ans-2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5560" y="1627200"/>
                <a:ext cx="8964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when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n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96840" y="3487680"/>
                <a:ext cx="898524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14280" y="5105520"/>
                <a:ext cx="700092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766880" y="2577960"/>
                <a:ext cx="553572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969-836D-48E0-B12F-75FF0254793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1050A-0B3C-41A7-9BDC-6612FD4D7FEF}" type="datetime1">
              <a:rPr lang="en-US"/>
              <a:t>07/29/26</a:t>
            </a:fld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ATLAB: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urier New"/>
              </a:rPr>
              <a:t>HH = freqz(bb,1,ww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ECTOR </a:t>
            </a:r>
            <a:r>
              <a:rPr b="1" lang="en-US" sz="4000" spc="-1" strike="noStrike">
                <a:solidFill>
                  <a:srgbClr val="ff6600"/>
                </a:solidFill>
                <a:latin typeface="Courier New"/>
              </a:rPr>
              <a:t>bb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contains Filter Coeffici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-First:   </a:t>
            </a:r>
            <a:r>
              <a:rPr b="1" lang="en-US" sz="3200" spc="-1" strike="noStrike">
                <a:solidFill>
                  <a:srgbClr val="ff6600"/>
                </a:solidFill>
                <a:latin typeface="Courier New"/>
              </a:rPr>
              <a:t>HH = freekz(bb,1,ww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LTER COEFFICIENTS 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{b</a:t>
            </a:r>
            <a:r>
              <a:rPr b="0" lang="en-US" sz="3200" spc="-1" strike="noStrike" baseline="-25000">
                <a:solidFill>
                  <a:srgbClr val="ff66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125800" y="4683240"/>
                <a:ext cx="42829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EB1-BF2D-445D-8A24-9F0FAE05BF9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1338B-27E4-4F79-B623-99BDCAC312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TI:   Linear &amp; Time-Invaria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LETELY CHARACTERIZED by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FREQUENCY RESPONS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o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PULSE RESPONSE h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Sinusoid IN -----&gt; Sinusoid OU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At the SAME Frequenc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795B-1714-408F-AFE0-BFD1758D340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770AF-F590-49E3-8C34-D529C6D5FF6A}" type="datetime1">
              <a:rPr lang="en-US"/>
              <a:t>07/29/26</a:t>
            </a:fld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ime &amp; Frequency Rela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et Frequency Response from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ere is the FIR cas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68120" y="3200400"/>
            <a:ext cx="8739360" cy="2822040"/>
            <a:chOff x="168120" y="3200400"/>
            <a:chExt cx="8739360" cy="2822040"/>
          </a:xfrm>
        </p:grpSpPr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168120" y="3200400"/>
                  <a:ext cx="8047080" cy="16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k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[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  <m:r>
                            <m:t xml:space="preserve"> </m:t>
                          </m:r>
                        </m:e>
                      </m:nary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k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77" name=""/>
            <p:cNvGrpSpPr/>
            <p:nvPr/>
          </p:nvGrpSpPr>
          <p:grpSpPr>
            <a:xfrm>
              <a:off x="5657400" y="4419360"/>
              <a:ext cx="3250080" cy="1603080"/>
              <a:chOff x="5657400" y="4419360"/>
              <a:chExt cx="3250080" cy="1603080"/>
            </a:xfrm>
          </p:grpSpPr>
          <p:sp>
            <p:nvSpPr>
              <p:cNvPr id="278" name=""/>
              <p:cNvSpPr/>
              <p:nvPr/>
            </p:nvSpPr>
            <p:spPr>
              <a:xfrm>
                <a:off x="5657400" y="5562720"/>
                <a:ext cx="3250080" cy="45972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IMPULSE RESPONSE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flipV="1">
                <a:off x="6400440" y="4419360"/>
                <a:ext cx="304920" cy="114300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2895480" y="4343400"/>
              <a:ext cx="4419720" cy="1066680"/>
            </a:xfrm>
            <a:custGeom>
              <a:avLst/>
              <a:gdLst/>
              <a:ahLst/>
              <a:rect l="l" t="t" r="r" b="b"/>
              <a:pathLst>
                <a:path w="2168" h="712">
                  <a:moveTo>
                    <a:pt x="1896" y="0"/>
                  </a:moveTo>
                  <a:cubicBezTo>
                    <a:pt x="2032" y="160"/>
                    <a:pt x="2168" y="320"/>
                    <a:pt x="2136" y="432"/>
                  </a:cubicBezTo>
                  <a:cubicBezTo>
                    <a:pt x="2104" y="544"/>
                    <a:pt x="2000" y="632"/>
                    <a:pt x="1704" y="672"/>
                  </a:cubicBezTo>
                  <a:cubicBezTo>
                    <a:pt x="1408" y="712"/>
                    <a:pt x="640" y="696"/>
                    <a:pt x="360" y="672"/>
                  </a:cubicBezTo>
                  <a:cubicBezTo>
                    <a:pt x="80" y="648"/>
                    <a:pt x="47" y="639"/>
                    <a:pt x="24" y="528"/>
                  </a:cubicBezTo>
                  <a:cubicBezTo>
                    <a:pt x="0" y="416"/>
                    <a:pt x="108" y="208"/>
                    <a:pt x="216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EC89-D7CD-43A3-BDAF-42EF71A0931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EDEF3-E939-4378-A71F-1F5C69D17A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BLOCK DIAGRA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quivalent Representa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209680" y="2743200"/>
            <a:ext cx="4815000" cy="3382920"/>
            <a:chOff x="2209680" y="2743200"/>
            <a:chExt cx="4815000" cy="3382920"/>
          </a:xfrm>
        </p:grpSpPr>
        <p:sp>
          <p:nvSpPr>
            <p:cNvPr id="284" name=""/>
            <p:cNvSpPr/>
            <p:nvPr/>
          </p:nvSpPr>
          <p:spPr>
            <a:xfrm>
              <a:off x="3505320" y="2743200"/>
              <a:ext cx="190476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14600" y="3200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10080" y="3200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63440" y="274320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68320" y="27432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05320" y="4495680"/>
              <a:ext cx="190476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14600" y="495288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10080" y="495288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63440" y="449568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68320" y="449568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3583080" y="4557600"/>
                  <a:ext cx="182232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3917880" y="2827440"/>
                  <a:ext cx="109368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"/>
            <p:cNvSpPr/>
            <p:nvPr/>
          </p:nvSpPr>
          <p:spPr>
            <a:xfrm>
              <a:off x="4343400" y="3733920"/>
              <a:ext cx="0" cy="6858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6673680" y="5686560"/>
                  <a:ext cx="35100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5181480" y="571500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943600" y="518148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172200" y="556236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715000" y="556236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6324480" y="533412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5562720" y="533412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3716280" y="5715000"/>
                  <a:ext cx="322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"/>
            <p:cNvSpPr/>
            <p:nvPr/>
          </p:nvSpPr>
          <p:spPr>
            <a:xfrm>
              <a:off x="2209680" y="571500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971800" y="518148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200400" y="533412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743200" y="533412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352680" y="548604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590920" y="548604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FE23-815C-4520-AE55-ED3C37D2760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B7DE5-C291-4B58-8553-8C8CDC208D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UNIT-DELAY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676520" y="2666880"/>
            <a:ext cx="3886200" cy="914400"/>
            <a:chOff x="1676520" y="2666880"/>
            <a:chExt cx="3886200" cy="914400"/>
          </a:xfrm>
        </p:grpSpPr>
        <p:sp>
          <p:nvSpPr>
            <p:cNvPr id="313" name=""/>
            <p:cNvSpPr/>
            <p:nvPr/>
          </p:nvSpPr>
          <p:spPr>
            <a:xfrm>
              <a:off x="2666880" y="266688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76520" y="312408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72000" y="312408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25360" y="266688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30240" y="266688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2712960" y="2751120"/>
                  <a:ext cx="182556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9" name=""/>
          <p:cNvGrpSpPr/>
          <p:nvPr/>
        </p:nvGrpSpPr>
        <p:grpSpPr>
          <a:xfrm>
            <a:off x="77760" y="3960720"/>
            <a:ext cx="7026480" cy="2224080"/>
            <a:chOff x="77760" y="3960720"/>
            <a:chExt cx="7026480" cy="2224080"/>
          </a:xfrm>
        </p:grpSpPr>
        <p:grpSp>
          <p:nvGrpSpPr>
            <p:cNvPr id="320" name=""/>
            <p:cNvGrpSpPr/>
            <p:nvPr/>
          </p:nvGrpSpPr>
          <p:grpSpPr>
            <a:xfrm>
              <a:off x="2438280" y="4648320"/>
              <a:ext cx="3886200" cy="1003320"/>
              <a:chOff x="2438280" y="4648320"/>
              <a:chExt cx="3886200" cy="1003320"/>
            </a:xfrm>
          </p:grpSpPr>
          <p:sp>
            <p:nvSpPr>
              <p:cNvPr id="321" name=""/>
              <p:cNvSpPr/>
              <p:nvPr/>
            </p:nvSpPr>
            <p:spPr>
              <a:xfrm>
                <a:off x="3429000" y="4660920"/>
                <a:ext cx="1905120" cy="914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38280" y="511812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34120" y="5118120"/>
                <a:ext cx="99036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87480" y="4660920"/>
                <a:ext cx="69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y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592360" y="46609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6" name=""/>
                  <p:cNvSpPr txBox="1"/>
                  <p:nvPr/>
                </p:nvSpPr>
                <p:spPr>
                  <a:xfrm>
                    <a:off x="3570120" y="4648320"/>
                    <a:ext cx="1471680" cy="1003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27" name=""/>
            <p:cNvGrpSpPr/>
            <p:nvPr/>
          </p:nvGrpSpPr>
          <p:grpSpPr>
            <a:xfrm>
              <a:off x="77760" y="3960720"/>
              <a:ext cx="3960720" cy="866880"/>
              <a:chOff x="77760" y="3960720"/>
              <a:chExt cx="3960720" cy="866880"/>
            </a:xfrm>
          </p:grpSpPr>
          <mc:AlternateContent>
            <mc:Choice xmlns:a14="http://schemas.microsoft.com/office/drawing/2010/main" Requires="a14">
              <p:sp>
                <p:nvSpPr>
                  <p:cNvPr id="328" name=""/>
                  <p:cNvSpPr txBox="1"/>
                  <p:nvPr/>
                </p:nvSpPr>
                <p:spPr>
                  <a:xfrm>
                    <a:off x="77760" y="3960720"/>
                    <a:ext cx="1820880" cy="86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9" name=""/>
              <p:cNvSpPr/>
              <p:nvPr/>
            </p:nvSpPr>
            <p:spPr>
              <a:xfrm>
                <a:off x="1828800" y="3962520"/>
                <a:ext cx="2209680" cy="850680"/>
              </a:xfrm>
              <a:custGeom>
                <a:avLst/>
                <a:gdLst/>
                <a:ahLst/>
                <a:rect l="l" t="t" r="r" b="b"/>
                <a:pathLst>
                  <a:path w="1488" h="536">
                    <a:moveTo>
                      <a:pt x="0" y="296"/>
                    </a:moveTo>
                    <a:cubicBezTo>
                      <a:pt x="80" y="267"/>
                      <a:pt x="160" y="239"/>
                      <a:pt x="336" y="200"/>
                    </a:cubicBezTo>
                    <a:cubicBezTo>
                      <a:pt x="511" y="160"/>
                      <a:pt x="864" y="0"/>
                      <a:pt x="1056" y="56"/>
                    </a:cubicBezTo>
                    <a:cubicBezTo>
                      <a:pt x="1247" y="111"/>
                      <a:pt x="1367" y="323"/>
                      <a:pt x="1488" y="536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057400" y="5270400"/>
              <a:ext cx="5046840" cy="914400"/>
              <a:chOff x="2057400" y="5270400"/>
              <a:chExt cx="5046840" cy="91440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2057400" y="5270400"/>
                <a:ext cx="1846440" cy="914400"/>
                <a:chOff x="2057400" y="5270400"/>
                <a:chExt cx="1846440" cy="9144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32" name=""/>
                    <p:cNvSpPr txBox="1"/>
                    <p:nvPr/>
                  </p:nvSpPr>
                  <p:spPr>
                    <a:xfrm>
                      <a:off x="3581640" y="5803920"/>
                      <a:ext cx="322200" cy="380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33" name=""/>
                <p:cNvSpPr/>
                <p:nvPr/>
              </p:nvSpPr>
              <p:spPr>
                <a:xfrm>
                  <a:off x="2057400" y="5803920"/>
                  <a:ext cx="160020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V="1">
                  <a:off x="2819520" y="5270400"/>
                  <a:ext cx="0" cy="53352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3048120" y="5423040"/>
                  <a:ext cx="0" cy="3808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>
                  <a:off x="2590920" y="5423040"/>
                  <a:ext cx="0" cy="3808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3200400" y="5574960"/>
                  <a:ext cx="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2438640" y="5574960"/>
                  <a:ext cx="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5257800" y="5270400"/>
                <a:ext cx="1846440" cy="914400"/>
                <a:chOff x="5257800" y="5270400"/>
                <a:chExt cx="1846440" cy="9144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40" name=""/>
                    <p:cNvSpPr txBox="1"/>
                    <p:nvPr/>
                  </p:nvSpPr>
                  <p:spPr>
                    <a:xfrm>
                      <a:off x="6782040" y="5803920"/>
                      <a:ext cx="322200" cy="380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41" name=""/>
                <p:cNvSpPr/>
                <p:nvPr/>
              </p:nvSpPr>
              <p:spPr>
                <a:xfrm>
                  <a:off x="5257800" y="5803920"/>
                  <a:ext cx="160020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6019920" y="5270400"/>
                  <a:ext cx="0" cy="53352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6248520" y="5423040"/>
                  <a:ext cx="0" cy="3808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5791320" y="5423040"/>
                  <a:ext cx="0" cy="3808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6400800" y="5574960"/>
                  <a:ext cx="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5639040" y="5574960"/>
                  <a:ext cx="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60360" y="1731960"/>
                <a:ext cx="78897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791320" y="3394080"/>
                <a:ext cx="32004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B787-4B85-441C-94CE-964671E5D91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25884-86E2-4AB9-A713-450180C2B2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ST DIFFERENCE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2211120" y="5194440"/>
            <a:ext cx="4341960" cy="901440"/>
            <a:chOff x="2211120" y="5194440"/>
            <a:chExt cx="4341960" cy="901440"/>
          </a:xfrm>
        </p:grpSpPr>
        <p:sp>
          <p:nvSpPr>
            <p:cNvPr id="351" name=""/>
            <p:cNvSpPr/>
            <p:nvPr/>
          </p:nvSpPr>
          <p:spPr>
            <a:xfrm>
              <a:off x="3276720" y="5334120"/>
              <a:ext cx="2286000" cy="76176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57276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62720" y="572760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92040" y="519444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11120" y="52704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3613320" y="5308560"/>
                  <a:ext cx="1765080" cy="74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"/>
          <p:cNvGrpSpPr/>
          <p:nvPr/>
        </p:nvGrpSpPr>
        <p:grpSpPr>
          <a:xfrm>
            <a:off x="2035080" y="3446640"/>
            <a:ext cx="4975200" cy="896760"/>
            <a:chOff x="2035080" y="3446640"/>
            <a:chExt cx="4975200" cy="896760"/>
          </a:xfrm>
        </p:grpSpPr>
        <p:sp>
          <p:nvSpPr>
            <p:cNvPr id="358" name=""/>
            <p:cNvSpPr/>
            <p:nvPr/>
          </p:nvSpPr>
          <p:spPr>
            <a:xfrm>
              <a:off x="3124080" y="3505320"/>
              <a:ext cx="2895840" cy="83808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33720" y="390384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19920" y="390384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43120" y="344664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35080" y="34466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"/>
                <p:cNvSpPr txBox="1"/>
                <p:nvPr/>
              </p:nvSpPr>
              <p:spPr>
                <a:xfrm>
                  <a:off x="3352680" y="3657600"/>
                  <a:ext cx="2514600" cy="55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−</m:t>
                      </m:r>
                      <m:r>
                        <m:t xml:space="preserve">δ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4" name=""/>
          <p:cNvGrpSpPr/>
          <p:nvPr/>
        </p:nvGrpSpPr>
        <p:grpSpPr>
          <a:xfrm>
            <a:off x="100080" y="4483080"/>
            <a:ext cx="3938400" cy="851040"/>
            <a:chOff x="100080" y="4483080"/>
            <a:chExt cx="3938400" cy="851040"/>
          </a:xfrm>
        </p:grpSpPr>
        <p:sp>
          <p:nvSpPr>
            <p:cNvPr id="365" name=""/>
            <p:cNvSpPr/>
            <p:nvPr/>
          </p:nvSpPr>
          <p:spPr>
            <a:xfrm>
              <a:off x="1676520" y="4483080"/>
              <a:ext cx="2361960" cy="851040"/>
            </a:xfrm>
            <a:custGeom>
              <a:avLst/>
              <a:gdLst/>
              <a:ahLst/>
              <a:rect l="l" t="t" r="r" b="b"/>
              <a:pathLst>
                <a:path w="1488" h="536">
                  <a:moveTo>
                    <a:pt x="0" y="296"/>
                  </a:moveTo>
                  <a:cubicBezTo>
                    <a:pt x="80" y="267"/>
                    <a:pt x="160" y="239"/>
                    <a:pt x="336" y="200"/>
                  </a:cubicBezTo>
                  <a:cubicBezTo>
                    <a:pt x="511" y="160"/>
                    <a:pt x="864" y="0"/>
                    <a:pt x="1056" y="56"/>
                  </a:cubicBezTo>
                  <a:cubicBezTo>
                    <a:pt x="1247" y="111"/>
                    <a:pt x="1367" y="323"/>
                    <a:pt x="1488" y="536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6" name=""/>
                <p:cNvSpPr txBox="1"/>
                <p:nvPr/>
              </p:nvSpPr>
              <p:spPr>
                <a:xfrm>
                  <a:off x="100080" y="4503600"/>
                  <a:ext cx="177624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33520" y="1676520"/>
                <a:ext cx="793116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for the Differe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:     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8B2-F1A3-4A11-BAC6-32D37B738B4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68478-EC6F-4EBF-A857-19B1628727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6, Sections 6-1, 6-2, 6-3, 6-4, &amp; 6-5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apter 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UENCY RESPONSE EXAMP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. 6, Sects. 6-6, 6-7 &amp; 6-8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1888-50DD-4CDD-91FC-4E27ADB093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0234F-3867-41E4-BE79-B9F2244739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762120" y="101268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LTI Demo with Sinusoid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4875840" y="1752480"/>
            <a:ext cx="11271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FILT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4160" y="1600200"/>
            <a:ext cx="70668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09800" y="1647720"/>
            <a:ext cx="6901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8FD0-0FF2-4A17-B7EA-7F7E7632F6E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16FAB-CB14-4B8B-9812-1070AD913DB5}" type="datetime1">
              <a:rPr lang="en-US"/>
              <a:t>07/29/26</a:t>
            </a:fld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oes the order of 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&amp; 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matter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,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TI SYSTEMS can be rearranged !!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ARE THE FILTER COEFFS?   {b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is the overall FREQUENCY RESPONSE 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rcRect l="0" t="0" r="0" b="20806"/>
          <a:stretch/>
        </p:blipFill>
        <p:spPr>
          <a:xfrm>
            <a:off x="0" y="441972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843280" y="5322960"/>
            <a:ext cx="523800" cy="648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29480" y="5322960"/>
            <a:ext cx="523800" cy="648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152280" y="5321160"/>
                <a:ext cx="712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726000" y="5321160"/>
                <a:ext cx="76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358040" y="5321160"/>
                <a:ext cx="1709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752480" y="5168880"/>
                <a:ext cx="770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700600" y="5168880"/>
                <a:ext cx="7984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CF5-DBCF-40F5-A95A-D7132896305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DADE6-FD44-453B-A1EE-AAFF7F8672C0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EQUIVALEN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MULTIPLY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 Frequency Respons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52680" y="403848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44956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57800" y="44956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11160" y="403848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16040" y="4038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452760" y="4038480"/>
                <a:ext cx="17780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1752480" y="274320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3200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5760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3560" y="2743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808280" y="2743200"/>
                <a:ext cx="18669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4648320" y="274320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5530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706440" y="274320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657680" y="2760840"/>
                <a:ext cx="195912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2916360" y="5243400"/>
                <a:ext cx="60148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399960" y="5105520"/>
            <a:ext cx="222588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EQUIVALE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666880" y="4876920"/>
            <a:ext cx="609840" cy="3045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C8B2-5A40-4E39-AD77-2D3C2F1BF03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5B102-1BBB-4EBF-8157-7BBEC2981E6A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INUSOIDAL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PUT SIGN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TERMINE the FIR FILTER OUTPU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REQUENCY RESPONS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f FI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LOTTING vs. Frequenc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GNITUDE vs. Freq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HASE vs. Freq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038480" y="3732120"/>
            <a:ext cx="5105520" cy="2440080"/>
            <a:chOff x="4038480" y="3732120"/>
            <a:chExt cx="5105520" cy="244008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4038480" y="5237280"/>
                  <a:ext cx="510552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</m:sup>
                          </m:sSup>
                          <m:r>
                            <m:t xml:space="preserve">)</m:t>
                          </m:r>
                        </m:e>
                      </m:d>
                      <m:r>
                        <m:t xml:space="preserve">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∠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</m:sup>
                          </m:sSup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5181480" y="4648320"/>
              <a:ext cx="0" cy="6858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6789240" y="3732120"/>
              <a:ext cx="1238400" cy="1602000"/>
              <a:chOff x="6789240" y="3732120"/>
              <a:chExt cx="1238400" cy="1602000"/>
            </a:xfrm>
          </p:grpSpPr>
          <p:sp>
            <p:nvSpPr>
              <p:cNvPr id="96" name=""/>
              <p:cNvSpPr/>
              <p:nvPr/>
            </p:nvSpPr>
            <p:spPr>
              <a:xfrm>
                <a:off x="7135200" y="3732120"/>
                <a:ext cx="892440" cy="45972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MAG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6789240" y="4170240"/>
                <a:ext cx="330120" cy="116388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7714080" y="4417920"/>
              <a:ext cx="1227600" cy="916200"/>
              <a:chOff x="7714080" y="4417920"/>
              <a:chExt cx="1227600" cy="916200"/>
            </a:xfrm>
          </p:grpSpPr>
          <p:sp>
            <p:nvSpPr>
              <p:cNvPr id="99" name=""/>
              <p:cNvSpPr/>
              <p:nvPr/>
            </p:nvSpPr>
            <p:spPr>
              <a:xfrm>
                <a:off x="7848720" y="4876920"/>
                <a:ext cx="228600" cy="4572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14080" y="4417920"/>
                <a:ext cx="1227600" cy="45972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PHASE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FFE-6543-477F-853D-691D9BD713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D6F6F-BFC6-4290-BAA7-C74F41CD4E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OMAINS: Time &amp; Frequenc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Time-Domain:  “n” = tim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x[n]    discrete-time signa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x(t)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tinuous-time signa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Frequency Domain (sum of sinusoids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trum vs. f (Hz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ALOG vs. DIGITA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trum vs. omega-h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ve back and forth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QUICKL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18EB-5E3D-480D-8F26-EE2E7F2459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FC3D1-04FB-4A64-B77E-B002F2A0225B}" type="datetime1">
              <a:rPr lang="en-US"/>
              <a:t>07/29/26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TI: 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ear &amp;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e-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varia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LETELY CHARACTERIZED by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IMPULSE RESPONS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CONVOLU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 y[n] = x[n]*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“rule”defining the system can ALWAYS be re-written as convol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 Example: h[n] is same as b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CEC-E977-46CC-8D8B-96929CD2B3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A76EB-CDDA-4A6D-80E7-07603A25E583}" type="datetime1">
              <a:rPr lang="en-US"/>
              <a:t>07/29/26</a:t>
            </a:fld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733400"/>
            <a:ext cx="817884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 Filter is “FIRST DIFFERENCE”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y[n] = x[n] - x[n-1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rite output as a convolu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ed impulse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n, another way to compute the output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4724280"/>
            <a:ext cx="8178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46520" y="4044960"/>
                <a:ext cx="34527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763640" y="5410080"/>
                <a:ext cx="4678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34A-B091-46F2-B19D-6483B8EBE8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D596F-44D2-4A7E-97F2-00DE60E23CAB}" type="datetime1">
              <a:rPr lang="en-US"/>
              <a:t>07/29/26</a:t>
            </a:fld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IGITAL “FILTERING”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1280" y="21337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CENTRATE on the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SPECTRU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NUSOIDAL INPU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PUT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x[n] = SUM of SINUSOI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n, OUTPUT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y[n] = SUM of SINUSOI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190512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FIL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1905120"/>
            <a:ext cx="106668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D-to-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1905120"/>
            <a:ext cx="106668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-to-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560" y="19051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440" y="19051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3440" y="190512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8320" y="1905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691320" y="3019320"/>
                <a:ext cx="351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719520" y="3095640"/>
                <a:ext cx="3510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209680" y="3124080"/>
            <a:ext cx="1600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590560"/>
            <a:ext cx="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200400" y="274320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743200" y="274320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352680" y="2895120"/>
            <a:ext cx="0" cy="228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90920" y="2895120"/>
            <a:ext cx="0" cy="228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3124080"/>
            <a:ext cx="1600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943600" y="2590560"/>
            <a:ext cx="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172200" y="2971440"/>
            <a:ext cx="0" cy="152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715000" y="2971440"/>
            <a:ext cx="0" cy="152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324480" y="274320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562720" y="274320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24C4-A567-455E-9E61-BE44A2F1F2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0340B-7774-46EC-9DF1-1DF6044072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ING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-point AVERAG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moves cosin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y making its amplitude (A) small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7960" y="4419720"/>
            <a:ext cx="8178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-point AVERAG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nges A slightly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876920" y="1981080"/>
                <a:ext cx="40384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876920" y="4343400"/>
                <a:ext cx="4000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0D4F-2282-48F9-ABC7-E14A3C6839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04579-2060-44A5-8BEF-BA494FC300ED}" type="datetime1">
              <a:rPr lang="en-US"/>
              <a:t>07/29/26</a:t>
            </a:fld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 </cp:lastModifiedBy>
  <cp:lastPrinted>2000-02-21T15:28:05Z</cp:lastPrinted>
  <dcterms:modified xsi:type="dcterms:W3CDTF">2005-02-25T19:37:45Z</dcterms:modified>
  <cp:revision>251</cp:revision>
  <dc:subject/>
  <dc:title>SPFirst Lecture #1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