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28.wmf" ContentType="image/x-wmf"/>
  <Override PartName="/ppt/media/image30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54.png" ContentType="image/png"/>
  <Override PartName="/ppt/media/image32.wmf" ContentType="image/x-wmf"/>
  <Override PartName="/ppt/media/image60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31.png" ContentType="image/png"/>
  <Override PartName="/ppt/media/image29.wmf" ContentType="image/x-wmf"/>
  <Override PartName="/ppt/media/image1.png" ContentType="image/png"/>
  <Override PartName="/ppt/media/image62.wmf" ContentType="image/x-wmf"/>
  <Override PartName="/ppt/media/image24.wmf" ContentType="image/x-wmf"/>
  <Override PartName="/ppt/media/image26.png" ContentType="image/png"/>
  <Override PartName="/ppt/media/image61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64.png" ContentType="image/png"/>
  <Override PartName="/ppt/media/image63.png" ContentType="image/png"/>
  <Override PartName="/ppt/media/image2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6.png" ContentType="image/png"/>
  <Override PartName="/ppt/media/image19.png" ContentType="image/png"/>
  <Override PartName="/ppt/media/image41.wmf" ContentType="image/x-wmf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8E0-2FD2-4F16-8048-AE48E771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504-CC93-443C-AD53-EDA9A4A6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58F-D83D-4279-9D28-06DE378C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D43-CCFE-42AA-8BDA-9097C768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3E8-F17F-4BCB-88DB-24671626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1869-8A22-4242-8009-9CB40DA7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271A-0B23-4012-938C-FA33FED8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67DE-5D1F-4E7C-A836-1374F105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AADE-1AF6-47FA-AB78-11B624F7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470F-81DA-4F92-B87F-E9BF3888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9EF7-7171-47F6-B1B9-1F975B7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404-A3D6-4B7B-BCF1-C79361F0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CBAF-1FE7-4672-A49A-F187C414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40D-9D12-426B-AA01-FFA28E17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FF8B-4F9A-42D3-8723-BA76150E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610F-A767-40EF-8E26-9446835D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24AB-A0FA-4811-B3BA-38041155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75A-5C7C-439C-A6D9-C36B6450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6E2-3D13-462E-8354-C29EABB6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76A-CD62-4404-A39F-A60E0FE4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14F-EE87-45E0-89FF-CB20450D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819-AFDF-4471-98B4-46A46DD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78A-696C-4361-8C9D-44F2CE67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3D2-C899-48D0-AD7D-B36FC443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B746-EBC1-44AE-B1EB-619FBF09178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F192-32CF-4D90-ACFF-4AFDB80EA19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BD08-EDB1-4D9C-84B4-B63A7850AE3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7B56-67FF-468F-B710-257D3CE7529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3.wmf"/><Relationship Id="rId2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2.wmf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4286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4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plitude Modulation (AM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E86-1F27-4B9F-9159-242D74D277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864CF3F-C78D-4D23-B369-5F8486B9E475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42928" r="0" b="0"/>
          <a:stretch/>
        </p:blipFill>
        <p:spPr>
          <a:xfrm>
            <a:off x="380880" y="1530360"/>
            <a:ext cx="8077320" cy="2584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PF: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4500720"/>
            <a:ext cx="67816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2529000" y="4114800"/>
          <a:ext cx="3477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4114800"/>
                    <a:ext cx="347796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943600" y="2463840"/>
            <a:ext cx="2895480" cy="1193760"/>
            <a:chOff x="5943600" y="2463840"/>
            <a:chExt cx="2895480" cy="1193760"/>
          </a:xfrm>
        </p:grpSpPr>
        <p:graphicFrame>
          <p:nvGraphicFramePr>
            <p:cNvPr id="169" name=""/>
            <p:cNvGraphicFramePr/>
            <p:nvPr/>
          </p:nvGraphicFramePr>
          <p:xfrm>
            <a:off x="6400800" y="2463840"/>
            <a:ext cx="243828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2463840"/>
                      <a:ext cx="2438280" cy="428760"/>
                    </a:xfrm>
                    <a:prstGeom prst="rect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H="1">
              <a:off x="5943600" y="2895480"/>
              <a:ext cx="425520" cy="762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819520" y="990720"/>
            <a:ext cx="6172200" cy="2666880"/>
            <a:chOff x="2819520" y="990720"/>
            <a:chExt cx="6172200" cy="2666880"/>
          </a:xfrm>
        </p:grpSpPr>
        <p:sp>
          <p:nvSpPr>
            <p:cNvPr id="173" name=""/>
            <p:cNvSpPr/>
            <p:nvPr/>
          </p:nvSpPr>
          <p:spPr>
            <a:xfrm flipV="1">
              <a:off x="2819520" y="205704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2057400"/>
              <a:ext cx="31240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205740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943240" y="190512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5715000" y="990720"/>
            <a:ext cx="3276720" cy="931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990720"/>
                      <a:ext cx="3276720" cy="931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3EB-FDF4-49B2-85D7-1C4D4FFC55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42AAE-F536-4B3C-A152-B7D206A90F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e way communication systems work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00360" y="1376280"/>
            <a:ext cx="6581520" cy="5481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75120" y="3352680"/>
            <a:ext cx="4488840" cy="1013400"/>
            <a:chOff x="375120" y="3352680"/>
            <a:chExt cx="4488840" cy="1013400"/>
          </a:xfrm>
        </p:grpSpPr>
        <p:sp>
          <p:nvSpPr>
            <p:cNvPr id="182" name=""/>
            <p:cNvSpPr/>
            <p:nvPr/>
          </p:nvSpPr>
          <p:spPr>
            <a:xfrm>
              <a:off x="375120" y="3662280"/>
              <a:ext cx="22593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How do we shar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bandwidth ?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743200" y="3352680"/>
              <a:ext cx="2120760" cy="6098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A98-E2B1-48F2-A376-7BCADE2F649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5EBA6-BCDD-4B6D-B39A-F647E24533ED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114800" y="387036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7036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309960" y="4703760"/>
            <a:ext cx="5405040" cy="1620720"/>
            <a:chOff x="309960" y="4703760"/>
            <a:chExt cx="5405040" cy="1620720"/>
          </a:xfrm>
        </p:grpSpPr>
        <p:graphicFrame>
          <p:nvGraphicFramePr>
            <p:cNvPr id="192" name=""/>
            <p:cNvGraphicFramePr/>
            <p:nvPr/>
          </p:nvGraphicFramePr>
          <p:xfrm>
            <a:off x="1523880" y="520380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20380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309960" y="4703760"/>
              <a:ext cx="3587040" cy="459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96B-E7E1-47BD-A226-21CE61D846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A9623-B1CA-4526-91D4-52774F0E6897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Multiplier (Modulato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4019400"/>
            <a:ext cx="817884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ication in the time-domain corresponds to convolution in the frequency-domai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22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105520" y="2514600"/>
          <a:ext cx="3771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514600"/>
                    <a:ext cx="3771720" cy="622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410080" y="1828800"/>
          <a:ext cx="2286000" cy="3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286000" cy="382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14400" y="2514600"/>
          <a:ext cx="118116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51460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066680" y="1905120"/>
          <a:ext cx="5716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1905120"/>
                    <a:ext cx="571680" cy="330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81280" y="3124080"/>
          <a:ext cx="5968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3124080"/>
                    <a:ext cx="596880" cy="3430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371600" y="5397480"/>
          <a:ext cx="6553080" cy="12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71600" y="5397480"/>
                    <a:ext cx="6553080" cy="12319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AEC-44BD-4E30-AEA1-1142178BE7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C52A9-01DB-416B-A7F3-C7CC81779F5B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280" y="380880"/>
                <a:ext cx="8610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3505320"/>
                <a:ext cx="8153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58920" y="1752480"/>
                <a:ext cx="80229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5280120"/>
                <a:ext cx="8305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126-EB0E-464E-AC79-0961CA656CC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94E2E-0A20-4B17-962A-E6789FF413C2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mplitud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4476600"/>
            <a:ext cx="817884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dulat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amplitude of the cosine wave.  The result in the frequency-domain is two shifted copies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1676520"/>
            <a:ext cx="8610480" cy="2516040"/>
            <a:chOff x="457200" y="1676520"/>
            <a:chExt cx="8610480" cy="25160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8121600" cy="1989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8" name=""/>
            <p:cNvGraphicFramePr/>
            <p:nvPr/>
          </p:nvGraphicFramePr>
          <p:xfrm>
            <a:off x="5486400" y="1752480"/>
            <a:ext cx="3052800" cy="42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6400" y="1752480"/>
                      <a:ext cx="3052800" cy="425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761760" y="2482920"/>
            <a:ext cx="1181160" cy="425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1760" y="2482920"/>
                      <a:ext cx="1181160" cy="425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838080" y="1873080"/>
            <a:ext cx="571680" cy="33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1873080"/>
                      <a:ext cx="571680" cy="3304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2971800" y="3168720"/>
            <a:ext cx="12445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3168720"/>
                      <a:ext cx="1244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"/>
            <p:cNvGraphicFramePr/>
            <p:nvPr/>
          </p:nvGraphicFramePr>
          <p:xfrm>
            <a:off x="4343400" y="2470320"/>
            <a:ext cx="4724280" cy="172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2470320"/>
                      <a:ext cx="4724280" cy="1722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E14-012F-48FD-A89D-EA0D5A48BE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14CC1-D20B-4510-BE77-A84DCD0686A7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4920" y="190440"/>
                <a:ext cx="87613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47680" y="4237200"/>
                <a:ext cx="88772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7200" y="1954080"/>
                <a:ext cx="833292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078-D146-472C-B9AA-8BBAD64015B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59660-4AAF-42CB-B17D-FFC6958FA5EE}" type="datetime1">
              <a:rPr lang="en-US"/>
              <a:t>07/29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18600" cy="48499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514600" y="1600200"/>
            <a:ext cx="5562720" cy="1218960"/>
            <a:chOff x="2514600" y="1600200"/>
            <a:chExt cx="5562720" cy="1218960"/>
          </a:xfrm>
        </p:grpSpPr>
        <p:sp>
          <p:nvSpPr>
            <p:cNvPr id="233" name=""/>
            <p:cNvSpPr/>
            <p:nvPr/>
          </p:nvSpPr>
          <p:spPr>
            <a:xfrm flipV="1">
              <a:off x="25146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6294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14600" y="2133720"/>
              <a:ext cx="4114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7238880" y="1600200"/>
            <a:ext cx="838440" cy="48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1600200"/>
                      <a:ext cx="838440" cy="484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 flipH="1">
              <a:off x="6629040" y="1828800"/>
              <a:ext cx="60948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6858000" y="6095880"/>
          <a:ext cx="33012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6095880"/>
                    <a:ext cx="3301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828800" y="6095880"/>
          <a:ext cx="533520" cy="327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6095880"/>
                    <a:ext cx="53352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2298600" y="4595760"/>
            <a:ext cx="6756480" cy="426960"/>
            <a:chOff x="2298600" y="4595760"/>
            <a:chExt cx="6756480" cy="426960"/>
          </a:xfrm>
        </p:grpSpPr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298600" y="4595760"/>
                  <a:ext cx="1805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7250040" y="4595760"/>
                  <a:ext cx="1805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0160" y="185760"/>
                <a:ext cx="77122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87A-01E3-45A8-A70B-C4E54313F50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FE11D-A11C-4AAB-AEA4-2C917BA4AFB1}" type="datetime1">
              <a:rPr lang="en-US"/>
              <a:t>07/29/26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 Black"/>
              </a:rPr>
              <a:t>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4476600"/>
            <a:ext cx="81788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0 for |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&gt;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the result in the frequency-domain is two shifted and sca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c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" y="1676520"/>
            <a:ext cx="8610480" cy="2516040"/>
            <a:chOff x="457200" y="1676520"/>
            <a:chExt cx="8610480" cy="251604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8121600" cy="1989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graphicFrame>
          <p:nvGraphicFramePr>
            <p:cNvPr id="251" name=""/>
            <p:cNvGraphicFramePr/>
            <p:nvPr/>
          </p:nvGraphicFramePr>
          <p:xfrm>
            <a:off x="5486400" y="1752480"/>
            <a:ext cx="3052800" cy="42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6400" y="1752480"/>
                      <a:ext cx="3052800" cy="4255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761760" y="2482920"/>
            <a:ext cx="1181160" cy="425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1760" y="2482920"/>
                      <a:ext cx="1181160" cy="4255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838080" y="1873080"/>
            <a:ext cx="571680" cy="33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1873080"/>
                      <a:ext cx="571680" cy="3304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2971800" y="3168720"/>
            <a:ext cx="12445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3168720"/>
                      <a:ext cx="1244520" cy="3808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"/>
            <p:cNvGraphicFramePr/>
            <p:nvPr/>
          </p:nvGraphicFramePr>
          <p:xfrm>
            <a:off x="4343400" y="2470320"/>
            <a:ext cx="4724280" cy="172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2470320"/>
                      <a:ext cx="4724280" cy="17222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0EB-D13B-4E17-9357-E1AA0B5657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2B337-091C-475A-A95A-0CC1F7927DFE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Wave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the time-domain, the “envelope” of sine-wave peaks follows |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ED0-602A-4F38-A676-84BFA056ED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30424-AE05-491B-A2C9-A3F170328093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A25-B6CC-4D56-AF74-3104918714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BEDE0-65EF-49CB-838C-BA14245D872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85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ouble Sideband AM (DSBAM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0360" y="1676520"/>
            <a:ext cx="7980120" cy="4754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38080" y="1574640"/>
            <a:ext cx="20732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ypical”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put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2720" y="3911760"/>
            <a:ext cx="238896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Frequency-shift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p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645240" y="4292640"/>
            <a:ext cx="2178720" cy="1209240"/>
            <a:chOff x="6645240" y="4292640"/>
            <a:chExt cx="2178720" cy="1209240"/>
          </a:xfrm>
        </p:grpSpPr>
        <p:sp>
          <p:nvSpPr>
            <p:cNvPr id="270" name=""/>
            <p:cNvSpPr/>
            <p:nvPr/>
          </p:nvSpPr>
          <p:spPr>
            <a:xfrm>
              <a:off x="6720120" y="4292640"/>
              <a:ext cx="21038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Upper sideban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645240" y="4740120"/>
              <a:ext cx="380880" cy="761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16080" y="4444920"/>
            <a:ext cx="2271960" cy="1285920"/>
            <a:chOff x="3916080" y="4444920"/>
            <a:chExt cx="2271960" cy="1285920"/>
          </a:xfrm>
        </p:grpSpPr>
        <p:sp>
          <p:nvSpPr>
            <p:cNvPr id="273" name=""/>
            <p:cNvSpPr/>
            <p:nvPr/>
          </p:nvSpPr>
          <p:spPr>
            <a:xfrm>
              <a:off x="3916080" y="4444920"/>
              <a:ext cx="21178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Lower sideban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6280" y="4892400"/>
              <a:ext cx="76176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2A8-75CB-4512-91DF-6D554CD83F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F988B-BBB0-47E7-9024-B8E633F3A242}" type="datetime1">
              <a:rPr lang="en-US"/>
              <a:t>07/29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 Black"/>
              </a:rPr>
              <a:t>DE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 Black"/>
              </a:rPr>
              <a:t>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74040" cy="26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417600" y="4195800"/>
          <a:ext cx="7851600" cy="7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00" y="4195800"/>
                    <a:ext cx="78516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47680" y="4946760"/>
          <a:ext cx="8667720" cy="6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7680" y="4946760"/>
                    <a:ext cx="8667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057400" y="5861160"/>
          <a:ext cx="4419720" cy="46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861160"/>
                    <a:ext cx="441972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952880" y="2209680"/>
          <a:ext cx="54936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2209680"/>
                    <a:ext cx="54936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285040" y="2209680"/>
          <a:ext cx="47808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85040" y="2209680"/>
                    <a:ext cx="47808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80960" y="2209680"/>
          <a:ext cx="501840" cy="3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960" y="2209680"/>
                    <a:ext cx="50184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600200" y="3429000"/>
          <a:ext cx="1027080" cy="355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00200" y="3429000"/>
                    <a:ext cx="102708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724280" y="3429000"/>
          <a:ext cx="1027080" cy="355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24280" y="3429000"/>
                    <a:ext cx="102708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962520" y="1371600"/>
            <a:ext cx="3962160" cy="27432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28800" y="2209680"/>
          <a:ext cx="2222640" cy="355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28800" y="2209680"/>
                    <a:ext cx="222264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6D4-DAD2-4034-837F-0D9028A1E6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6D3A4-A348-4958-A12B-5246C01CAE55}" type="datetime1">
              <a:rPr lang="en-US"/>
              <a:t>07/29/26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1149480"/>
            <a:ext cx="8763120" cy="5124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Demodul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98440" y="6302520"/>
          <a:ext cx="869328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6302520"/>
                    <a:ext cx="8693280" cy="403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5410080" y="3733920"/>
            <a:ext cx="3387960" cy="793800"/>
            <a:chOff x="5410080" y="3733920"/>
            <a:chExt cx="3387960" cy="793800"/>
          </a:xfrm>
        </p:grpSpPr>
        <p:sp>
          <p:nvSpPr>
            <p:cNvPr id="301" name=""/>
            <p:cNvSpPr/>
            <p:nvPr/>
          </p:nvSpPr>
          <p:spPr>
            <a:xfrm flipH="1">
              <a:off x="5410080" y="4114800"/>
              <a:ext cx="53352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02" name=""/>
            <p:cNvGraphicFramePr/>
            <p:nvPr/>
          </p:nvGraphicFramePr>
          <p:xfrm>
            <a:off x="5867280" y="3733920"/>
            <a:ext cx="2930760" cy="79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7280" y="3733920"/>
                      <a:ext cx="2930760" cy="7938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C7E-A32A-4936-B88E-34F946780A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38BFE-A251-4881-909C-C2B0738DB496}" type="datetime1">
              <a:rPr lang="en-US"/>
              <a:t>07/29/26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ivision Multiplexing (FDM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ifting spectrum of signal to higher frequenc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mits transmission of low-frequency signals with high-frequency EM wav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 allocating a frequency band  to each signal multip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ndlimit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ignals can share the same chann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 radio: 530-1620 kHz (10 kHz ban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M radio: 88.1-107.9 MHz (200 kHz ban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613-F1D9-4D07-8BC8-1F7D1BEC5A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00FAA-F122-4E5F-925C-A7F5726015DA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DM Block Diagram (Xmitt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6681600" cy="527364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4191120" y="2666880"/>
            <a:ext cx="1122120" cy="2362320"/>
            <a:chOff x="4191120" y="2666880"/>
            <a:chExt cx="1122120" cy="2362320"/>
          </a:xfrm>
        </p:grpSpPr>
        <p:graphicFrame>
          <p:nvGraphicFramePr>
            <p:cNvPr id="309" name=""/>
            <p:cNvGraphicFramePr/>
            <p:nvPr/>
          </p:nvGraphicFramePr>
          <p:xfrm>
            <a:off x="4191120" y="2666880"/>
            <a:ext cx="1098360" cy="35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2666880"/>
                      <a:ext cx="109836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4191120" y="4673520"/>
            <a:ext cx="1122120" cy="355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4673520"/>
                      <a:ext cx="112212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13" name=""/>
          <p:cNvGrpSpPr/>
          <p:nvPr/>
        </p:nvGrpSpPr>
        <p:grpSpPr>
          <a:xfrm>
            <a:off x="6527880" y="6426360"/>
            <a:ext cx="936720" cy="355320"/>
            <a:chOff x="6527880" y="6426360"/>
            <a:chExt cx="936720" cy="355320"/>
          </a:xfrm>
        </p:grpSpPr>
        <p:graphicFrame>
          <p:nvGraphicFramePr>
            <p:cNvPr id="314" name=""/>
            <p:cNvGraphicFramePr/>
            <p:nvPr/>
          </p:nvGraphicFramePr>
          <p:xfrm>
            <a:off x="6527880" y="6426360"/>
            <a:ext cx="406440" cy="355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27880" y="6426360"/>
                      <a:ext cx="40644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7010280" y="6426360"/>
            <a:ext cx="454320" cy="355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010280" y="6426360"/>
                      <a:ext cx="45432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-2520" y="3505320"/>
            <a:ext cx="27259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pectrum of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must be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0" y="4351320"/>
          <a:ext cx="2768760" cy="44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351320"/>
                    <a:ext cx="2768760" cy="4492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AEC-6D3E-4D36-9565-AFACEAA207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13665-17E3-4501-BEA8-A3BB529D9EBD}" type="datetime1">
              <a:rPr lang="en-US"/>
              <a:t>07/29/26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ivision De-Mux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8600" y="1160640"/>
            <a:ext cx="8077320" cy="5601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4191120" y="4216320"/>
            <a:ext cx="1122120" cy="1930320"/>
            <a:chOff x="4191120" y="4216320"/>
            <a:chExt cx="1122120" cy="1930320"/>
          </a:xfrm>
        </p:grpSpPr>
        <p:graphicFrame>
          <p:nvGraphicFramePr>
            <p:cNvPr id="324" name=""/>
            <p:cNvGraphicFramePr/>
            <p:nvPr/>
          </p:nvGraphicFramePr>
          <p:xfrm>
            <a:off x="4191120" y="4216320"/>
            <a:ext cx="1098360" cy="35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4216320"/>
                      <a:ext cx="109836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4191120" y="5791320"/>
            <a:ext cx="1122120" cy="355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5791320"/>
                      <a:ext cx="112212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28" name=""/>
          <p:cNvGrpSpPr/>
          <p:nvPr/>
        </p:nvGrpSpPr>
        <p:grpSpPr>
          <a:xfrm>
            <a:off x="5918040" y="2463840"/>
            <a:ext cx="1089360" cy="355680"/>
            <a:chOff x="5918040" y="2463840"/>
            <a:chExt cx="1089360" cy="355680"/>
          </a:xfrm>
        </p:grpSpPr>
        <p:graphicFrame>
          <p:nvGraphicFramePr>
            <p:cNvPr id="329" name=""/>
            <p:cNvGraphicFramePr/>
            <p:nvPr/>
          </p:nvGraphicFramePr>
          <p:xfrm>
            <a:off x="5918040" y="2463840"/>
            <a:ext cx="406440" cy="355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18040" y="2463840"/>
                      <a:ext cx="40644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"/>
            <p:cNvGraphicFramePr/>
            <p:nvPr/>
          </p:nvGraphicFramePr>
          <p:xfrm>
            <a:off x="6553080" y="2463840"/>
            <a:ext cx="454320" cy="355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553080" y="2463840"/>
                      <a:ext cx="45432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915-5608-41A5-AFF7-F6FEF3595C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D6EA1-80C6-4A1C-B5A0-4508C848E9D5}" type="datetime1">
              <a:rPr lang="en-US"/>
              <a:t>07/29/26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andpass Filters for De-Mux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484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77B-32B0-492C-A48A-EF9C32A0605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E498C-96BC-4C4C-ABB2-0EBFB0A68855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 FT thru LPF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469960" y="1905120"/>
            <a:ext cx="3429360" cy="1828800"/>
            <a:chOff x="2469960" y="1905120"/>
            <a:chExt cx="3429360" cy="1828800"/>
          </a:xfrm>
        </p:grpSpPr>
        <p:sp>
          <p:nvSpPr>
            <p:cNvPr id="337" name=""/>
            <p:cNvSpPr/>
            <p:nvPr/>
          </p:nvSpPr>
          <p:spPr>
            <a:xfrm flipV="1">
              <a:off x="2470320" y="1905120"/>
              <a:ext cx="0" cy="1828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899320" y="1905120"/>
              <a:ext cx="0" cy="1828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469960" y="1905120"/>
              <a:ext cx="3429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H="1">
            <a:off x="5898960" y="2209680"/>
            <a:ext cx="609480" cy="304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3733920"/>
            <a:ext cx="8001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191120" y="1676520"/>
            <a:ext cx="0" cy="2133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1760" y="4268880"/>
                <a:ext cx="81327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4</m:t>
                        </m:r>
                        <m: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82760" y="5638680"/>
                <a:ext cx="84326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output is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hen find a value for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149560" y="1676520"/>
                <a:ext cx="288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656320" y="3657600"/>
                <a:ext cx="56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076480" y="3657600"/>
                <a:ext cx="799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477120" y="1868400"/>
                <a:ext cx="1752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8481960" y="3684600"/>
                <a:ext cx="357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536-6A3C-423A-8052-7865611B20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134FE-E556-489D-A7A7-9695429D5CBD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 of FT propert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volution &lt;--&gt; multiplic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equency shif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ewave Amplitude Modul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 rad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-division multiplex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D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ing: Chapter 12, Section 12-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2D6-1D32-4EB1-8F59-A0BFF92E14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853F9-63DC-4FEB-B9FD-D3BC34B965CB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Easy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2057400"/>
          <a:ext cx="80010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54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41080" y="270036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240" y="404352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720" y="1528920"/>
            <a:ext cx="27896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inearit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0680" y="541512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AC1-C031-4CCF-BE39-AE6A7D32F8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EE4D1-3387-4334-9D34-4D1BDF2A387E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14800" y="387036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7036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309960" y="4703760"/>
            <a:ext cx="5405040" cy="1620720"/>
            <a:chOff x="309960" y="4703760"/>
            <a:chExt cx="5405040" cy="1620720"/>
          </a:xfrm>
        </p:grpSpPr>
        <p:graphicFrame>
          <p:nvGraphicFramePr>
            <p:cNvPr id="111" name=""/>
            <p:cNvGraphicFramePr/>
            <p:nvPr/>
          </p:nvGraphicFramePr>
          <p:xfrm>
            <a:off x="1523880" y="520380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20380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309960" y="4703760"/>
              <a:ext cx="3587040" cy="459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09C-B5C7-4C03-813E-74B5388C77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6C4BC-5BD4-4D32-A2EE-0E1CCBD502C3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hift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2666880"/>
          <a:ext cx="861048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861048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23880" y="1752480"/>
          <a:ext cx="562788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62788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41280" y="5105520"/>
          <a:ext cx="857412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5105520"/>
                    <a:ext cx="8574120" cy="117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E55-E55D-4468-A37E-3D07CFB85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23FCA-933D-4FFC-9341-38ABD2EF0EF5}" type="datetime1">
              <a:rPr lang="en-US"/>
              <a:t>07/29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07612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 the time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sponds t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frequency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5040" y="1447920"/>
            <a:ext cx="8280360" cy="20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981080" y="4191120"/>
          <a:ext cx="49532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191120"/>
                    <a:ext cx="4953240" cy="958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52880" y="5896080"/>
          <a:ext cx="3962520" cy="42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5896080"/>
                    <a:ext cx="3962520" cy="4284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551640" y="1981080"/>
          <a:ext cx="221148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1640" y="1981080"/>
                    <a:ext cx="221148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8080" y="1905120"/>
          <a:ext cx="552600" cy="31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905120"/>
                    <a:ext cx="552600" cy="318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334120" y="3048120"/>
          <a:ext cx="3504960" cy="37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048120"/>
                    <a:ext cx="3504960" cy="377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8080" y="3048120"/>
          <a:ext cx="1143000" cy="411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3048120"/>
                    <a:ext cx="1143000" cy="4111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F28-14C0-4F21-B986-A14444ED3B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89123-0616-493A-8D48-A5D6BB777664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 to LTI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55680" y="1747800"/>
          <a:ext cx="86360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747800"/>
                    <a:ext cx="86360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880" y="4191120"/>
          <a:ext cx="85345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91120"/>
                    <a:ext cx="8534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752480" y="2209680"/>
            <a:ext cx="335304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733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BA5-3298-4F5E-946B-733072613C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87D69-EDB5-4D9B-A89C-FB6349B9AC64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340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558880" y="2209680"/>
            <a:ext cx="5975640" cy="2286000"/>
            <a:chOff x="2558880" y="2209680"/>
            <a:chExt cx="5975640" cy="2286000"/>
          </a:xfrm>
        </p:grpSpPr>
        <p:grpSp>
          <p:nvGrpSpPr>
            <p:cNvPr id="147" name=""/>
            <p:cNvGrpSpPr/>
            <p:nvPr/>
          </p:nvGrpSpPr>
          <p:grpSpPr>
            <a:xfrm>
              <a:off x="2971440" y="2209680"/>
              <a:ext cx="3429360" cy="1828800"/>
              <a:chOff x="2971440" y="2209680"/>
              <a:chExt cx="3429360" cy="182880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2971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6400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971440" y="2209680"/>
                <a:ext cx="34290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1" name=""/>
            <p:cNvGraphicFramePr/>
            <p:nvPr/>
          </p:nvGraphicFramePr>
          <p:xfrm>
            <a:off x="7010280" y="2209680"/>
            <a:ext cx="1524240" cy="5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10280" y="2209680"/>
                      <a:ext cx="1524240" cy="5400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H="1">
              <a:off x="6400440" y="2514600"/>
              <a:ext cx="609480" cy="304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6235560" y="4114800"/>
            <a:ext cx="5461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560" y="4114800"/>
                      <a:ext cx="546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2558880" y="4114800"/>
            <a:ext cx="7621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58880" y="4114800"/>
                      <a:ext cx="762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8" name=""/>
          <p:cNvGraphicFramePr/>
          <p:nvPr/>
        </p:nvGraphicFramePr>
        <p:xfrm>
          <a:off x="2133720" y="4724280"/>
          <a:ext cx="571500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724280"/>
                    <a:ext cx="5715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116080" y="5638680"/>
          <a:ext cx="5140440" cy="59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6080" y="5638680"/>
                    <a:ext cx="5140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3462-7813-45F9-9B61-353E224280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05389-279A-43EA-8B14-948061D6A07B}" type="datetime1">
              <a:rPr lang="en-US"/>
              <a:t>07/29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1999-11-02T00:50:16Z</cp:lastPrinted>
  <dcterms:modified xsi:type="dcterms:W3CDTF">2005-04-19T18:50:36Z</dcterms:modified>
  <cp:revision>470</cp:revision>
  <dc:subject/>
  <dc:title>SPFirst Lecture #2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