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7C4-D319-4F16-9A27-F1D3D3D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100-81F7-45BB-A69F-43D0BD1B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9C9-D4DD-4899-9E04-CE4A2349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66C-9CEC-458C-B97A-A1DF9D55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32B-DB5E-45EB-9C93-23B8F4F0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9617-FC19-435B-A6AB-D4D16853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367-A59A-4A7C-B089-81351B16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F7C-CCA2-4445-AC3D-19E089B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90F9-9E3F-4E24-8A89-26599596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19E8-D3C0-41C5-9233-DACB81E9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BBDE-64C7-4EFE-8883-9099321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5F7-A36F-4079-845D-EA9A97E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838-7573-42CA-A9AA-F92829D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FF9-6921-458A-9C23-6D8CA14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9DB1-070C-4EB2-979A-381FAC1E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59D7-14F9-41CA-B7BA-B5227BA9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0B4C-F4B2-460D-8F75-9E72B16C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054-EDF6-4201-8C72-A83208E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830-64BB-4798-A16D-22B7DA1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E6F-618A-4EB4-8FB7-E99E32A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278-98DC-4305-AEC3-D82B99DF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5F0-D5F0-47C4-A5C3-9B97CB47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D1B-F34F-4550-84A2-0793E92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ED0-F197-4C72-B116-C464C7C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1AB-C3D8-4DF1-A0EA-40F243A3F7E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DAD-A4EE-4EA7-8D8E-CDB5431473F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35DB-52F5-4AB9-BB7C-9EC7A4D02EF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9B7-0F93-4041-BFBC-EEE089B2EE4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80A-DAC7-48DA-BB18-1167C274C1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4D03-12E4-4829-835B-7A1BAC015B4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eros of H(z) and th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C10-BEF3-4BB1-92A4-775BBBD9935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0348-9288-457B-8E7D-01BD0CFCEB5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65160" y="2286000"/>
                <a:ext cx="4975200" cy="38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197680" y="5791320"/>
            <a:ext cx="3361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ME COEFFICI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809880" y="1628640"/>
            <a:ext cx="4738680" cy="3476880"/>
            <a:chOff x="3809880" y="1628640"/>
            <a:chExt cx="4738680" cy="3476880"/>
          </a:xfrm>
        </p:grpSpPr>
        <mc:AlternateContent>
          <mc:Choice xmlns:a14="http://schemas.microsoft.com/office/drawing/2010/main" Requires="a14">
            <p:sp>
              <p:nvSpPr>
                <p:cNvPr id="187" name="Object 5"/>
                <p:cNvSpPr txBox="1"/>
                <p:nvPr/>
              </p:nvSpPr>
              <p:spPr>
                <a:xfrm>
                  <a:off x="5397480" y="1628640"/>
                  <a:ext cx="3151080" cy="140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Freeform 12"/>
            <p:cNvSpPr/>
            <p:nvPr/>
          </p:nvSpPr>
          <p:spPr>
            <a:xfrm>
              <a:off x="3809880" y="2550960"/>
              <a:ext cx="1752840" cy="2554560"/>
            </a:xfrm>
            <a:custGeom>
              <a:avLst/>
              <a:gdLst/>
              <a:ahLst/>
              <a:rect l="l" t="t" r="r" b="b"/>
              <a:pathLst>
                <a:path w="1104" h="1609">
                  <a:moveTo>
                    <a:pt x="1104" y="121"/>
                  </a:moveTo>
                  <a:cubicBezTo>
                    <a:pt x="1036" y="60"/>
                    <a:pt x="968" y="0"/>
                    <a:pt x="816" y="169"/>
                  </a:cubicBezTo>
                  <a:cubicBezTo>
                    <a:pt x="663" y="337"/>
                    <a:pt x="327" y="889"/>
                    <a:pt x="192" y="1129"/>
                  </a:cubicBezTo>
                  <a:cubicBezTo>
                    <a:pt x="56" y="1368"/>
                    <a:pt x="28" y="1488"/>
                    <a:pt x="0" y="1609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5334120" y="3271680"/>
                <a:ext cx="3565440" cy="229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75A-8B4A-4A26-B244-298FF73FF49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3F4-5C4D-4CB5-8275-0E3DAC2F56F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ANALYSIS TOO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-Transform POLYNOMIALS are EASY 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OOTS, FACTORS, etc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ZEROS and POLES:  where is H(z) = 0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z-domain i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is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VALUED function of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VARIABLE z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4ACD-E853-43E1-87C8-CF30A1CA48D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CBEB-1CD2-462C-8AD0-3B45B23EFAF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57"/>
              <p:cNvSpPr txBox="1"/>
              <p:nvPr/>
            </p:nvSpPr>
            <p:spPr>
              <a:xfrm>
                <a:off x="1752480" y="2362320"/>
                <a:ext cx="3726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058"/>
              <p:cNvSpPr txBox="1"/>
              <p:nvPr/>
            </p:nvSpPr>
            <p:spPr>
              <a:xfrm>
                <a:off x="1981080" y="5356080"/>
                <a:ext cx="3353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059"/>
              <p:cNvSpPr txBox="1"/>
              <p:nvPr/>
            </p:nvSpPr>
            <p:spPr>
              <a:xfrm>
                <a:off x="2057400" y="3429000"/>
                <a:ext cx="320040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5FB3-D2CA-4556-B67E-9C06637F1C7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2A54-F7CB-41C7-8D26-B0115582F90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esting when z is ON the unit circ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457200" y="2971800"/>
                <a:ext cx="7010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457200" y="4114800"/>
                <a:ext cx="7473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609480" y="5257800"/>
                <a:ext cx="50054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6172200" y="5334120"/>
                <a:ext cx="1828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±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011-0568-4BC1-B54E-D81F6ED65FA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DEDB-52C2-42BD-9DC3-E0219C00F0D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6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2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18" name="Line 4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23" name="Line 6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226" name="Line 10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040A-29D9-4298-A323-72737735D0F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E5E-C8CE-452A-8530-EA8C8F50EE1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very interesting for the FIR c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2297"/>
              <p:cNvSpPr txBox="1"/>
              <p:nvPr/>
            </p:nvSpPr>
            <p:spPr>
              <a:xfrm>
                <a:off x="533520" y="2895480"/>
                <a:ext cx="70102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2298"/>
              <p:cNvSpPr txBox="1"/>
              <p:nvPr/>
            </p:nvSpPr>
            <p:spPr>
              <a:xfrm>
                <a:off x="3505320" y="1747800"/>
                <a:ext cx="2103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299"/>
              <p:cNvSpPr txBox="1"/>
              <p:nvPr/>
            </p:nvSpPr>
            <p:spPr>
              <a:xfrm>
                <a:off x="1143000" y="3963960"/>
                <a:ext cx="5943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300"/>
              <p:cNvSpPr txBox="1"/>
              <p:nvPr/>
            </p:nvSpPr>
            <p:spPr>
              <a:xfrm>
                <a:off x="1447920" y="5643720"/>
                <a:ext cx="49561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ree Poles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F00-17A5-498E-B3D3-4B6A9839943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9B55-19F8-4467-9D33-22986E01672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17884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H(z) on th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NIT CIRCL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GLE is same as FREQUENC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371600" y="1652760"/>
                <a:ext cx="56008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762120" y="4268880"/>
                <a:ext cx="761976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s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varies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efines a CIRCLE, radius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EC1-E641-4FEE-9FD4-00DBBDD8FC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558-1233-4621-BAEE-B5DC7821AC8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7" name="Picture 2" descr="_x0014_unit-circle-in-z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762120" y="1474920"/>
            <a:ext cx="5867280" cy="53067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5317560" y="3430440"/>
            <a:ext cx="358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GLE is 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984240" y="128520"/>
                <a:ext cx="55008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495D-86B1-4845-AA4A-E877B104B05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DE59-B0C1-4A94-9D94-BA58AAE4219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4" name="Picture 1027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197320"/>
          </a:xfrm>
          <a:prstGeom prst="rect">
            <a:avLst/>
          </a:prstGeom>
          <a:ln w="0">
            <a:noFill/>
          </a:ln>
        </p:spPr>
      </p:pic>
      <p:sp>
        <p:nvSpPr>
          <p:cNvPr id="255" name="Line 1028"/>
          <p:cNvSpPr/>
          <p:nvPr/>
        </p:nvSpPr>
        <p:spPr>
          <a:xfrm>
            <a:off x="3581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Line 1029"/>
          <p:cNvSpPr/>
          <p:nvPr/>
        </p:nvSpPr>
        <p:spPr>
          <a:xfrm>
            <a:off x="4724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1030"/>
          <p:cNvSpPr/>
          <p:nvPr/>
        </p:nvSpPr>
        <p:spPr>
          <a:xfrm>
            <a:off x="579132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33"/>
              <p:cNvSpPr txBox="1"/>
              <p:nvPr/>
            </p:nvSpPr>
            <p:spPr>
              <a:xfrm>
                <a:off x="3111480" y="2576520"/>
                <a:ext cx="322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s of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A62-87BF-48AC-B12D-BC529C649BF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690-C035-4C65-816C-AE403C69532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2" name="Picture 11" descr="D:\2025-f00\fir3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5720" y="1708200"/>
            <a:ext cx="18752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O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reeform 10"/>
          <p:cNvSpPr/>
          <p:nvPr/>
        </p:nvSpPr>
        <p:spPr>
          <a:xfrm flipV="1">
            <a:off x="609480" y="2133000"/>
            <a:ext cx="1828800" cy="19047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2"/>
              <p:cNvSpPr txBox="1"/>
              <p:nvPr/>
            </p:nvSpPr>
            <p:spPr>
              <a:xfrm>
                <a:off x="7912080" y="4599000"/>
                <a:ext cx="1093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228600" y="464832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784872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79A1-419C-4B3B-8283-60ADB21C972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14A3-C185-4E03-A5A0-49D874BD544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5D7D-8FBA-477C-A798-27A9F2B4CC4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013E-D693-468F-8253-A434E9FFC18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9"/>
              <p:cNvSpPr txBox="1"/>
              <p:nvPr/>
            </p:nvSpPr>
            <p:spPr>
              <a:xfrm>
                <a:off x="4800600" y="5715000"/>
                <a:ext cx="4267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H(z)=0 on the unit circl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inputs x[n] that give zero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Group 26"/>
          <p:cNvGrpSpPr/>
          <p:nvPr/>
        </p:nvGrpSpPr>
        <p:grpSpPr>
          <a:xfrm>
            <a:off x="838080" y="2819520"/>
            <a:ext cx="6096240" cy="2819160"/>
            <a:chOff x="838080" y="2819520"/>
            <a:chExt cx="6096240" cy="2819160"/>
          </a:xfrm>
        </p:grpSpPr>
        <p:sp>
          <p:nvSpPr>
            <p:cNvPr id="276" name="Rectangle 8"/>
            <p:cNvSpPr/>
            <p:nvPr/>
          </p:nvSpPr>
          <p:spPr>
            <a:xfrm>
              <a:off x="2819520" y="47242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182880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472428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4877640" y="46958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753920" y="46958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3146400" y="4854600"/>
                  <a:ext cx="1320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25"/>
                <p:cNvSpPr txBox="1"/>
                <p:nvPr/>
              </p:nvSpPr>
              <p:spPr>
                <a:xfrm>
                  <a:off x="838080" y="2819520"/>
                  <a:ext cx="609624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533520" y="37339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8"/>
              <p:cNvSpPr txBox="1"/>
              <p:nvPr/>
            </p:nvSpPr>
            <p:spPr>
              <a:xfrm>
                <a:off x="152280" y="5607000"/>
                <a:ext cx="2514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5" name="Group 32"/>
          <p:cNvGrpSpPr/>
          <p:nvPr/>
        </p:nvGrpSpPr>
        <p:grpSpPr>
          <a:xfrm>
            <a:off x="5867280" y="4800600"/>
            <a:ext cx="2760840" cy="1905120"/>
            <a:chOff x="5867280" y="4800600"/>
            <a:chExt cx="2760840" cy="1905120"/>
          </a:xfrm>
        </p:grpSpPr>
        <p:sp>
          <p:nvSpPr>
            <p:cNvPr id="286" name="Oval 20"/>
            <p:cNvSpPr/>
            <p:nvPr/>
          </p:nvSpPr>
          <p:spPr>
            <a:xfrm>
              <a:off x="5867280" y="5486400"/>
              <a:ext cx="1752840" cy="1219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31"/>
                <p:cNvSpPr txBox="1"/>
                <p:nvPr/>
              </p:nvSpPr>
              <p:spPr>
                <a:xfrm>
                  <a:off x="6477120" y="4800600"/>
                  <a:ext cx="21510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A95D-87E5-47DE-8420-23F4ACEDCDE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03D-F778-4368-9789-6AB37DD6523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4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94" name="Line 5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99" name="Line 10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01" name="Group 12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302" name="Line 13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FE0-F7F6-4994-BAD9-1C9C4694451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C54D-5404-4669-9702-0E80D477FDA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H(z) at the input “frequency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442800" y="23623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9"/>
              <p:cNvSpPr txBox="1"/>
              <p:nvPr/>
            </p:nvSpPr>
            <p:spPr>
              <a:xfrm>
                <a:off x="228600" y="3276720"/>
                <a:ext cx="457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228600" y="4038480"/>
                <a:ext cx="8801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1486080" y="4802040"/>
                <a:ext cx="6895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2"/>
              <p:cNvSpPr txBox="1"/>
              <p:nvPr/>
            </p:nvSpPr>
            <p:spPr>
              <a:xfrm>
                <a:off x="228600" y="5678640"/>
                <a:ext cx="8305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4CA-30BC-420F-8CB1-B57124FC3CD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B2AD-99A3-48CC-A8BF-873FBF293EC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8" name="Picture 3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1488960"/>
            <a:ext cx="7315200" cy="530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11"/>
          <p:cNvGrpSpPr/>
          <p:nvPr/>
        </p:nvGrpSpPr>
        <p:grpSpPr>
          <a:xfrm>
            <a:off x="3111480" y="2576520"/>
            <a:ext cx="3227400" cy="1004760"/>
            <a:chOff x="3111480" y="2576520"/>
            <a:chExt cx="3227400" cy="1004760"/>
          </a:xfrm>
        </p:grpSpPr>
        <p:sp>
          <p:nvSpPr>
            <p:cNvPr id="320" name="Line 4"/>
            <p:cNvSpPr/>
            <p:nvPr/>
          </p:nvSpPr>
          <p:spPr>
            <a:xfrm>
              <a:off x="3581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5867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9"/>
                <p:cNvSpPr txBox="1"/>
                <p:nvPr/>
              </p:nvSpPr>
              <p:spPr>
                <a:xfrm>
                  <a:off x="3111480" y="2576520"/>
                  <a:ext cx="32274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Zeros of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719B-24A2-4A40-A9C0-E2D5F44BC48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49A-006E-4C56-992D-B843D697B3D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81000" y="401004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287440" y="401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3679920" y="4167360"/>
                <a:ext cx="1322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0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687240" y="2714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2011320" y="2849400"/>
                <a:ext cx="1457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15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6852600" y="271476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8"/>
              <p:cNvSpPr txBox="1"/>
              <p:nvPr/>
            </p:nvSpPr>
            <p:spPr>
              <a:xfrm>
                <a:off x="4884840" y="2849400"/>
                <a:ext cx="15033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9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Line 20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786240" y="5075280"/>
            <a:ext cx="2142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1276-EEAC-459D-A5F9-E25B9B1A8A7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B497-5C65-4452-84CA-CAD0279C462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52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10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59" name="Rectangle 11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5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Rectangle 16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9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Rectangle 20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2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3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4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13F-D37F-4602-9B3D-D0A43D0C005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287-011E-4BBD-B046-EA5E6F3E789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914400" y="4267080"/>
                <a:ext cx="63277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1" name="Group 11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382" name="Line 5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3429000" y="1752480"/>
                <a:ext cx="51418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304920" y="1752480"/>
                <a:ext cx="31636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990720" y="3352680"/>
                <a:ext cx="58528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D20-A199-4E3B-A0A6-72B8388C083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013-A899-413D-B70C-41F3FB88D7B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92" name="Picture 3" descr="_x0017_Hw-11pt-running-sum.gif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3809880" y="3581280"/>
            <a:ext cx="5257800" cy="2344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_x0017_PZ-11pt-running-sum.gif                                        0000968B_x0005_JKL-2                          B0CAADC9:"/>
          <p:cNvPicPr/>
          <p:nvPr/>
        </p:nvPicPr>
        <p:blipFill>
          <a:blip r:embed="rId2"/>
          <a:stretch/>
        </p:blipFill>
        <p:spPr>
          <a:xfrm>
            <a:off x="152280" y="3511440"/>
            <a:ext cx="3543480" cy="3194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_x0017_HZ-11pt-running-sum.gif                                        0000968B_x0005_JKL-2                          B0CAADC9: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1873080"/>
          </a:xfrm>
          <a:prstGeom prst="rect">
            <a:avLst/>
          </a:prstGeom>
          <a:ln w="0">
            <a:noFill/>
          </a:ln>
        </p:spPr>
      </p:pic>
      <p:sp>
        <p:nvSpPr>
          <p:cNvPr id="395" name="Freeform 6"/>
          <p:cNvSpPr/>
          <p:nvPr/>
        </p:nvSpPr>
        <p:spPr>
          <a:xfrm>
            <a:off x="3200400" y="5029200"/>
            <a:ext cx="2438280" cy="129528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6477120" y="5486400"/>
            <a:ext cx="152280" cy="68580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5703120" y="6095880"/>
            <a:ext cx="2241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zero at z=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5F6-A8D1-4AFA-8D53-47E436F7016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1518-8791-4DBF-A04A-E397A4344B5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01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03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3867480" y="3962520"/>
            <a:ext cx="18388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BEC-D8AF-4C4A-B93B-7A9BFE672E2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AB17-B278-428A-AAAB-90CA1EFB6D7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ACE ZEROS to make y[n] = 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0" name="Picture 4" descr="_x0014_Hz-nulls-signals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168560" y="2603520"/>
            <a:ext cx="5765760" cy="3797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"/>
          <p:cNvSpPr/>
          <p:nvPr/>
        </p:nvSpPr>
        <p:spPr>
          <a:xfrm>
            <a:off x="263880" y="434340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63880" y="510552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263880" y="586728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4" name="Line 8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338960" y="2546280"/>
            <a:ext cx="1483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867280" y="4495680"/>
            <a:ext cx="9144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V="1">
            <a:off x="6172200" y="60958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6"/>
              <p:cNvSpPr txBox="1"/>
              <p:nvPr/>
            </p:nvSpPr>
            <p:spPr>
              <a:xfrm>
                <a:off x="6781680" y="4038480"/>
                <a:ext cx="1819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7"/>
              <p:cNvSpPr txBox="1"/>
              <p:nvPr/>
            </p:nvSpPr>
            <p:spPr>
              <a:xfrm>
                <a:off x="6781680" y="5715000"/>
                <a:ext cx="1859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8"/>
              <p:cNvSpPr txBox="1"/>
              <p:nvPr/>
            </p:nvSpPr>
            <p:spPr>
              <a:xfrm>
                <a:off x="6781680" y="4876920"/>
                <a:ext cx="1859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E7E1-C390-45FA-B33A-68AB3DA5D43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74E3-D395-4802-82D5-F3159C53C29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ion 7-6 to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 &amp; Lab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(and POL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Chapter 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EBF3-F642-4704-83F1-125FCA9A31E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BF5D-CE75-4D1B-99DF-1D91E0CFEB5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4" name="Picture 9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0"/>
              <p:cNvSpPr txBox="1"/>
              <p:nvPr/>
            </p:nvSpPr>
            <p:spPr>
              <a:xfrm>
                <a:off x="792468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2666880" y="5562720"/>
                <a:ext cx="68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2"/>
              <p:cNvSpPr txBox="1"/>
              <p:nvPr/>
            </p:nvSpPr>
            <p:spPr>
              <a:xfrm>
                <a:off x="8001000" y="4444920"/>
                <a:ext cx="1066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BFF-0DD8-4307-837A-712108A8A1D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1ECE-6D01-4F99-9B8E-0DA2C7E6D4F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34" name="Picture 2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6" name="Freeform 4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6"/>
              <p:cNvSpPr txBox="1"/>
              <p:nvPr/>
            </p:nvSpPr>
            <p:spPr>
              <a:xfrm>
                <a:off x="8077320" y="4583160"/>
                <a:ext cx="93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8077320" y="1623960"/>
                <a:ext cx="914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590920" y="5591160"/>
                <a:ext cx="7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774-1C3A-4E08-9B1C-BBDBAAA3A9B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50F-17F5-4239-8DE2-B1ADD11B539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78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EROS and POL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352680" y="3581280"/>
            <a:ext cx="434340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2514600" y="5562720"/>
            <a:ext cx="5562720" cy="990360"/>
            <a:chOff x="2514600" y="5562720"/>
            <a:chExt cx="5562720" cy="990360"/>
          </a:xfrm>
        </p:grpSpPr>
        <p:sp>
          <p:nvSpPr>
            <p:cNvPr id="106" name="AutoShape 7"/>
            <p:cNvSpPr/>
            <p:nvPr/>
          </p:nvSpPr>
          <p:spPr>
            <a:xfrm>
              <a:off x="2514600" y="586728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7848720" y="5562720"/>
              <a:ext cx="228600" cy="990360"/>
            </a:xfrm>
            <a:prstGeom prst="upArrow">
              <a:avLst>
                <a:gd name="adj1" fmla="val 50000"/>
                <a:gd name="adj2" fmla="val 10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48769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9" name="Rectangle 10"/>
          <p:cNvSpPr/>
          <p:nvPr/>
        </p:nvSpPr>
        <p:spPr>
          <a:xfrm>
            <a:off x="507960" y="4038480"/>
            <a:ext cx="817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REE DOMAINS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how Relationship for FIR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1746360" y="2916360"/>
                <a:ext cx="55004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1828800" y="5029200"/>
                <a:ext cx="6723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24F-F638-41A1-8D98-1D5B7102505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4176-55D9-4B3C-BFEC-B52286F08D5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84896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sign a Lowpass FIR filter:   Find b</a:t>
            </a:r>
            <a:r>
              <a:rPr b="0" lang="en-US" sz="26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with Z Polynomial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ascaded System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-point running sum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2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162A-A174-4B62-9DC1-B15F29445DC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62CB-8A1F-4709-BC12-E37DA568A85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856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Line 5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762120" y="394344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943-67DA-4F18-A798-28D36E7D05F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0675-5886-4292-A6A6-1D4F4D5D4A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2"/>
              <p:cNvSpPr txBox="1"/>
              <p:nvPr/>
            </p:nvSpPr>
            <p:spPr>
              <a:xfrm>
                <a:off x="228600" y="3448080"/>
                <a:ext cx="8534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7162920" y="4038120"/>
            <a:ext cx="533160" cy="838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377040" y="4770360"/>
            <a:ext cx="25826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074120" y="5837400"/>
            <a:ext cx="150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343400" y="2133720"/>
            <a:ext cx="76320" cy="60948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228600" y="4533840"/>
                <a:ext cx="37339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A0F-9E47-4393-A9B4-84E004246AF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57E-888B-4A1A-9E06-6ACDA899CAF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5" name="Group 3102"/>
          <p:cNvGrpSpPr/>
          <p:nvPr/>
        </p:nvGrpSpPr>
        <p:grpSpPr>
          <a:xfrm>
            <a:off x="2590920" y="1646280"/>
            <a:ext cx="3886200" cy="944640"/>
            <a:chOff x="2590920" y="1646280"/>
            <a:chExt cx="3886200" cy="944640"/>
          </a:xfrm>
        </p:grpSpPr>
        <p:sp>
          <p:nvSpPr>
            <p:cNvPr id="146" name="Rectangle 3076"/>
            <p:cNvSpPr/>
            <p:nvPr/>
          </p:nvSpPr>
          <p:spPr>
            <a:xfrm>
              <a:off x="3581280" y="1676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Line 3077"/>
            <p:cNvSpPr/>
            <p:nvPr/>
          </p:nvSpPr>
          <p:spPr>
            <a:xfrm>
              <a:off x="2590920" y="2133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Line 3078"/>
            <p:cNvSpPr/>
            <p:nvPr/>
          </p:nvSpPr>
          <p:spPr>
            <a:xfrm>
              <a:off x="5486400" y="2133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Rectangle 3079"/>
            <p:cNvSpPr/>
            <p:nvPr/>
          </p:nvSpPr>
          <p:spPr>
            <a:xfrm>
              <a:off x="5639760" y="16462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Rectangle 3080"/>
            <p:cNvSpPr/>
            <p:nvPr/>
          </p:nvSpPr>
          <p:spPr>
            <a:xfrm>
              <a:off x="2592360" y="16462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3081"/>
                <p:cNvSpPr txBox="1"/>
                <p:nvPr/>
              </p:nvSpPr>
              <p:spPr>
                <a:xfrm>
                  <a:off x="3976560" y="1828800"/>
                  <a:ext cx="11844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Object 3103"/>
              <p:cNvSpPr txBox="1"/>
              <p:nvPr/>
            </p:nvSpPr>
            <p:spPr>
              <a:xfrm>
                <a:off x="3352680" y="32767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104"/>
              <p:cNvSpPr txBox="1"/>
              <p:nvPr/>
            </p:nvSpPr>
            <p:spPr>
              <a:xfrm>
                <a:off x="158760" y="3986280"/>
                <a:ext cx="3041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105"/>
              <p:cNvSpPr txBox="1"/>
              <p:nvPr/>
            </p:nvSpPr>
            <p:spPr>
              <a:xfrm>
                <a:off x="6095880" y="3986280"/>
                <a:ext cx="2419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106"/>
              <p:cNvSpPr txBox="1"/>
              <p:nvPr/>
            </p:nvSpPr>
            <p:spPr>
              <a:xfrm>
                <a:off x="380880" y="4849920"/>
                <a:ext cx="8153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107"/>
              <p:cNvSpPr txBox="1"/>
              <p:nvPr/>
            </p:nvSpPr>
            <p:spPr>
              <a:xfrm>
                <a:off x="5334120" y="2643120"/>
                <a:ext cx="35938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108"/>
              <p:cNvSpPr txBox="1"/>
              <p:nvPr/>
            </p:nvSpPr>
            <p:spPr>
              <a:xfrm>
                <a:off x="152280" y="2643120"/>
                <a:ext cx="4424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109"/>
              <p:cNvSpPr txBox="1"/>
              <p:nvPr/>
            </p:nvSpPr>
            <p:spPr>
              <a:xfrm>
                <a:off x="1044720" y="5767560"/>
                <a:ext cx="61182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4E8-2F6D-43DA-92F5-3CACA802E05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B111-7A52-49C4-ACBA-BE1D66073DE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6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6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7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7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7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09T18:53:54Z</cp:lastPrinted>
  <dcterms:modified xsi:type="dcterms:W3CDTF">2013-05-01T23:55:11Z</dcterms:modified>
  <cp:revision>336</cp:revision>
  <dc:subject/>
  <dc:title>SPFirst Lecture #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