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3B6-36FC-47CB-B1AB-96E7A183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3C8-942C-4229-B05D-863D2F0B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90-48B4-4F66-937D-5EA6750D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4A5-13A0-4C41-A9A5-FF6FFFA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354-EA78-4A66-AE9E-CBC60912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DAF-C5F3-4869-9FD6-D3921826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E9F7-174D-47E3-9E9C-D1245962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DFC1-919E-42A2-B346-2CDE9A10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6C4-E5C8-42C1-BCFB-CFD0017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FCF-9E18-4BCE-9F22-7A8155B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B31D-7857-4021-A33A-D9EE5D81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D6E-265B-449B-87E9-93CAC55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96B6-D693-4F31-B5A9-7B0AEAE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44C3-7F0D-4949-9E1A-A1206F1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FE4-7DE9-498B-8CBD-4E0FA05B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76B0-E6CB-440F-8210-38A9A739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8FA-5DD5-43DB-8698-7AD24C3D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979-E233-4F1E-916A-F978D30C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342-9F1F-48D8-A88F-1CEB8AD6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B83-C346-4CCB-B514-DC4F2D2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36A-6786-424D-8122-876B3C4B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F63-1BF6-40CA-8216-598D412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BB6-ECB5-4911-B317-4EB05505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DAF-5064-4377-8C7F-0FCAADFA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410F-A9AF-4C34-B33B-51320EC795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9E4B-D0CE-4364-934A-59EC9E6A5CB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B2AB-9D4D-4441-AD07-536C9C328E8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AFD4-9D7F-4F4D-A0AC-E798A5C8F7C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504-7529-4A6B-825E-1A1154FE2C9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1B6-E427-46BB-9117-6DAA89CF5AF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 Transforms: Introdu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89B0-AA31-498C-A64F-9CE23FB0AFE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65C7-2DC1-4766-B0D6-17B921115F9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Y SIGNAL has a z-Trans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565280" y="2292480"/>
                <a:ext cx="32083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16" name="Picture 6" descr="_x000f_example-7.1.gif                                                0000953C_x0005_JKL-2                          B0CAADC9:"/>
          <p:cNvPicPr/>
          <p:nvPr/>
        </p:nvPicPr>
        <p:blipFill>
          <a:blip r:embed="rId1"/>
          <a:srcRect l="0" t="0" r="0" b="22005"/>
          <a:stretch/>
        </p:blipFill>
        <p:spPr>
          <a:xfrm>
            <a:off x="0" y="3505320"/>
            <a:ext cx="91440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2789280" y="5576760"/>
                <a:ext cx="620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228600" y="5473800"/>
                <a:ext cx="2438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Group 17"/>
          <p:cNvGrpSpPr/>
          <p:nvPr/>
        </p:nvGrpSpPr>
        <p:grpSpPr>
          <a:xfrm>
            <a:off x="3886200" y="4952880"/>
            <a:ext cx="4343400" cy="838440"/>
            <a:chOff x="3886200" y="4952880"/>
            <a:chExt cx="4343400" cy="838440"/>
          </a:xfrm>
        </p:grpSpPr>
        <p:sp>
          <p:nvSpPr>
            <p:cNvPr id="220" name="Line 12"/>
            <p:cNvSpPr/>
            <p:nvPr/>
          </p:nvSpPr>
          <p:spPr>
            <a:xfrm>
              <a:off x="38862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>
              <a:off x="5334120" y="4952880"/>
              <a:ext cx="60948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>
              <a:off x="6095880" y="4952880"/>
              <a:ext cx="99072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45720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6858000" y="4952880"/>
              <a:ext cx="137160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758-A5EE-4849-A0F1-FDC6B90BCC1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2CFF-560A-48F4-9650-A8302165869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8" name="Picture 2" descr="_x000f_example-7.2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527040" y="609480"/>
            <a:ext cx="8089920" cy="562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19"/>
              <p:cNvSpPr txBox="1"/>
              <p:nvPr/>
            </p:nvSpPr>
            <p:spPr>
              <a:xfrm>
                <a:off x="1523880" y="1038240"/>
                <a:ext cx="5562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Group 14"/>
          <p:cNvGrpSpPr/>
          <p:nvPr/>
        </p:nvGrpSpPr>
        <p:grpSpPr>
          <a:xfrm>
            <a:off x="1752480" y="1676520"/>
            <a:ext cx="6477120" cy="4190760"/>
            <a:chOff x="1752480" y="1676520"/>
            <a:chExt cx="6477120" cy="4190760"/>
          </a:xfrm>
        </p:grpSpPr>
        <p:sp>
          <p:nvSpPr>
            <p:cNvPr id="231" name="Line 6"/>
            <p:cNvSpPr/>
            <p:nvPr/>
          </p:nvSpPr>
          <p:spPr>
            <a:xfrm>
              <a:off x="6553080" y="1676520"/>
              <a:ext cx="1676520" cy="4114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2" name="Line 4"/>
            <p:cNvSpPr/>
            <p:nvPr/>
          </p:nvSpPr>
          <p:spPr>
            <a:xfrm>
              <a:off x="1752480" y="3124080"/>
              <a:ext cx="2514600" cy="2743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2666880" y="2819520"/>
              <a:ext cx="1447920" cy="152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243360" y="1676520"/>
            <a:ext cx="3566520" cy="3200400"/>
            <a:chOff x="243360" y="1676520"/>
            <a:chExt cx="3566520" cy="3200400"/>
          </a:xfrm>
        </p:grpSpPr>
        <p:sp>
          <p:nvSpPr>
            <p:cNvPr id="235" name="Text Box 3"/>
            <p:cNvSpPr/>
            <p:nvPr/>
          </p:nvSpPr>
          <p:spPr>
            <a:xfrm>
              <a:off x="243360" y="2438280"/>
              <a:ext cx="2451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XPONENT GIV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TIME LOC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1752480" y="1676520"/>
              <a:ext cx="20574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762120" y="3124080"/>
              <a:ext cx="380880" cy="1752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8"/>
              <p:cNvSpPr txBox="1"/>
              <p:nvPr/>
            </p:nvSpPr>
            <p:spPr>
              <a:xfrm>
                <a:off x="533520" y="4876920"/>
                <a:ext cx="162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EC84-11ED-4D28-BC7B-7E26EB38B6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F47-BAF8-4810-B712-68E1CB88432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YSTEM FUN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[n] is same as {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806400" y="4438800"/>
            <a:ext cx="8123400" cy="1903680"/>
            <a:chOff x="806400" y="4438800"/>
            <a:chExt cx="8123400" cy="1903680"/>
          </a:xfrm>
        </p:grpSpPr>
        <p:sp>
          <p:nvSpPr>
            <p:cNvPr id="245" name="Text Box 12"/>
            <p:cNvSpPr/>
            <p:nvPr/>
          </p:nvSpPr>
          <p:spPr>
            <a:xfrm>
              <a:off x="1537920" y="5943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9"/>
                <p:cNvSpPr txBox="1"/>
                <p:nvPr/>
              </p:nvSpPr>
              <p:spPr>
                <a:xfrm>
                  <a:off x="806400" y="4438800"/>
                  <a:ext cx="7869240" cy="15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13"/>
            <p:cNvSpPr/>
            <p:nvPr/>
          </p:nvSpPr>
          <p:spPr>
            <a:xfrm>
              <a:off x="6795360" y="5791320"/>
              <a:ext cx="21344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ONVOLU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396000" y="3193920"/>
            <a:ext cx="15400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UNC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7"/>
              <p:cNvSpPr txBox="1"/>
              <p:nvPr/>
            </p:nvSpPr>
            <p:spPr>
              <a:xfrm>
                <a:off x="2124000" y="2838600"/>
                <a:ext cx="619128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CF02-C161-4125-8986-17CF6987B53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5FCA-5C14-426A-A909-2E29945E193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1219320" y="3059280"/>
                <a:ext cx="685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4"/>
              <p:cNvSpPr txBox="1"/>
              <p:nvPr/>
            </p:nvSpPr>
            <p:spPr>
              <a:xfrm>
                <a:off x="685800" y="5105520"/>
                <a:ext cx="7543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H(z) DIRECTLY from the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 7.3 in the book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7" name="Group 16"/>
          <p:cNvGrpSpPr/>
          <p:nvPr/>
        </p:nvGrpSpPr>
        <p:grpSpPr>
          <a:xfrm>
            <a:off x="2895480" y="3581280"/>
            <a:ext cx="5029200" cy="1752840"/>
            <a:chOff x="2895480" y="3581280"/>
            <a:chExt cx="5029200" cy="1752840"/>
          </a:xfrm>
        </p:grpSpPr>
        <p:sp>
          <p:nvSpPr>
            <p:cNvPr id="258" name="Line 5"/>
            <p:cNvSpPr/>
            <p:nvPr/>
          </p:nvSpPr>
          <p:spPr>
            <a:xfrm>
              <a:off x="2895480" y="3581280"/>
              <a:ext cx="2210040" cy="1752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>
              <a:off x="4343400" y="3581280"/>
              <a:ext cx="1676520" cy="1676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0" name="Line 7"/>
            <p:cNvSpPr/>
            <p:nvPr/>
          </p:nvSpPr>
          <p:spPr>
            <a:xfrm>
              <a:off x="7772400" y="3581280"/>
              <a:ext cx="152280" cy="1676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>
              <a:off x="5791320" y="3657600"/>
              <a:ext cx="91440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Object 17"/>
              <p:cNvSpPr txBox="1"/>
              <p:nvPr/>
            </p:nvSpPr>
            <p:spPr>
              <a:xfrm>
                <a:off x="380880" y="4121280"/>
                <a:ext cx="2971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35C7-2479-4076-B14D-4169A6B1D28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78A0-894F-4BF6-8769-AD1EBD46CFF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. 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h[n] 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505320" y="5029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25146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541008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5563440" y="5029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668320" y="5029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200400" y="24382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22096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51055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5257800" y="2438280"/>
            <a:ext cx="17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= 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-1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3637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27"/>
              <p:cNvSpPr txBox="1"/>
              <p:nvPr/>
            </p:nvSpPr>
            <p:spPr>
              <a:xfrm>
                <a:off x="3246480" y="2522520"/>
                <a:ext cx="1825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380880" y="3606840"/>
                <a:ext cx="4953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334120" y="3606840"/>
                <a:ext cx="1238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6"/>
              <p:cNvSpPr txBox="1"/>
              <p:nvPr/>
            </p:nvSpPr>
            <p:spPr>
              <a:xfrm>
                <a:off x="4038480" y="4952880"/>
                <a:ext cx="897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3BEF-6F38-4E88-8170-25220C86A75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F081-164A-4333-9E65-6BA2A8CCF0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y[n] via polynomi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= {3,1,4,1,5,9,0,0,0,...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Picture 28" descr="_x0011_delay-as-zinv.gif                                              0000953C_x0005_JKL-2                          B0CAADC9:"/>
          <p:cNvPicPr/>
          <p:nvPr/>
        </p:nvPicPr>
        <p:blipFill>
          <a:blip r:embed="rId1"/>
          <a:srcRect l="0" t="56744" r="0" b="0"/>
          <a:stretch/>
        </p:blipFill>
        <p:spPr>
          <a:xfrm>
            <a:off x="0" y="5029200"/>
            <a:ext cx="914400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Object 33"/>
              <p:cNvSpPr txBox="1"/>
              <p:nvPr/>
            </p:nvSpPr>
            <p:spPr>
              <a:xfrm>
                <a:off x="244440" y="4267080"/>
                <a:ext cx="8442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4"/>
              <p:cNvSpPr txBox="1"/>
              <p:nvPr/>
            </p:nvSpPr>
            <p:spPr>
              <a:xfrm>
                <a:off x="237960" y="3505320"/>
                <a:ext cx="7763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5"/>
              <p:cNvSpPr txBox="1"/>
              <p:nvPr/>
            </p:nvSpPr>
            <p:spPr>
              <a:xfrm>
                <a:off x="228600" y="2743200"/>
                <a:ext cx="275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81AE-E560-443E-B90D-6D05959451A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386-E000-4BB0-9A6A-EECB38AE335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5" name="Picture 3" descr="_x0012_ZT-delay-props.gif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04EE-3B75-4690-ABC5-EF7D9CA887F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06F-E36D-4834-BAD7-6CAE9AA9EA5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/O PROBL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x[n], find y[n]    (for FIR, h[n]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combine X(z) and H(z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1" name="Picture 3076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819520"/>
            <a:ext cx="87631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605-C14E-445A-9B6A-A5EF44B027C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FBED-A966-4BCC-8884-E960CEAA36C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ilter =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6" name="Picture 3" descr="_x0011_example-7.5-3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1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457200" y="5257800"/>
                <a:ext cx="71629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Text Box 11"/>
          <p:cNvSpPr/>
          <p:nvPr/>
        </p:nvSpPr>
        <p:spPr>
          <a:xfrm>
            <a:off x="6566760" y="6324480"/>
            <a:ext cx="2134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F249-10C8-4A17-BDDA-1F302413F72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94D-31B3-484E-8DDF-EBB5F287D38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4" name="Picture 4" descr="_x000f_convol-prop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4384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6419160" y="411480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7162920" y="4952880"/>
            <a:ext cx="15228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A682-6523-4087-A06B-08930758106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34B7-CACE-4322-BB28-BFABE9E2B39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Creative Commons License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E8DF-B7D7-44F2-A603-006E31AAE0D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658-1517-4C7B-B205-75AE5178A2E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z-TRANSFO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Picture 1031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352600"/>
            <a:ext cx="8991720" cy="31338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32"/>
          <p:cNvSpPr/>
          <p:nvPr/>
        </p:nvSpPr>
        <p:spPr>
          <a:xfrm>
            <a:off x="2375640" y="5562720"/>
            <a:ext cx="402624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ULTIPLY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1AF-24C2-4936-9058-434AC933285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051D-4BD0-4F5D-9B6D-D3C765E3BA2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-Length input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(L=4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Picture 6" descr="_x0011_example-7.5-2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971800"/>
            <a:ext cx="8928360" cy="29624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5733360" y="243828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101360" y="5791320"/>
            <a:ext cx="1168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 =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6A3B-0C7E-4D8E-9A57-2A1A995DE53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A85-C58F-47ED-9AA4-C8A26893456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ember:  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 *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to combine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and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7" name="Picture 5" descr="_x0010_cascade-of-2.gif                                               000078EC_x0003_JJ2                            B083FE93:"/>
          <p:cNvPicPr/>
          <p:nvPr/>
        </p:nvPicPr>
        <p:blipFill>
          <a:blip r:embed="rId1"/>
          <a:stretch/>
        </p:blipFill>
        <p:spPr>
          <a:xfrm>
            <a:off x="0" y="41274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28432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67294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F0C-9CFD-419A-8796-FA6B6B92BC7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89D-42B6-4F2F-952F-1E6772E0BEB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Group 51"/>
          <p:cNvGrpSpPr/>
          <p:nvPr/>
        </p:nvGrpSpPr>
        <p:grpSpPr>
          <a:xfrm>
            <a:off x="687240" y="2743200"/>
            <a:ext cx="6856560" cy="914400"/>
            <a:chOff x="687240" y="2743200"/>
            <a:chExt cx="6856560" cy="914400"/>
          </a:xfrm>
        </p:grpSpPr>
        <p:sp>
          <p:nvSpPr>
            <p:cNvPr id="346" name="Rectangle 28"/>
            <p:cNvSpPr/>
            <p:nvPr/>
          </p:nvSpPr>
          <p:spPr>
            <a:xfrm>
              <a:off x="1752480" y="2743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762120" y="3200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8" name="Line 30"/>
            <p:cNvSpPr/>
            <p:nvPr/>
          </p:nvSpPr>
          <p:spPr>
            <a:xfrm>
              <a:off x="3657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68724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33"/>
                <p:cNvSpPr txBox="1"/>
                <p:nvPr/>
              </p:nvSpPr>
              <p:spPr>
                <a:xfrm>
                  <a:off x="2011320" y="2849400"/>
                  <a:ext cx="14572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Rectangle 34"/>
            <p:cNvSpPr/>
            <p:nvPr/>
          </p:nvSpPr>
          <p:spPr>
            <a:xfrm>
              <a:off x="4648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>
              <a:off x="6553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685260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9"/>
                <p:cNvSpPr txBox="1"/>
                <p:nvPr/>
              </p:nvSpPr>
              <p:spPr>
                <a:xfrm>
                  <a:off x="4884840" y="2849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Object 40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Group 52"/>
          <p:cNvGrpSpPr/>
          <p:nvPr/>
        </p:nvGrpSpPr>
        <p:grpSpPr>
          <a:xfrm>
            <a:off x="552240" y="2514600"/>
            <a:ext cx="6153480" cy="3416400"/>
            <a:chOff x="552240" y="2514600"/>
            <a:chExt cx="6153480" cy="3416400"/>
          </a:xfrm>
        </p:grpSpPr>
        <p:sp>
          <p:nvSpPr>
            <p:cNvPr id="357" name="Rectangle 9"/>
            <p:cNvSpPr/>
            <p:nvPr/>
          </p:nvSpPr>
          <p:spPr>
            <a:xfrm>
              <a:off x="3352680" y="4038480"/>
              <a:ext cx="190512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>
              <a:off x="2362320" y="4495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5257800" y="4495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5411160" y="4038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2516040" y="4038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6"/>
                <p:cNvSpPr txBox="1"/>
                <p:nvPr/>
              </p:nvSpPr>
              <p:spPr>
                <a:xfrm>
                  <a:off x="3679920" y="416736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Line 44"/>
            <p:cNvSpPr/>
            <p:nvPr/>
          </p:nvSpPr>
          <p:spPr>
            <a:xfrm flipV="1">
              <a:off x="2743200" y="4876560"/>
              <a:ext cx="5335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Text Box 45"/>
            <p:cNvSpPr/>
            <p:nvPr/>
          </p:nvSpPr>
          <p:spPr>
            <a:xfrm>
              <a:off x="552240" y="5105520"/>
              <a:ext cx="2225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QUIVALEN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STE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1600200" y="2514600"/>
              <a:ext cx="5105520" cy="1295280"/>
            </a:xfrm>
            <a:prstGeom prst="rect">
              <a:avLst/>
            </a:prstGeom>
            <a:noFill/>
            <a:ln w="76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92CF-0DF8-466A-A87D-9CE92B7276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1B4A-4DEB-4AD7-88E9-8C9594A1DA1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70" name="Group 28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71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" name="Group 29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78" name="Rectangle 15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Line 16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19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20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Rectangle 22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23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Rectangle 24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0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1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2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3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AF73-16B6-40BB-AB5C-DF963D57868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719F-61B9-4C78-A836-B042D31204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s 7-1 through 7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CADING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, 7-6 to the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E66-F445-46EE-994A-B9AE7EEEAE5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57D-C638-469A-8981-D4FA5F9EED3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RODUCE the Z-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 Mathematical 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(z) POLYNOMI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mplifies analysi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 SIMPLIFIED 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-Transform can be applied t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: h[n] --&gt;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gnals: x[n] --&gt; X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70480" y="5121360"/>
                <a:ext cx="3738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895480" y="4952880"/>
                <a:ext cx="205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666880" y="54864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872-A5D8-4B54-ADF3-CBDD46F1B0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C7D3-E5A0-44C1-8A16-1968DD680FB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812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TWO (no, THREE) DOMAINS</a:t>
            </a:r>
            <a:endParaRPr b="0" lang="en-US" sz="28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1" name="Group 2065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2" name="Text Box 2055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Text Box 2056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Freeform 2061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5" name="Group 2068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6" name="Line 2066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067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8" name="Group 2075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19" name="Text Box 2053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070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2074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2" name="Text Box 2052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072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Group 2080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5" name="Line 2060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079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5505480" y="539640"/>
                <a:ext cx="3603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272-3CC4-426B-8BAE-CF2F6512092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E3C-54E1-4391-96D5-F1A9CEDC37C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 CONCEP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to a new domain whe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ERATIONS are EASIER &amp; FAMILIA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YNOM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NSFORM both way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---&gt; X(z)   (into the z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z) ---&gt; x[n]  (back to the time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1295280" y="45720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1295280" y="5181480"/>
                <a:ext cx="1981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ED8A-E610-4567-8FB1-CF1D95DAE76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74D-05EF-4038-A02B-5F5C6CA4A3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”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743200"/>
            <a:ext cx="35812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80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952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062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34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371600" y="4495680"/>
            <a:ext cx="35053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3808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4876920" y="49528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503028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53496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Line 38"/>
          <p:cNvSpPr/>
          <p:nvPr/>
        </p:nvSpPr>
        <p:spPr>
          <a:xfrm>
            <a:off x="76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Line 39"/>
          <p:cNvSpPr/>
          <p:nvPr/>
        </p:nvSpPr>
        <p:spPr>
          <a:xfrm flipV="1">
            <a:off x="838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Line 40"/>
          <p:cNvSpPr/>
          <p:nvPr/>
        </p:nvSpPr>
        <p:spPr>
          <a:xfrm flipV="1">
            <a:off x="10666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Line 41"/>
          <p:cNvSpPr/>
          <p:nvPr/>
        </p:nvSpPr>
        <p:spPr>
          <a:xfrm flipV="1">
            <a:off x="6094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Line 42"/>
          <p:cNvSpPr/>
          <p:nvPr/>
        </p:nvSpPr>
        <p:spPr>
          <a:xfrm flipV="1">
            <a:off x="12193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Line 43"/>
          <p:cNvSpPr/>
          <p:nvPr/>
        </p:nvSpPr>
        <p:spPr>
          <a:xfrm flipV="1">
            <a:off x="45720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4648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Line 45"/>
          <p:cNvSpPr/>
          <p:nvPr/>
        </p:nvSpPr>
        <p:spPr>
          <a:xfrm flipV="1">
            <a:off x="5410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Line 46"/>
          <p:cNvSpPr/>
          <p:nvPr/>
        </p:nvSpPr>
        <p:spPr>
          <a:xfrm flipV="1">
            <a:off x="56386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Line 47"/>
          <p:cNvSpPr/>
          <p:nvPr/>
        </p:nvSpPr>
        <p:spPr>
          <a:xfrm flipV="1">
            <a:off x="51814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Line 48"/>
          <p:cNvSpPr/>
          <p:nvPr/>
        </p:nvSpPr>
        <p:spPr>
          <a:xfrm flipV="1">
            <a:off x="5791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Line 49"/>
          <p:cNvSpPr/>
          <p:nvPr/>
        </p:nvSpPr>
        <p:spPr>
          <a:xfrm flipV="1">
            <a:off x="50292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Line 52"/>
          <p:cNvSpPr/>
          <p:nvPr/>
        </p:nvSpPr>
        <p:spPr>
          <a:xfrm>
            <a:off x="358128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3"/>
              <p:cNvSpPr txBox="1"/>
              <p:nvPr/>
            </p:nvSpPr>
            <p:spPr>
              <a:xfrm>
                <a:off x="5257800" y="347040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4"/>
              <p:cNvSpPr txBox="1"/>
              <p:nvPr/>
            </p:nvSpPr>
            <p:spPr>
              <a:xfrm>
                <a:off x="1389240" y="4613400"/>
                <a:ext cx="34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5"/>
              <p:cNvSpPr txBox="1"/>
              <p:nvPr/>
            </p:nvSpPr>
            <p:spPr>
              <a:xfrm>
                <a:off x="1447920" y="2967120"/>
                <a:ext cx="350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437-8E47-4E20-BCB9-079B2A73851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F32-A708-4E9A-A544-1551C9745E7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IDE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OLYNOMI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909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6002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4956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6490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75392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590920" y="449568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60020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4956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64904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75392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12952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20574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V="1">
            <a:off x="22860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243828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 flipV="1">
            <a:off x="16765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42670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 flipV="1">
            <a:off x="50292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 flipV="1">
            <a:off x="52578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V="1">
            <a:off x="48006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 flipV="1">
            <a:off x="54100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Line 25"/>
          <p:cNvSpPr/>
          <p:nvPr/>
        </p:nvSpPr>
        <p:spPr>
          <a:xfrm flipV="1">
            <a:off x="4648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2917800" y="4624560"/>
                <a:ext cx="1320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003480" y="2827440"/>
                <a:ext cx="109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8"/>
          <p:cNvSpPr/>
          <p:nvPr/>
        </p:nvSpPr>
        <p:spPr>
          <a:xfrm>
            <a:off x="342900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5756400" y="3511440"/>
                <a:ext cx="320652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41A-781F-4182-A808-C0393EB85FD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C23-8D37-417F-A701-D5E19F5367A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53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Line 1056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1057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Text Box 1058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62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63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64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65"/>
              <p:cNvSpPr txBox="1"/>
              <p:nvPr/>
            </p:nvSpPr>
            <p:spPr>
              <a:xfrm>
                <a:off x="762120" y="380988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05-16T00:05:32Z</cp:lastPrinted>
  <dcterms:modified xsi:type="dcterms:W3CDTF">2013-05-01T23:05:51Z</dcterms:modified>
  <cp:revision>244</cp:revision>
  <dc:subject/>
  <dc:title>SPFirst Lecture #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