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5.png" ContentType="image/png"/>
  <Override PartName="/ppt/media/image12.wmf" ContentType="image/x-wmf"/>
  <Override PartName="/ppt/media/image54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52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71.png" ContentType="image/png"/>
  <Override PartName="/ppt/media/image29.wmf" ContentType="image/x-wmf"/>
  <Override PartName="/ppt/media/image68.png" ContentType="image/png"/>
  <Override PartName="/ppt/media/image31.png" ContentType="image/png"/>
  <Override PartName="/ppt/media/image1.png" ContentType="image/png"/>
  <Override PartName="/ppt/media/image17.png" ContentType="image/png"/>
  <Override PartName="/ppt/media/image20.wmf" ContentType="image/x-wmf"/>
  <Override PartName="/ppt/media/image56.wmf" ContentType="image/x-wmf"/>
  <Override PartName="/ppt/media/image19.wmf" ContentType="image/x-wmf"/>
  <Override PartName="/ppt/media/image21.wmf" ContentType="image/x-wmf"/>
  <Override PartName="/ppt/media/image60.png" ContentType="image/png"/>
  <Override PartName="/ppt/media/image24.wmf" ContentType="image/x-wmf"/>
  <Override PartName="/ppt/media/image23.png" ContentType="image/png"/>
  <Override PartName="/ppt/media/image63.wmf" ContentType="image/x-wmf"/>
  <Override PartName="/ppt/media/image22.wmf" ContentType="image/x-wmf"/>
  <Override PartName="/ppt/media/image61.png" ContentType="image/png"/>
  <Override PartName="/ppt/media/image74.png" ContentType="image/png"/>
  <Override PartName="/ppt/media/image5.wmf" ContentType="image/x-wmf"/>
  <Override PartName="/ppt/media/image35.wmf" ContentType="image/x-wmf"/>
  <Override PartName="/ppt/media/image62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7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66.png" ContentType="image/png"/>
  <Override PartName="/ppt/media/image27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8.png" ContentType="image/png"/>
  <Override PartName="/ppt/media/image3.wmf" ContentType="image/x-wmf"/>
  <Override PartName="/ppt/media/image15.wmf" ContentType="image/x-wmf"/>
  <Override PartName="/ppt/media/image40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7.png" ContentType="image/png"/>
  <Override PartName="/ppt/media/image41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9.wmf" ContentType="image/x-wmf"/>
  <Override PartName="/ppt/media/image39.wmf" ContentType="image/x-wmf"/>
  <Override PartName="/ppt/media/image13.wmf" ContentType="image/x-wmf"/>
  <Override PartName="/ppt/media/image30.wmf" ContentType="image/x-wmf"/>
  <Override PartName="/ppt/media/image73.png" ContentType="image/png"/>
  <Override PartName="/ppt/media/image33.png" ContentType="image/png"/>
  <Override PartName="/ppt/media/image37.wmf" ContentType="image/x-wmf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2A9-AA0E-4A94-9E49-52A9AF07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B76-8A1D-459E-81FA-E47A0A1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2DF-12E7-4BCD-A377-15DA5DDF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DD1-342F-4B12-9C47-079DF036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DEC9-0F77-4103-B043-79CC8F2C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5D76-2220-45CF-A72F-A372F0AB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BFF-E28F-46A4-9EDE-E87BA6A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0429-5B84-47C8-90AE-BD417BCE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B17A-FDBC-4D60-BC89-23D05C6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92A-A16D-45B6-85B1-E00C5F8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3715-385D-44AC-ACA5-2D9B59F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76E-AFF2-4CD4-9A45-F47E2E7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8A31-7438-4501-A532-6619D1DA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77B-C863-4FE4-9916-09B92292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5BD5-0860-4F99-ABEA-F1AF24C1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DF66-CF0A-4E1C-8F63-CB35A885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A71-0DB6-4B9F-8871-6DB6BDCD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957-7EB6-414C-85E8-8E7BC184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45B-9584-4D1D-A21E-61E54199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40A-D2EB-4856-9F7B-A3247D47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6B1-27E2-4920-8420-ADC8908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C98-C182-4121-9FD2-C619A63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0CA-D24B-4B67-9678-2CA7A9A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013-D612-4A53-BFCB-237BC5B7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846E-F407-4CC8-95CB-4230181CBD5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A70A-8834-417B-80C5-62AEB648992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CBF-EC36-421E-BDA7-4C04EE0655E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3221-8B39-4B9A-8504-8EC9F68B218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360" y="34286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8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3-Domains for II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90C-3A62-4ED6-8AC4-7573F8B9B1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D7D251-E993-49BC-8A58-D9B94AF944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5334120"/>
          <a:ext cx="556596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4120"/>
                    <a:ext cx="5565960" cy="128736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8360" y="2438280"/>
          <a:ext cx="796284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360" y="2438280"/>
                    <a:ext cx="7962840" cy="120168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19240" y="3809880"/>
          <a:ext cx="8091360" cy="137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240" y="3809880"/>
                    <a:ext cx="8091360" cy="13734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280" y="1614600"/>
                <a:ext cx="883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1FD-76CB-47A5-983A-C629212C24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0E4A6-550D-4A88-9F12-21A34B8785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5486400"/>
          <a:ext cx="33526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486400"/>
                    <a:ext cx="33526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4572000"/>
          <a:ext cx="51818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5181840" cy="6872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219320" y="1227240"/>
            <a:ext cx="7772400" cy="3116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3479760" cy="266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302960" y="1523880"/>
            <a:ext cx="1617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6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1D7-F66D-4606-9C3A-B7F940BD354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FE3A7-D6CB-4D2C-BF59-3514F42DB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50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Z-transform PA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752480"/>
          <a:ext cx="432612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326120" cy="6876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895480" y="2514600"/>
          <a:ext cx="603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514600"/>
                    <a:ext cx="6037560" cy="13730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125280" y="4191120"/>
            <a:ext cx="8796600" cy="2135160"/>
            <a:chOff x="125280" y="4191120"/>
            <a:chExt cx="8796600" cy="2135160"/>
          </a:xfrm>
        </p:grpSpPr>
        <p:graphicFrame>
          <p:nvGraphicFramePr>
            <p:cNvPr id="155" name=""/>
            <p:cNvGraphicFramePr/>
            <p:nvPr/>
          </p:nvGraphicFramePr>
          <p:xfrm>
            <a:off x="125280" y="4191120"/>
            <a:ext cx="5437440" cy="687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280" y="4191120"/>
                      <a:ext cx="5437440" cy="687240"/>
                    </a:xfrm>
                    <a:prstGeom prst="rect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286000" y="4952880"/>
            <a:ext cx="6635880" cy="137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4952880"/>
                      <a:ext cx="6635880" cy="1373400"/>
                    </a:xfrm>
                    <a:prstGeom prst="rect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9" name=""/>
          <p:cNvSpPr/>
          <p:nvPr/>
        </p:nvSpPr>
        <p:spPr>
          <a:xfrm>
            <a:off x="6111000" y="1371600"/>
            <a:ext cx="26967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GENERAL ENTRY f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z-Transform TA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7DE-06D6-45E6-9B31-6FD7C257BB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E3DAE-E71F-40AE-8106-48ACD97413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EX: n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1752480"/>
          <a:ext cx="33530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335304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8880" y="4038480"/>
            <a:ext cx="8288280" cy="22269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aa = [ 1, -0.9, 0.81 ]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b = [ 1, -0.45 ]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nn = -2:19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h = filter( bb, aa, (nn==0) )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H = freqz( bb, aa, [-pi,pi/100:pi] )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3200400"/>
          <a:ext cx="86868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200400"/>
                    <a:ext cx="8686800" cy="488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289-3D6D-46BC-A63E-D6464E138B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7A997-3558-4828-B7B6-A296237A22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5930640" cy="463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172200" y="2286000"/>
          <a:ext cx="2825640" cy="12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82564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724280" y="4829040"/>
            <a:ext cx="4114800" cy="18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6A6-BCA7-41E3-A9A2-D15E049730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DE647-E194-49E2-A2F9-41B5F5031A8D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 CIRC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PING BETWE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638680" y="251460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24280" y="4186080"/>
                <a:ext cx="419112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rPr>
                              <m:lit/>
                              <m:nor/>
                            </m:rPr>
                            <m:t xml:space="preserve">=-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j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403360"/>
            <a:ext cx="4419720" cy="399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 flipV="1">
            <a:off x="3962520" y="4343040"/>
            <a:ext cx="914400" cy="152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371240" y="4343400"/>
            <a:ext cx="34290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666520" y="5638320"/>
            <a:ext cx="21337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040360" y="1600200"/>
                <a:ext cx="1741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and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3BB-F0D1-41A6-8126-83FED08D38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BC4B9-194D-449A-92B4-3C5549F45C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850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om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52920" y="1884240"/>
          <a:ext cx="51861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2920" y="1884240"/>
                    <a:ext cx="5186160" cy="1309680"/>
                  </a:xfrm>
                  <a:prstGeom prst="rect">
                    <a:avLst/>
                  </a:prstGeom>
                  <a:ln w="7632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6553080" cy="3017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04920" y="1460520"/>
            <a:ext cx="3200400" cy="25020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981080" y="1905120"/>
            <a:ext cx="4419720" cy="4267080"/>
            <a:chOff x="1981080" y="1905120"/>
            <a:chExt cx="4419720" cy="4267080"/>
          </a:xfrm>
        </p:grpSpPr>
        <p:sp>
          <p:nvSpPr>
            <p:cNvPr id="186" name=""/>
            <p:cNvSpPr/>
            <p:nvPr/>
          </p:nvSpPr>
          <p:spPr>
            <a:xfrm>
              <a:off x="6172200" y="4648320"/>
              <a:ext cx="228600" cy="1523880"/>
            </a:xfrm>
            <a:prstGeom prst="upArrow">
              <a:avLst>
                <a:gd name="adj1" fmla="val 50000"/>
                <a:gd name="adj2" fmla="val 166654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905120"/>
              <a:ext cx="228600" cy="685800"/>
            </a:xfrm>
            <a:prstGeom prst="upArrow">
              <a:avLst>
                <a:gd name="adj1" fmla="val 50000"/>
                <a:gd name="adj2" fmla="val 75000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934-FB97-4804-AFF3-3AE6FEFDB0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9CE8E-F74D-464A-A3FD-89BE6FE01188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48320" y="5486400"/>
          <a:ext cx="33526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486400"/>
                    <a:ext cx="33526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809880" y="4572000"/>
          <a:ext cx="51818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5181840" cy="6872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19320" y="1227240"/>
            <a:ext cx="7772400" cy="3116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3479760" cy="2668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302960" y="1523880"/>
            <a:ext cx="1617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6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395-B09A-4E29-AEFD-F7A43037C8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5B94F-AF6F-4FF6-9FB7-F428F213B5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343400" y="4724280"/>
          <a:ext cx="40035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724280"/>
                    <a:ext cx="400356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895480" y="1463760"/>
            <a:ext cx="6032520" cy="2811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3479760" cy="266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1981080"/>
            <a:ext cx="4191120" cy="2667240"/>
          </a:xfrm>
          <a:custGeom>
            <a:avLst/>
            <a:gdLst/>
            <a:ahLst/>
            <a:rect l="l" t="t" r="r" b="b"/>
            <a:pathLst>
              <a:path w="2496" h="1712">
                <a:moveTo>
                  <a:pt x="0" y="1536"/>
                </a:moveTo>
                <a:cubicBezTo>
                  <a:pt x="136" y="1624"/>
                  <a:pt x="272" y="1712"/>
                  <a:pt x="576" y="1536"/>
                </a:cubicBezTo>
                <a:cubicBezTo>
                  <a:pt x="880" y="1360"/>
                  <a:pt x="1504" y="735"/>
                  <a:pt x="1824" y="480"/>
                </a:cubicBezTo>
                <a:cubicBezTo>
                  <a:pt x="2143" y="224"/>
                  <a:pt x="2319" y="112"/>
                  <a:pt x="2496" y="0"/>
                </a:cubicBez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81D-284F-421C-8AAD-3B7917654D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12D58-2F7F-43E6-9CF3-D763716F0F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267080" y="5410080"/>
          <a:ext cx="43768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410080"/>
                    <a:ext cx="43768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629160" y="4495680"/>
          <a:ext cx="5438520" cy="6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9160" y="4495680"/>
                    <a:ext cx="5438520" cy="6876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752480" y="1371600"/>
            <a:ext cx="7162920" cy="2859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8160" y="4081320"/>
            <a:ext cx="3390840" cy="2624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301160" y="1523880"/>
            <a:ext cx="175968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1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8A8-A24B-4EEE-9216-CCC1D27E58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97762-9E56-443C-8776-603F4FD1B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830-0872-4E23-89A1-568B793E8D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1FB56-3BE4-4176-B8BA-FFDDDCEC0AD7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965320" y="1447920"/>
            <a:ext cx="6178680" cy="2836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4145040"/>
            <a:ext cx="350532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962520" y="4648320"/>
          <a:ext cx="48765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648320"/>
                    <a:ext cx="4876560" cy="118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895480" y="1981080"/>
            <a:ext cx="3733920" cy="3200400"/>
          </a:xfrm>
          <a:custGeom>
            <a:avLst/>
            <a:gdLst/>
            <a:ahLst/>
            <a:rect l="l" t="t" r="r" b="b"/>
            <a:pathLst>
              <a:path w="2496" h="1712">
                <a:moveTo>
                  <a:pt x="0" y="1536"/>
                </a:moveTo>
                <a:cubicBezTo>
                  <a:pt x="136" y="1624"/>
                  <a:pt x="272" y="1712"/>
                  <a:pt x="576" y="1536"/>
                </a:cubicBezTo>
                <a:cubicBezTo>
                  <a:pt x="880" y="1360"/>
                  <a:pt x="1504" y="735"/>
                  <a:pt x="1824" y="480"/>
                </a:cubicBezTo>
                <a:cubicBezTo>
                  <a:pt x="2143" y="224"/>
                  <a:pt x="2319" y="112"/>
                  <a:pt x="2496" y="0"/>
                </a:cubicBez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495-F3AD-4377-8689-CA9D2F8BA4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E4324-5DF1-458E-9D3D-2CC389E30E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48360" cy="4724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74520" y="1447920"/>
            <a:ext cx="1846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 MOV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120" y="4648320"/>
            <a:ext cx="6624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28080" y="4191120"/>
            <a:ext cx="7110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54640" y="220968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990720" y="1905120"/>
            <a:ext cx="2438280" cy="30456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C5E-4487-4B61-93D5-280C85C87B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FFB35-1899-4DAB-9F53-E500F421AF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INPU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9880" y="1752480"/>
          <a:ext cx="297180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52480"/>
                    <a:ext cx="2971800" cy="992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20968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09680" y="3890880"/>
            <a:ext cx="5334120" cy="24336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189160" y="4495680"/>
            <a:ext cx="54100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7C7-359F-4D25-990A-3F338CD701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9ACBB-9B74-47B6-85E7-28285EB18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04920" y="5029200"/>
                <a:ext cx="82548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9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52960" y="3276720"/>
          <a:ext cx="37810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76720"/>
                    <a:ext cx="3781080" cy="601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176640" y="4191120"/>
          <a:ext cx="51544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6640" y="4191120"/>
                    <a:ext cx="5154480" cy="601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H="1" flipV="1">
            <a:off x="4876560" y="4648320"/>
            <a:ext cx="16002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924680" y="48006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2438280"/>
            <a:ext cx="2286000" cy="312444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192" y="1968"/>
                </a:moveTo>
                <a:cubicBezTo>
                  <a:pt x="132" y="1884"/>
                  <a:pt x="72" y="1800"/>
                  <a:pt x="48" y="1632"/>
                </a:cubicBezTo>
                <a:cubicBezTo>
                  <a:pt x="24" y="1464"/>
                  <a:pt x="0" y="1175"/>
                  <a:pt x="48" y="960"/>
                </a:cubicBezTo>
                <a:cubicBezTo>
                  <a:pt x="95" y="744"/>
                  <a:pt x="104" y="495"/>
                  <a:pt x="336" y="336"/>
                </a:cubicBezTo>
                <a:cubicBezTo>
                  <a:pt x="567" y="176"/>
                  <a:pt x="1003" y="88"/>
                  <a:pt x="144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752480"/>
          <a:ext cx="320040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1752480"/>
                    <a:ext cx="3200400" cy="106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884-5257-4E9D-9CEF-3E0070D762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25376-DBD9-4759-AFAA-0D4310F93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38280" y="1752480"/>
          <a:ext cx="320040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2480"/>
                    <a:ext cx="3200400" cy="106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3211560"/>
                <a:ext cx="4648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730600" y="4114800"/>
                <a:ext cx="62737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33520" y="5638680"/>
                <a:ext cx="6879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9C1-7748-4B8E-8B12-7A66E7256B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FE847-1FDD-44D0-93EC-5CFB25AA2B34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39840" y="1720800"/>
                <a:ext cx="62751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ℜ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2440" y="2562120"/>
                <a:ext cx="7343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3857760"/>
                <a:ext cx="57751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010280" y="4048200"/>
                <a:ext cx="1782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H="1" flipV="1">
            <a:off x="5638680" y="4190760"/>
            <a:ext cx="1371600" cy="152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68B-92B7-4642-8208-4BD8785ECF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C3F38-093F-4100-B679-6C90EB49370F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33520" y="1600200"/>
                <a:ext cx="57751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010280" y="1790640"/>
                <a:ext cx="1782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 flipH="1" flipV="1">
            <a:off x="5638680" y="1933200"/>
            <a:ext cx="1371600" cy="152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5680" y="4267080"/>
                <a:ext cx="84834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ℜ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4360" y="5140440"/>
                <a:ext cx="81201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797840" y="5791320"/>
            <a:ext cx="14014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Trans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88800" y="5791320"/>
            <a:ext cx="17413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Steady-Stat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A53-0CA3-4D5F-9F0E-51A520DC3E5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01609-DFE7-435C-BBBF-749F7DF2D0EB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145280" cy="1068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400" y="3124080"/>
            <a:ext cx="9007200" cy="139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837560" cy="542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405160" y="5291280"/>
            <a:ext cx="4470480" cy="1019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20" y="2716200"/>
            <a:ext cx="2998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artial Fraction Expans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F36-0B24-4387-B5B4-E083F5F2DF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C8846-C582-4A0A-9ECA-1B041E448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311560" y="1905120"/>
            <a:ext cx="4470120" cy="1536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43280" y="3733920"/>
            <a:ext cx="5295600" cy="985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397240" y="4876920"/>
            <a:ext cx="4308480" cy="98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45E-125F-43E1-A4F4-C2060272229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A3C4E-87EB-409E-9E2B-86ACAA513A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c. &amp; suff. cond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84400" cy="1303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01720" y="3124080"/>
            <a:ext cx="7539120" cy="1190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58640" y="4724280"/>
            <a:ext cx="5081760" cy="1322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023880" y="4921200"/>
            <a:ext cx="2812680" cy="947160"/>
          </a:xfrm>
          <a:prstGeom prst="rect">
            <a:avLst/>
          </a:prstGeom>
          <a:solidFill>
            <a:srgbClr val="ffcc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Pole must be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Inside unit circle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F43-0E08-4979-B57A-6C0A553422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52712-0BF6-4DF6-A5CC-0FE9BD8FA5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S &amp; ZERO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19B-CDA6-4DC1-825D-BC54CBA345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0B299-9ECF-4686-9A12-E69C59198C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’ll look at an example in MATLAB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s(0.2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le at –0.8, so a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(–0.8)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two component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rt-up region just after n=0;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(–0.8) 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ADY-STAT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entually, y[n] looks sinusoid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gnitude &amp; Phase from Frequency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DE5-31DA-4035-BB03-B0CF828592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091A9-07EE-4390-9DBE-2A899CDBB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58720" y="30240"/>
            <a:ext cx="7747200" cy="682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7543800" y="4448160"/>
          <a:ext cx="143820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448160"/>
                    <a:ext cx="1438200" cy="8096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51920" y="1295280"/>
            <a:ext cx="18723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sine in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38880" y="2529000"/>
          <a:ext cx="114300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2529000"/>
                    <a:ext cx="1143000" cy="5094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0" y="1814400"/>
          <a:ext cx="2484360" cy="4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814400"/>
                    <a:ext cx="2484360" cy="4716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F0C-E682-47F8-B2EA-EDEDF7452536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F874A-614F-4CD8-B462-5888780E28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Does the TRANSIENT DIE OUT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35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6095880" y="5486400"/>
          <a:ext cx="269712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5486400"/>
                    <a:ext cx="2697120" cy="7650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92-C83F-49E3-8A4F-7870CCAAB6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47096-0BA8-470C-B21B-23728AC6C8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 COND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LL POLES INSIDE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STABLE 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146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96760" y="2514600"/>
            <a:ext cx="22273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 @ z=1.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2895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08120" y="3809880"/>
          <a:ext cx="31780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120" y="3809880"/>
                    <a:ext cx="3178080" cy="420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CD1-07F3-4486-AA55-8E876EA2AA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C07E7-8A0E-43DA-9270-BB23119E5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ONUS QUES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find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438280" y="1676520"/>
          <a:ext cx="40388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038840" cy="1347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132000" y="3371760"/>
                <a:ext cx="5478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733920" y="480060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936-4A96-45B2-A747-40FB9723C9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C5800-4ED1-45B7-B349-2389E19334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ransient-SteadyState" descr=""/>
          <p:cNvPicPr/>
          <p:nvPr/>
        </p:nvPicPr>
        <p:blipFill>
          <a:blip r:embed="rId1"/>
          <a:stretch/>
        </p:blipFill>
        <p:spPr>
          <a:xfrm>
            <a:off x="685800" y="1128600"/>
            <a:ext cx="7858080" cy="55771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ient &amp; Steady Stat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81360" y="3200400"/>
          <a:ext cx="113364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1360" y="3200400"/>
                    <a:ext cx="1133640" cy="6382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8153280" y="2590920"/>
                <a:ext cx="8510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5FC-850D-461A-8CCE-9F977180E33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1DBB7-BC6C-4199-A1CB-1A8F503D9263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LCULATE th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5240" y="1695600"/>
            <a:ext cx="8813520" cy="3466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flipH="1">
            <a:off x="5028840" y="2590920"/>
            <a:ext cx="1676520" cy="1371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095880" y="2209680"/>
                <a:ext cx="12970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749600" y="5289480"/>
            <a:ext cx="40957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the Z-Transform Metho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PARTIAL FRA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FF6-FCF1-4136-B7C1-650ADC96008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9B244-6A0F-416C-ACB7-EC742FAAA477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INVERSE 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825560"/>
            <a:ext cx="9144000" cy="4270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876920" y="571500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55440" y="5486400"/>
            <a:ext cx="1741320" cy="7034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pole)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7F9-6C92-4B93-B149-E132E558133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72C35-FDA4-4508-8741-42E895F2BD5C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LIT  Y(z) to INVER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Te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33200" y="2362320"/>
            <a:ext cx="8877600" cy="3936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581280" y="5334120"/>
            <a:ext cx="457200" cy="6858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2209680"/>
            <a:ext cx="1143000" cy="3048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A66-4638-4383-A07F-23F880BFCD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8CC2F-F319-46C5-A08B-7CBD88ED4E80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VERT Y(z) to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the Z-Transform Tab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492300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454040" y="2514600"/>
            <a:ext cx="62359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6019920" y="3352680"/>
            <a:ext cx="1828800" cy="1981440"/>
            <a:chOff x="6019920" y="3352680"/>
            <a:chExt cx="1828800" cy="1981440"/>
          </a:xfrm>
        </p:grpSpPr>
        <p:sp>
          <p:nvSpPr>
            <p:cNvPr id="332" name=""/>
            <p:cNvSpPr/>
            <p:nvPr/>
          </p:nvSpPr>
          <p:spPr>
            <a:xfrm flipH="1">
              <a:off x="6019920" y="3352680"/>
              <a:ext cx="304560" cy="17528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3809880"/>
              <a:ext cx="1067040" cy="1524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09680" y="3200400"/>
            <a:ext cx="1752480" cy="2133720"/>
            <a:chOff x="2209680" y="3200400"/>
            <a:chExt cx="1752480" cy="2133720"/>
          </a:xfrm>
        </p:grpSpPr>
        <p:sp>
          <p:nvSpPr>
            <p:cNvPr id="335" name=""/>
            <p:cNvSpPr/>
            <p:nvPr/>
          </p:nvSpPr>
          <p:spPr>
            <a:xfrm flipH="1">
              <a:off x="2209680" y="3200400"/>
              <a:ext cx="990720" cy="1752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657240" y="3886200"/>
              <a:ext cx="304920" cy="14479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975-C9C8-44A0-A128-9F7027EDD7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1DA52-6640-4DD7-A557-D6C01722EC7B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COND-ORDE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IR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FEEDBACK TER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(z) can hav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&amp; ZER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PFs have POLES NEAR THE UNIT CIRC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2895480"/>
          <a:ext cx="825516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255160" cy="1276560"/>
                  </a:xfrm>
                  <a:prstGeom prst="rect">
                    <a:avLst/>
                  </a:prstGeom>
                  <a:ln w="3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F0C-6E32-4572-B27C-4A33975932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2CF01-C4B9-4F03-9F08-ED745F377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WO PARTS of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6324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RANSI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s Like (pole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es out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|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&lt;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397400" y="2057400"/>
          <a:ext cx="42894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7400" y="2057400"/>
                    <a:ext cx="4289400" cy="17971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307040" y="5084640"/>
          <a:ext cx="4721040" cy="16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5084640"/>
                    <a:ext cx="4721040" cy="16210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31640" y="3886200"/>
            <a:ext cx="8178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TEADY-STAT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s on the inpu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.g., Sinusoid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F07-7069-4039-8EFD-85E9820984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FEF5-B84D-44C1-866E-63AB7AEC9AAE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ADY STATE HAPPE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Transient dies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mit as “n” approaches infin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Frequency Response to get Magnitude &amp; Phase for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4419720"/>
          <a:ext cx="891540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9720"/>
                    <a:ext cx="8915400" cy="1631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400800" y="4572000"/>
            <a:ext cx="1676520" cy="1371600"/>
          </a:xfrm>
          <a:prstGeom prst="ellipse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AF8-DEDF-49F4-A5C2-E11F800DB6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DF5C0-2EB3-4F95-B7B7-6833D64C06D6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MERICAL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348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590920" y="5410080"/>
            <a:ext cx="60948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638680" y="6172200"/>
          <a:ext cx="21574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172200"/>
                    <a:ext cx="2157480" cy="3160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DC0-A656-4771-A25A-74C02E38957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0B444-6DEA-413E-B2E0-E783617A23A9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LISTIC FIR BANDPAS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 = 2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=23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3 zer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6324840" cy="53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9F8-0B6E-4777-8443-AE8ACF6F54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3B81A-0C14-4ABE-A9A9-0FC7369F3F34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BPF: 23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828800" y="1434960"/>
            <a:ext cx="5931000" cy="53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E60-44C0-48F3-A0CF-A10F20D225E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E8CF9-53CC-4F1F-A72B-37D7B1A8E481}" type="datetime1">
              <a:rPr lang="en-US"/>
              <a:t>07/29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14400" y="1380960"/>
            <a:ext cx="5791320" cy="5477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flipH="1">
            <a:off x="6324480" y="5486400"/>
            <a:ext cx="1067040" cy="838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858000" y="4572000"/>
                <a:ext cx="1981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6B0-86DB-45DF-A9B6-BA133156B6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A0E08-664C-4CC9-9B1E-53607099E726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&amp; ZEROS of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057400" y="1390680"/>
            <a:ext cx="5222880" cy="53150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67720" y="4267080"/>
            <a:ext cx="1253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PO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5E7-F552-4D6B-B804-BCE1F9720D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71655-5779-4477-B977-49BFF6D2BED5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IR Elliptic LPF  (N=3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066680" y="1395360"/>
            <a:ext cx="7353360" cy="5286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14640" y="3886200"/>
            <a:ext cx="1253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PO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EE0-DC75-4112-8AEF-C2B52C52ADD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BDF21-70CC-46E6-92E6-ABAE1ECE17F0}" type="datetime1">
              <a:rPr lang="en-US"/>
              <a:t>07/29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D 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-152280" y="531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92360" y="1239840"/>
            <a:ext cx="5943600" cy="56181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flipV="1">
            <a:off x="1387440" y="5410080"/>
            <a:ext cx="152388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480" y="5943600"/>
            <a:ext cx="17931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6200" y="1828800"/>
            <a:ext cx="3256200" cy="10688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ALUATE H(z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ERYWHER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172200" y="2286000"/>
          <a:ext cx="2825640" cy="12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82564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F1D-7F91-4632-8676-DC31F9A95E2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2F763-40D3-4A7F-A644-E6831505E9B8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34080" cy="4770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YING THRU Z-PLAN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45160" y="5105520"/>
            <a:ext cx="19746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S CAU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AKS in 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18240" y="2666880"/>
            <a:ext cx="7110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6840" y="373392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378-9C18-4209-B062-7E5489D8C0A2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9EA6D-8877-4282-B5CA-98C6CBAEE55A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47840" y="3587760"/>
          <a:ext cx="24908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7840" y="3587760"/>
                    <a:ext cx="2490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14600" y="4800600"/>
            <a:ext cx="396252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1676520"/>
            <a:ext cx="5888520" cy="3124080"/>
            <a:chOff x="2514600" y="1676520"/>
            <a:chExt cx="5888520" cy="3124080"/>
          </a:xfrm>
        </p:grpSpPr>
        <p:sp>
          <p:nvSpPr>
            <p:cNvPr id="99" name=""/>
            <p:cNvSpPr/>
            <p:nvPr/>
          </p:nvSpPr>
          <p:spPr>
            <a:xfrm>
              <a:off x="2669040" y="1676520"/>
              <a:ext cx="5734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: poles &amp;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2131920"/>
              <a:ext cx="3124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03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9040" y="1752480"/>
            <a:ext cx="209016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 H(z) to g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. Respon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28195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0880" y="2590920"/>
                <a:ext cx="27925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5791320" y="4419720"/>
            <a:ext cx="3276360" cy="2415960"/>
            <a:chOff x="5791320" y="4419720"/>
            <a:chExt cx="3276360" cy="2415960"/>
          </a:xfrm>
        </p:grpSpPr>
        <p:sp>
          <p:nvSpPr>
            <p:cNvPr id="109" name=""/>
            <p:cNvSpPr/>
            <p:nvPr/>
          </p:nvSpPr>
          <p:spPr>
            <a:xfrm>
              <a:off x="65541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791320" y="4910040"/>
                  <a:ext cx="3276360" cy="19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ℓ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ℓ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ℓ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"/>
          <p:cNvSpPr/>
          <p:nvPr/>
        </p:nvSpPr>
        <p:spPr>
          <a:xfrm>
            <a:off x="229320" y="4479840"/>
            <a:ext cx="2230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360" y="5029200"/>
                <a:ext cx="50421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FEF-213B-4973-9D3C-6354B65D95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5A87A-925A-41CA-8D34-E832278980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TAB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A9C-E49B-41FD-BB51-3C8A8E00F4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7DACC-A2ED-4C9D-B77C-630585A257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ECOND-ORDER FILTER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FEEDBACK TE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2606760"/>
            <a:ext cx="8381880" cy="1355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4402080"/>
            <a:ext cx="5732640" cy="1541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438280" y="2209680"/>
            <a:ext cx="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209680"/>
            <a:ext cx="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541-1015-4DD0-A1A2-CE8F559C16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1CC50-492F-49A7-9830-BFBE31A14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RE PO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nominator is QUADRAT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 Poles: RE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  COMPLEX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JUGA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064040"/>
            <a:ext cx="9144000" cy="2260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590920" cy="1216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graphicFrame>
        <p:nvGraphicFramePr>
          <p:cNvPr id="125" name=""/>
          <p:cNvGraphicFramePr/>
          <p:nvPr/>
        </p:nvGraphicFramePr>
        <p:xfrm>
          <a:off x="228600" y="3714840"/>
          <a:ext cx="792468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14840"/>
                    <a:ext cx="7924680" cy="13143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47C-9AF9-411A-A116-FF4C7C64B7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144B5-0DBA-40DF-9E31-D5704B7245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WO 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COMPLE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PO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Impulse Response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OSCILLATE vs. 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s on Pole Lo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ose to the Unit Circl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BANDPASS 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2520" y="2990880"/>
                <a:ext cx="4593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q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876920" y="2265480"/>
            <a:ext cx="3543120" cy="801720"/>
          </a:xfrm>
          <a:custGeom>
            <a:avLst/>
            <a:gdLst/>
            <a:ahLst/>
            <a:rect l="l" t="t" r="r" b="b"/>
            <a:pathLst>
              <a:path w="2328" h="505">
                <a:moveTo>
                  <a:pt x="0" y="217"/>
                </a:moveTo>
                <a:cubicBezTo>
                  <a:pt x="420" y="157"/>
                  <a:pt x="840" y="97"/>
                  <a:pt x="1200" y="73"/>
                </a:cubicBezTo>
                <a:cubicBezTo>
                  <a:pt x="1560" y="49"/>
                  <a:pt x="1991" y="0"/>
                  <a:pt x="2160" y="73"/>
                </a:cubicBezTo>
                <a:cubicBezTo>
                  <a:pt x="2328" y="145"/>
                  <a:pt x="2268" y="325"/>
                  <a:pt x="2208" y="5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57880" y="4681440"/>
          <a:ext cx="227664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7880" y="4681440"/>
                    <a:ext cx="2276640" cy="14335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6CD-9EB8-4107-8FCB-BD341897FB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737D6-F0D8-4CD5-AB4E-C8B688CA5E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8-11-30T13:48:12Z</cp:lastPrinted>
  <dcterms:modified xsi:type="dcterms:W3CDTF">2004-04-18T12:34:41Z</dcterms:modified>
  <cp:revision>376</cp:revision>
  <dc:subject/>
  <dc:title>SPFirst Lecture #1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