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31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4.png" ContentType="image/png"/>
  <Override PartName="/ppt/media/image1.png" ContentType="image/png"/>
  <Override PartName="/ppt/media/image2.wmf" ContentType="image/x-wmf"/>
  <Override PartName="/ppt/media/image29.png" ContentType="image/png"/>
  <Override PartName="/ppt/media/image32.wmf" ContentType="image/x-wmf"/>
  <Override PartName="/ppt/media/image26.wmf" ContentType="image/x-wmf"/>
  <Override PartName="/ppt/media/image3.wmf" ContentType="image/x-wmf"/>
  <Override PartName="/ppt/media/image27.wmf" ContentType="image/x-wmf"/>
  <Override PartName="/ppt/media/image4.wmf" ContentType="image/x-wmf"/>
  <Override PartName="/ppt/media/image5.wmf" ContentType="image/x-wmf"/>
  <Override PartName="/ppt/media/image14.wmf" ContentType="image/x-wmf"/>
  <Override PartName="/ppt/media/image6.png" ContentType="image/png"/>
  <Override PartName="/ppt/media/image36.png" ContentType="image/png"/>
  <Override PartName="/ppt/media/image51.png" ContentType="image/png"/>
  <Override PartName="/ppt/media/image38.png" ContentType="image/png"/>
  <Override PartName="/ppt/media/image30.wmf" ContentType="image/x-wmf"/>
  <Override PartName="/ppt/media/image42.wmf" ContentType="image/x-wmf"/>
  <Override PartName="/ppt/media/image43.wmf" ContentType="image/x-wmf"/>
  <Override PartName="/ppt/media/image33.png" ContentType="image/png"/>
  <Override PartName="/ppt/media/image44.wmf" ContentType="image/x-wmf"/>
  <Override PartName="/ppt/media/image34.png" ContentType="image/png"/>
  <Override PartName="/ppt/media/image45.wmf" ContentType="image/x-wmf"/>
  <Override PartName="/ppt/media/image25.png" ContentType="image/png"/>
  <Override PartName="/ppt/media/image35.png" ContentType="image/png"/>
  <Override PartName="/ppt/media/image46.wmf" ContentType="image/x-wmf"/>
  <Override PartName="/ppt/media/image52.png" ContentType="image/png"/>
  <Override PartName="/ppt/media/image49.png" ContentType="image/png"/>
  <Override PartName="/ppt/media/image12.png" ContentType="image/png"/>
  <Override PartName="/ppt/media/image7.wmf" ContentType="image/x-wmf"/>
  <Override PartName="/ppt/media/image37.wmf" ContentType="image/x-wmf"/>
  <Override PartName="/ppt/media/image40.png" ContentType="image/png"/>
  <Override PartName="/ppt/media/image8.wmf" ContentType="image/x-wmf"/>
  <Override PartName="/ppt/media/image53.wmf" ContentType="image/x-wmf"/>
  <Override PartName="/ppt/media/image13.png" ContentType="image/png"/>
  <Override PartName="/ppt/media/image11.wmf" ContentType="image/x-wmf"/>
  <Override PartName="/ppt/media/image50.png" ContentType="image/png"/>
  <Override PartName="/ppt/media/image48.wmf" ContentType="image/x-wmf"/>
  <Override PartName="/ppt/media/image9.wmf" ContentType="image/x-wmf"/>
  <Override PartName="/ppt/media/image41.png" ContentType="image/png"/>
  <Override PartName="/ppt/media/image39.wmf" ContentType="image/x-wmf"/>
  <Override PartName="/ppt/media/image10.wmf" ContentType="image/x-wmf"/>
  <Override PartName="/ppt/media/image4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326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B260-0B21-4577-AB4C-C13E60F7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A76D-B6B4-409B-A904-0221723C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46C9-0BC4-45AF-B19E-BBB44212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F784-B67A-4898-BDD6-6A4CC63B6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3441-4149-4BBB-BEA5-549504B33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9900-B682-4C76-A3D0-C71CD3FC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16E5-32A3-41C9-A523-D5C79855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7EAB-5F37-4B63-9789-DDC03E6B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8D09-00AC-41A6-84B0-986128E5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6B80-FDE2-40D4-8C67-0D1F9C3C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1FEF-D9BF-485D-8232-14898B3B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17EA-2DF9-415E-9581-9583EA6B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039F-1C7A-4E66-9E6A-D5E11A59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254E-ED8B-44D4-8B6C-870C6629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7DF9-E928-4200-BD83-C377AAA8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FAAB-4B38-4F56-9183-46B859495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7D28-01CB-47EF-B8F9-C225CF984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AA9D-D94D-4E0E-BAC6-0A2798C9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9776-9086-4C7F-B5B1-C486A884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858F-9C5C-4092-B727-4C935774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B075-2FA4-4DB4-BFDD-2C34FD24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40EE-A746-4E72-A80C-8FAE60DA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6F7A-F2FE-4203-B3D5-64DAA962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0534-C936-421A-BC1F-A2B8C596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1837-2D7A-460B-BFF0-4084E457D9E2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EFB9-4FCC-4780-89BB-2596DD72C777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D099-649A-4EC1-8677-56E13DCC0703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9516-780A-4EB4-BCE2-7472311681BC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1.0/" TargetMode="External"/><Relationship Id="rId2" Type="http://schemas.openxmlformats.org/officeDocument/2006/relationships/hyperlink" Target="http://creativecommons.org/licenses/by-nc-sa/1.0/legalcode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5.wmf"/><Relationship Id="rId1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2.wmf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wmf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Processing Firs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905120" y="3428640"/>
            <a:ext cx="68580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25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ampling and Reconstruc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(Fourier View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37D8-FDC9-4C88-BE3E-A54CCCB2A40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31140C2-C49F-4452-ABC0-23F2B7F4E32B}" type="datetime1">
              <a:rPr lang="en-US"/>
              <a:t>07/29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SpecgramQuadModGray" descr=""/>
          <p:cNvPicPr/>
          <p:nvPr/>
        </p:nvPicPr>
        <p:blipFill>
          <a:blip r:embed="rId1"/>
          <a:stretch/>
        </p:blipFill>
        <p:spPr>
          <a:xfrm>
            <a:off x="0" y="990720"/>
            <a:ext cx="7696080" cy="58197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Quadrature Modulation: 4 sig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5" name=""/>
          <p:cNvSpPr/>
          <p:nvPr/>
        </p:nvSpPr>
        <p:spPr>
          <a:xfrm>
            <a:off x="7773480" y="2286000"/>
            <a:ext cx="12232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8700 Hz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767000" y="4495680"/>
            <a:ext cx="12232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3600 Hz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2514600"/>
            <a:ext cx="685800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4724280"/>
            <a:ext cx="685800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4B2B-F250-49D6-BA62-25757BA45DC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358B70-4433-45AE-87BC-C18763170D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deal C-to-D Convert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6858000" cy="38289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athematical Model for A-to-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248520" y="3886200"/>
          <a:ext cx="2743200" cy="54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3886200"/>
                    <a:ext cx="2743200" cy="54936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74" name=""/>
          <p:cNvGrpSpPr/>
          <p:nvPr/>
        </p:nvGrpSpPr>
        <p:grpSpPr>
          <a:xfrm>
            <a:off x="3123720" y="3580920"/>
            <a:ext cx="5716080" cy="2461320"/>
            <a:chOff x="3123720" y="3580920"/>
            <a:chExt cx="5716080" cy="2461320"/>
          </a:xfrm>
        </p:grpSpPr>
        <p:sp>
          <p:nvSpPr>
            <p:cNvPr id="175" name=""/>
            <p:cNvSpPr/>
            <p:nvPr/>
          </p:nvSpPr>
          <p:spPr>
            <a:xfrm>
              <a:off x="6714360" y="4800600"/>
              <a:ext cx="2125440" cy="1241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FOURIER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TRANSFORM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of x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Arial"/>
                </a:rPr>
                <a:t>s</a:t>
              </a: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(t) ???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3123720" y="3580920"/>
              <a:ext cx="3581640" cy="16765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9719-CB82-4E4A-9B87-CF8D359E556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C40952-05AD-44C1-8CF1-77E1DCBD98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eriodic Impulse Trai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7315200" y="3962520"/>
          <a:ext cx="1371600" cy="9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5200" y="3962520"/>
                    <a:ext cx="1371600" cy="96516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81" name="impulseTrain_FT" descr=""/>
          <p:cNvPicPr/>
          <p:nvPr/>
        </p:nvPicPr>
        <p:blipFill>
          <a:blip r:embed="rId3"/>
          <a:stretch/>
        </p:blipFill>
        <p:spPr>
          <a:xfrm>
            <a:off x="533520" y="1050840"/>
            <a:ext cx="8076960" cy="2475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04920" y="3657600"/>
                <a:ext cx="647676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57200" y="5160960"/>
                <a:ext cx="510552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5720400" y="5334120"/>
            <a:ext cx="200340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Fourier Seri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B991-EC3B-4124-931E-1CFF0CC69F2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4BBF55-FC6A-45CE-B059-B7537997A6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T of Impulse Trai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8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52280" y="1066680"/>
                <a:ext cx="84582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↔</m:t>
                        </m:r>
                        <m:r>
                          <m:t xml:space="preserve"> </m:t>
                        </m:r>
                      </m:e>
                    </m:nary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ω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188" name="impulseTrain_FT" descr=""/>
          <p:cNvPicPr/>
          <p:nvPr/>
        </p:nvPicPr>
        <p:blipFill>
          <a:blip r:embed="rId1"/>
          <a:stretch/>
        </p:blipFill>
        <p:spPr>
          <a:xfrm>
            <a:off x="380880" y="2249640"/>
            <a:ext cx="6782040" cy="4532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7250040" y="2438280"/>
                <a:ext cx="151308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1A9E-70BA-4ADC-899B-97FAD1CF85D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90AEC6-BEA6-4DF9-861D-01F8BA5620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mpulse Train Sampling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62120" y="3886200"/>
            <a:ext cx="7772040" cy="1025280"/>
            <a:chOff x="762120" y="3886200"/>
            <a:chExt cx="7772040" cy="1025280"/>
          </a:xfrm>
        </p:grpSpPr>
        <p:graphicFrame>
          <p:nvGraphicFramePr>
            <p:cNvPr id="192" name=""/>
            <p:cNvGraphicFramePr/>
            <p:nvPr/>
          </p:nvGraphicFramePr>
          <p:xfrm>
            <a:off x="762120" y="3886200"/>
            <a:ext cx="7772040" cy="1025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120" y="3886200"/>
                      <a:ext cx="7772040" cy="102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4" name=""/>
            <p:cNvSpPr/>
            <p:nvPr/>
          </p:nvSpPr>
          <p:spPr>
            <a:xfrm>
              <a:off x="6267240" y="4627080"/>
              <a:ext cx="218592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905120" y="5219640"/>
            <a:ext cx="5714640" cy="1409400"/>
            <a:chOff x="1905120" y="5219640"/>
            <a:chExt cx="5714640" cy="1409400"/>
          </a:xfrm>
        </p:grpSpPr>
        <p:graphicFrame>
          <p:nvGraphicFramePr>
            <p:cNvPr id="196" name=""/>
            <p:cNvGraphicFramePr/>
            <p:nvPr/>
          </p:nvGraphicFramePr>
          <p:xfrm>
            <a:off x="1905120" y="5219640"/>
            <a:ext cx="5714640" cy="1409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05120" y="5219640"/>
                      <a:ext cx="5714640" cy="140940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98" name=""/>
            <p:cNvSpPr/>
            <p:nvPr/>
          </p:nvSpPr>
          <p:spPr>
            <a:xfrm>
              <a:off x="4426200" y="6240240"/>
              <a:ext cx="310932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pic>
        <p:nvPicPr>
          <p:cNvPr id="199" name="sys_Sampling" descr=""/>
          <p:cNvPicPr/>
          <p:nvPr/>
        </p:nvPicPr>
        <p:blipFill>
          <a:blip r:embed="rId5"/>
          <a:stretch/>
        </p:blipFill>
        <p:spPr>
          <a:xfrm>
            <a:off x="533520" y="1371600"/>
            <a:ext cx="4895640" cy="234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7458-C8A7-4ABD-9443-8F318EAE5F1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BBCFF-222B-4175-9387-9D53EDE0FE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sampled_signal_wave" descr=""/>
          <p:cNvPicPr/>
          <p:nvPr/>
        </p:nvPicPr>
        <p:blipFill>
          <a:blip r:embed="rId1"/>
          <a:stretch/>
        </p:blipFill>
        <p:spPr>
          <a:xfrm>
            <a:off x="685800" y="949320"/>
            <a:ext cx="6095880" cy="59086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llustration of Sampling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685800" y="1143000"/>
            <a:ext cx="1295280" cy="609480"/>
            <a:chOff x="685800" y="1143000"/>
            <a:chExt cx="1295280" cy="609480"/>
          </a:xfrm>
        </p:grpSpPr>
        <p:graphicFrame>
          <p:nvGraphicFramePr>
            <p:cNvPr id="203" name=""/>
            <p:cNvGraphicFramePr/>
            <p:nvPr/>
          </p:nvGraphicFramePr>
          <p:xfrm>
            <a:off x="685800" y="1143000"/>
            <a:ext cx="571680" cy="330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85800" y="1143000"/>
                      <a:ext cx="571680" cy="33012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05" name=""/>
            <p:cNvSpPr/>
            <p:nvPr/>
          </p:nvSpPr>
          <p:spPr>
            <a:xfrm>
              <a:off x="1219320" y="1447920"/>
              <a:ext cx="761760" cy="3045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aphicFrame>
        <p:nvGraphicFramePr>
          <p:cNvPr id="206" name=""/>
          <p:cNvGraphicFramePr/>
          <p:nvPr/>
        </p:nvGraphicFramePr>
        <p:xfrm>
          <a:off x="3276720" y="3962520"/>
          <a:ext cx="1904760" cy="380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76720" y="3962520"/>
                    <a:ext cx="1904760" cy="38088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334120" y="2897280"/>
                <a:ext cx="373356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583320" y="5794200"/>
                <a:ext cx="2746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670800" y="2514600"/>
                <a:ext cx="1918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520E-B024-4C9B-856D-2FA83FCDAC2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46C8F9-581B-4575-8060-6409208088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sys_Sampling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790960" cy="27702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ampling: Freq. Domai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13" name=""/>
          <p:cNvSpPr/>
          <p:nvPr/>
        </p:nvSpPr>
        <p:spPr>
          <a:xfrm>
            <a:off x="6482160" y="3276720"/>
            <a:ext cx="2405880" cy="13737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PEC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REQUENCY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HIFTING !!!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09480" y="4800600"/>
                <a:ext cx="7239240" cy="15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819520" y="2952720"/>
                <a:ext cx="304776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96EF-78BE-4F6C-B74A-ED8119A32A3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F5686E-FB90-4981-BD66-06367474F2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-Domain Analysi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33520" y="1828800"/>
          <a:ext cx="817884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28800"/>
                    <a:ext cx="817884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9" name=""/>
          <p:cNvGrpSpPr/>
          <p:nvPr/>
        </p:nvGrpSpPr>
        <p:grpSpPr>
          <a:xfrm>
            <a:off x="976320" y="3193920"/>
            <a:ext cx="7143840" cy="1017720"/>
            <a:chOff x="976320" y="3193920"/>
            <a:chExt cx="7143840" cy="1017720"/>
          </a:xfrm>
        </p:grpSpPr>
        <p:graphicFrame>
          <p:nvGraphicFramePr>
            <p:cNvPr id="220" name=""/>
            <p:cNvGraphicFramePr/>
            <p:nvPr/>
          </p:nvGraphicFramePr>
          <p:xfrm>
            <a:off x="976320" y="3193920"/>
            <a:ext cx="7143840" cy="1017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76320" y="3193920"/>
                      <a:ext cx="7143840" cy="101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2" name=""/>
            <p:cNvSpPr/>
            <p:nvPr/>
          </p:nvSpPr>
          <p:spPr>
            <a:xfrm>
              <a:off x="6553080" y="3886200"/>
              <a:ext cx="152424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295280" y="4649760"/>
            <a:ext cx="7467840" cy="1878120"/>
            <a:chOff x="1295280" y="4649760"/>
            <a:chExt cx="7467840" cy="1878120"/>
          </a:xfrm>
        </p:grpSpPr>
        <p:grpSp>
          <p:nvGrpSpPr>
            <p:cNvPr id="224" name=""/>
            <p:cNvGrpSpPr/>
            <p:nvPr/>
          </p:nvGrpSpPr>
          <p:grpSpPr>
            <a:xfrm>
              <a:off x="1295280" y="4649760"/>
              <a:ext cx="7467840" cy="1878120"/>
              <a:chOff x="1295280" y="4649760"/>
              <a:chExt cx="7467840" cy="1878120"/>
            </a:xfrm>
          </p:grpSpPr>
          <p:graphicFrame>
            <p:nvGraphicFramePr>
              <p:cNvPr id="225" name=""/>
              <p:cNvGraphicFramePr/>
              <p:nvPr/>
            </p:nvGraphicFramePr>
            <p:xfrm>
              <a:off x="1295280" y="4649760"/>
              <a:ext cx="6091200" cy="11797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26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295280" y="4649760"/>
                        <a:ext cx="6091200" cy="1179720"/>
                      </a:xfrm>
                      <a:prstGeom prst="rect">
                        <a:avLst/>
                      </a:prstGeom>
                      <a:ln w="38160">
                        <a:solidFill>
                          <a:srgbClr val="ff66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27" name=""/>
              <p:cNvGraphicFramePr/>
              <p:nvPr/>
            </p:nvGraphicFramePr>
            <p:xfrm>
              <a:off x="7391520" y="5562720"/>
              <a:ext cx="1371600" cy="9651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28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7391520" y="5562720"/>
                        <a:ext cx="1371600" cy="965160"/>
                      </a:xfrm>
                      <a:prstGeom prst="rect">
                        <a:avLst/>
                      </a:prstGeom>
                      <a:ln w="38160">
                        <a:solidFill>
                          <a:srgbClr val="ff66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229" name=""/>
            <p:cNvSpPr/>
            <p:nvPr/>
          </p:nvSpPr>
          <p:spPr>
            <a:xfrm>
              <a:off x="4572000" y="5486400"/>
              <a:ext cx="274320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 flipH="1">
            <a:off x="6324120" y="3886200"/>
            <a:ext cx="685800" cy="91440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F2FD-C3C9-465B-92DB-B9E0339D61C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71ABCD-47B1-422C-A617-E260C629C6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aliased1_signal_trans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839440" cy="16668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-Domain Representation of Sampling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600200" y="3222720"/>
          <a:ext cx="6172200" cy="119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3222720"/>
                    <a:ext cx="6172200" cy="11970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380880" y="173664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Typical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bandlimited signal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36" name="aliased2_signal_trans" descr=""/>
          <p:cNvPicPr/>
          <p:nvPr/>
        </p:nvPicPr>
        <p:blipFill>
          <a:blip r:embed="rId4"/>
          <a:stretch/>
        </p:blipFill>
        <p:spPr>
          <a:xfrm>
            <a:off x="152280" y="4495680"/>
            <a:ext cx="8839440" cy="237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8822-3204-46FD-B383-9A3432D7A30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3CE409-E470-47DB-AB67-B615286D3C0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Aliasing Distor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3029040"/>
            <a:ext cx="81788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f </a:t>
            </a:r>
            <a:r>
              <a:rPr b="0" i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&lt; 2</a:t>
            </a:r>
            <a:r>
              <a:rPr b="0" i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 baseline="-25000">
                <a:solidFill>
                  <a:srgbClr val="333399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the copies of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overlap, and we hav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liasing distortio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39" name="aliased3_signal_trans" descr=""/>
          <p:cNvPicPr/>
          <p:nvPr/>
        </p:nvPicPr>
        <p:blipFill>
          <a:blip r:embed="rId1"/>
          <a:stretch/>
        </p:blipFill>
        <p:spPr>
          <a:xfrm>
            <a:off x="304920" y="4343400"/>
            <a:ext cx="8686800" cy="2017800"/>
          </a:xfrm>
          <a:prstGeom prst="rect">
            <a:avLst/>
          </a:prstGeom>
          <a:ln w="0">
            <a:noFill/>
          </a:ln>
        </p:spPr>
      </p:pic>
      <p:pic>
        <p:nvPicPr>
          <p:cNvPr id="240" name="aliased1_signal_trans" descr=""/>
          <p:cNvPicPr/>
          <p:nvPr/>
        </p:nvPicPr>
        <p:blipFill>
          <a:blip r:embed="rId2"/>
          <a:stretch/>
        </p:blipFill>
        <p:spPr>
          <a:xfrm>
            <a:off x="304920" y="1333440"/>
            <a:ext cx="8686800" cy="16383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80880" y="160020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Typical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bandlimited signal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1978-B4EA-4030-8184-1BFF22ACC8B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AC9CE5-CF9A-4C0D-BACF-10EB6634F6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cense Info for SPFirst Slid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s work released under a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Creative Commons License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with the following term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trib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ust give the original authors credit.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-Commerci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ay not use the work for commercial purposes—unless they get the licensor's permission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e Alik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distribute derivative works only under a license identical to the one that governs the licensor's work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Full Text of the Licens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This (hidden) page should be kept with the present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F674-3B7E-41A7-B38E-BFB44580FD1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852B03-B476-40A9-9B50-DA7B7B860488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sys_Reconstruct" descr=""/>
          <p:cNvPicPr/>
          <p:nvPr/>
        </p:nvPicPr>
        <p:blipFill>
          <a:blip r:embed="rId1"/>
          <a:srcRect l="0" t="0" r="0" b="37572"/>
          <a:stretch/>
        </p:blipFill>
        <p:spPr>
          <a:xfrm>
            <a:off x="457200" y="1219320"/>
            <a:ext cx="8229600" cy="20574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construction of </a:t>
            </a:r>
            <a:r>
              <a:rPr b="0" i="1" lang="en-US" sz="4000" spc="-1" strike="noStrike">
                <a:solidFill>
                  <a:srgbClr val="0000cc"/>
                </a:solidFill>
                <a:latin typeface="Arial Black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(</a:t>
            </a:r>
            <a:r>
              <a:rPr b="0" i="1" lang="en-US" sz="4000" spc="-1" strike="noStrike">
                <a:solidFill>
                  <a:srgbClr val="0000cc"/>
                </a:solidFill>
                <a:latin typeface="Arial Black"/>
              </a:rPr>
              <a:t>t</a:t>
            </a: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514600" y="3124080"/>
          <a:ext cx="4572000" cy="97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3124080"/>
                    <a:ext cx="4572000" cy="97488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676520" y="4343400"/>
          <a:ext cx="5486400" cy="1063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6520" y="4343400"/>
                    <a:ext cx="5486400" cy="10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1828800" y="5638680"/>
          <a:ext cx="5181480" cy="54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28800" y="5638680"/>
                    <a:ext cx="5181480" cy="54612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6972-6DBF-4603-8C0F-BD26C69A557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530609-97C7-4389-B890-D134EB4E23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reconstruct_trans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5678280" cy="59436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 Black"/>
              </a:rPr>
              <a:t>Reconstruction: Frequency-Domain</a:t>
            </a:r>
            <a:endParaRPr b="0" lang="en-US" sz="36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5638680" y="2743200"/>
                <a:ext cx="335304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the copies of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do not overlap, so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53" name=""/>
          <p:cNvGrpSpPr/>
          <p:nvPr/>
        </p:nvGrpSpPr>
        <p:grpSpPr>
          <a:xfrm>
            <a:off x="304920" y="3276720"/>
            <a:ext cx="2286000" cy="761760"/>
            <a:chOff x="304920" y="3276720"/>
            <a:chExt cx="2286000" cy="761760"/>
          </a:xfrm>
        </p:grpSpPr>
        <p:sp>
          <p:nvSpPr>
            <p:cNvPr id="254" name=""/>
            <p:cNvSpPr/>
            <p:nvPr/>
          </p:nvSpPr>
          <p:spPr>
            <a:xfrm>
              <a:off x="1371600" y="3581280"/>
              <a:ext cx="1219320" cy="4572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aphicFrame>
          <p:nvGraphicFramePr>
            <p:cNvPr id="255" name=""/>
            <p:cNvGraphicFramePr/>
            <p:nvPr/>
          </p:nvGraphicFramePr>
          <p:xfrm>
            <a:off x="304920" y="3276720"/>
            <a:ext cx="1117440" cy="368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5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4920" y="3276720"/>
                      <a:ext cx="1117440" cy="3682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A7C7-1CDF-4A88-AB54-4C11067163E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F7327C-17A8-428B-BF0C-C086EEAFA0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ideal_BLht_Recon_Filter" descr=""/>
          <p:cNvPicPr/>
          <p:nvPr/>
        </p:nvPicPr>
        <p:blipFill>
          <a:blip r:embed="rId1"/>
          <a:stretch/>
        </p:blipFill>
        <p:spPr>
          <a:xfrm>
            <a:off x="1219320" y="4056120"/>
            <a:ext cx="6324480" cy="2589120"/>
          </a:xfrm>
          <a:prstGeom prst="rect">
            <a:avLst/>
          </a:prstGeom>
          <a:ln w="0">
            <a:noFill/>
          </a:ln>
        </p:spPr>
      </p:pic>
      <p:pic>
        <p:nvPicPr>
          <p:cNvPr id="258" name="ideal_BL_Recon_Filter" descr=""/>
          <p:cNvPicPr/>
          <p:nvPr/>
        </p:nvPicPr>
        <p:blipFill>
          <a:blip r:embed="rId2"/>
          <a:stretch/>
        </p:blipFill>
        <p:spPr>
          <a:xfrm>
            <a:off x="1600200" y="1371600"/>
            <a:ext cx="7467480" cy="242892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deal Reconstruction Filt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52280" y="4038480"/>
          <a:ext cx="2819520" cy="170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038480"/>
                    <a:ext cx="2819520" cy="170676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304920" y="1447920"/>
          <a:ext cx="3289320" cy="14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1447920"/>
                    <a:ext cx="3289320" cy="148572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64" name=""/>
          <p:cNvGrpSpPr/>
          <p:nvPr/>
        </p:nvGrpSpPr>
        <p:grpSpPr>
          <a:xfrm>
            <a:off x="4419720" y="4191120"/>
            <a:ext cx="2128680" cy="457200"/>
            <a:chOff x="4419720" y="4191120"/>
            <a:chExt cx="2128680" cy="457200"/>
          </a:xfrm>
        </p:grpSpPr>
        <p:graphicFrame>
          <p:nvGraphicFramePr>
            <p:cNvPr id="265" name=""/>
            <p:cNvGraphicFramePr/>
            <p:nvPr/>
          </p:nvGraphicFramePr>
          <p:xfrm>
            <a:off x="5181480" y="4191120"/>
            <a:ext cx="1366920" cy="399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6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181480" y="4191120"/>
                      <a:ext cx="1366920" cy="39996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67" name=""/>
            <p:cNvSpPr/>
            <p:nvPr/>
          </p:nvSpPr>
          <p:spPr>
            <a:xfrm flipH="1">
              <a:off x="4419720" y="4419720"/>
              <a:ext cx="761760" cy="2286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5028840" y="5280120"/>
            <a:ext cx="4115160" cy="914400"/>
            <a:chOff x="5028840" y="5280120"/>
            <a:chExt cx="4115160" cy="914400"/>
          </a:xfrm>
        </p:grpSpPr>
        <p:graphicFrame>
          <p:nvGraphicFramePr>
            <p:cNvPr id="269" name=""/>
            <p:cNvGraphicFramePr/>
            <p:nvPr/>
          </p:nvGraphicFramePr>
          <p:xfrm>
            <a:off x="5238720" y="5280120"/>
            <a:ext cx="3905280" cy="414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7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238720" y="5280120"/>
                      <a:ext cx="3905280" cy="41436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71" name=""/>
            <p:cNvSpPr/>
            <p:nvPr/>
          </p:nvSpPr>
          <p:spPr>
            <a:xfrm flipH="1">
              <a:off x="5028840" y="5661000"/>
              <a:ext cx="228600" cy="5335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2578-989C-4598-95F6-93F3F06F864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A20C1B-9F2C-49EA-9E7D-160A183C61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Reconstruc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7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457200" y="1905120"/>
          <a:ext cx="8178840" cy="101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05120"/>
                    <a:ext cx="8178840" cy="10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6" name=""/>
          <p:cNvGrpSpPr/>
          <p:nvPr/>
        </p:nvGrpSpPr>
        <p:grpSpPr>
          <a:xfrm>
            <a:off x="1671480" y="4267080"/>
            <a:ext cx="5808960" cy="1968120"/>
            <a:chOff x="1671480" y="4267080"/>
            <a:chExt cx="5808960" cy="1968120"/>
          </a:xfrm>
        </p:grpSpPr>
        <p:graphicFrame>
          <p:nvGraphicFramePr>
            <p:cNvPr id="277" name=""/>
            <p:cNvGraphicFramePr/>
            <p:nvPr/>
          </p:nvGraphicFramePr>
          <p:xfrm>
            <a:off x="1938240" y="4267080"/>
            <a:ext cx="5440320" cy="1352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38240" y="4267080"/>
                      <a:ext cx="5440320" cy="135252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79" name=""/>
            <p:cNvSpPr/>
            <p:nvPr/>
          </p:nvSpPr>
          <p:spPr>
            <a:xfrm>
              <a:off x="1671480" y="5775480"/>
              <a:ext cx="580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Ideal bandlimited interpolation formula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1905120" y="2514600"/>
            <a:ext cx="5181480" cy="1547640"/>
            <a:chOff x="1905120" y="2514600"/>
            <a:chExt cx="5181480" cy="1547640"/>
          </a:xfrm>
        </p:grpSpPr>
        <p:graphicFrame>
          <p:nvGraphicFramePr>
            <p:cNvPr id="281" name=""/>
            <p:cNvGraphicFramePr/>
            <p:nvPr/>
          </p:nvGraphicFramePr>
          <p:xfrm>
            <a:off x="1905120" y="3048120"/>
            <a:ext cx="4897440" cy="1014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8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05120" y="3048120"/>
                      <a:ext cx="4897440" cy="101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3" name=""/>
            <p:cNvSpPr/>
            <p:nvPr/>
          </p:nvSpPr>
          <p:spPr>
            <a:xfrm flipH="1">
              <a:off x="5334120" y="2514600"/>
              <a:ext cx="1752480" cy="8380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19720" y="2590920"/>
              <a:ext cx="685800" cy="6858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B726-5A7C-496E-90E5-0D5050BD23E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1E173A-6F04-4DFD-A8ED-1246D6D771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380880"/>
            <a:ext cx="8204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hannon Sampling Theore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“</a:t>
            </a: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SINC” Interpolatio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is the idea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ERFECT RECONSTRUC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f BANDLIMITED SIGNAL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52280" y="3414600"/>
            <a:ext cx="8763120" cy="29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4866-7CE8-4EDD-9611-611FA25A0F8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A48D27-14C1-408B-BCAB-C633698A29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construction in Time-Domai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89" name="reconst_wave2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495680" cy="4800600"/>
          </a:xfrm>
          <a:prstGeom prst="rect">
            <a:avLst/>
          </a:prstGeom>
          <a:ln w="0">
            <a:noFill/>
          </a:ln>
        </p:spPr>
      </p:pic>
      <p:pic>
        <p:nvPicPr>
          <p:cNvPr id="290" name="reconst_wave" descr=""/>
          <p:cNvPicPr/>
          <p:nvPr/>
        </p:nvPicPr>
        <p:blipFill>
          <a:blip r:embed="rId2"/>
          <a:stretch/>
        </p:blipFill>
        <p:spPr>
          <a:xfrm>
            <a:off x="0" y="1614600"/>
            <a:ext cx="4568760" cy="47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49E1-49C2-47CD-BE1E-8419F9FF557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3FD72-2949-4043-975C-69913891D0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deal C-to-D and D-to-C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686800" cy="24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3" name=""/>
          <p:cNvGraphicFramePr/>
          <p:nvPr/>
        </p:nvGraphicFramePr>
        <p:xfrm>
          <a:off x="1219320" y="4267080"/>
          <a:ext cx="1904760" cy="38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4267080"/>
                    <a:ext cx="1904760" cy="38124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4378320" y="3568680"/>
          <a:ext cx="4308480" cy="1155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78320" y="3568680"/>
                    <a:ext cx="4308480" cy="11556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1193400" y="4745160"/>
            <a:ext cx="18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Ideal Sampl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19160" y="4745160"/>
            <a:ext cx="374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Ideal bandlimited interpolato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5257800" y="5313240"/>
          <a:ext cx="3809880" cy="401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57800" y="5313240"/>
                    <a:ext cx="3809880" cy="40176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152280" y="5257800"/>
          <a:ext cx="4572000" cy="887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2280" y="5257800"/>
                    <a:ext cx="4572000" cy="8874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D025-6950-4345-989A-3B2C258B0C1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BEA6CE-717C-457E-AD45-042E7B75D59D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ECTURE OBJECTIV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ampling Theorem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Revisite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ENERAL: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in the FREQUENCY DOMAI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urier transform of sampled sign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construction from sampl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ading: Chap 12, Section 12-3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view of FT properti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volution </a:t>
            </a:r>
            <a:r>
              <a:rPr b="0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multiplic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requency shift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view of AM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51F9-30BB-44D8-84C1-5FC3AAF9E8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9F4A6-19D8-4256-BCA6-E7AD62B340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able of FT Properti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52480" y="3228840"/>
          <a:ext cx="5289840" cy="7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228840"/>
                    <a:ext cx="5289840" cy="7336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676520" y="4572000"/>
          <a:ext cx="562752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572000"/>
                    <a:ext cx="5627520" cy="7333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618840" y="2695680"/>
            <a:ext cx="2331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Delay Propert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0200" y="4038480"/>
            <a:ext cx="294084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requency Shift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676520" y="5638680"/>
          <a:ext cx="4647960" cy="700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5638680"/>
                    <a:ext cx="4647960" cy="70020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319680" y="5410080"/>
            <a:ext cx="126432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Scal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143000" y="1752480"/>
          <a:ext cx="6019920" cy="56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1752480"/>
                    <a:ext cx="6019920" cy="5619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4031-8350-419D-961C-70BD2986687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8A4CB5-8A3D-4BD6-B9EB-E32D830A5226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Amplitude Modulato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4495680"/>
            <a:ext cx="8178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x(t)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modulate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the amplitude of the cosine wave.  The result in the frequency-domain is two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HIFTED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copies of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X(j</a:t>
            </a:r>
            <a:r>
              <a:rPr b="0" i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76320" y="1676520"/>
            <a:ext cx="8121600" cy="198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4648320" y="1697040"/>
          <a:ext cx="3429000" cy="46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1697040"/>
                    <a:ext cx="3429000" cy="46368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04920" y="2482920"/>
          <a:ext cx="1181160" cy="425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2482920"/>
                    <a:ext cx="1181160" cy="42552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04920" y="1873080"/>
          <a:ext cx="571320" cy="330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1873080"/>
                    <a:ext cx="571320" cy="33048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447920" y="3112920"/>
          <a:ext cx="1904760" cy="468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447920" y="3112920"/>
                    <a:ext cx="1904760" cy="46836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352680" y="2438280"/>
          <a:ext cx="5715000" cy="1500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352680" y="2438280"/>
                    <a:ext cx="5715000" cy="150048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1061640" y="3505320"/>
            <a:ext cx="1910160" cy="703440"/>
            <a:chOff x="1061640" y="3505320"/>
            <a:chExt cx="1910160" cy="703440"/>
          </a:xfrm>
        </p:grpSpPr>
        <p:sp>
          <p:nvSpPr>
            <p:cNvPr id="116" name=""/>
            <p:cNvSpPr/>
            <p:nvPr/>
          </p:nvSpPr>
          <p:spPr>
            <a:xfrm>
              <a:off x="1061640" y="3809880"/>
              <a:ext cx="93060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Arial"/>
                </a:rPr>
                <a:t>Phase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1981080" y="3505320"/>
              <a:ext cx="990720" cy="4572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A33C-09E3-41FC-AFCB-C4D7EBC971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33DCDA-FAA6-4D19-9F49-0111E376B6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SBAM:  Frequency-Domai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30360" y="1676520"/>
            <a:ext cx="7980120" cy="47545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38080" y="1574640"/>
            <a:ext cx="2073240" cy="1191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ypical” bandlimite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nput signa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6240" y="3906720"/>
            <a:ext cx="2388960" cy="703800"/>
          </a:xfrm>
          <a:prstGeom prst="rect">
            <a:avLst/>
          </a:prstGeom>
          <a:solidFill>
            <a:srgbClr val="ffcc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Frequency-shifte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copi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28600" y="5165640"/>
                <a:ext cx="22096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ϕ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858000" y="5157720"/>
                <a:ext cx="21337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ϕ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5" name=""/>
          <p:cNvGrpSpPr/>
          <p:nvPr/>
        </p:nvGrpSpPr>
        <p:grpSpPr>
          <a:xfrm>
            <a:off x="3900240" y="4332240"/>
            <a:ext cx="4992120" cy="1382760"/>
            <a:chOff x="3900240" y="4332240"/>
            <a:chExt cx="4992120" cy="1382760"/>
          </a:xfrm>
        </p:grpSpPr>
        <p:grpSp>
          <p:nvGrpSpPr>
            <p:cNvPr id="126" name=""/>
            <p:cNvGrpSpPr/>
            <p:nvPr/>
          </p:nvGrpSpPr>
          <p:grpSpPr>
            <a:xfrm>
              <a:off x="6713640" y="4332240"/>
              <a:ext cx="2178720" cy="1214640"/>
              <a:chOff x="6713640" y="4332240"/>
              <a:chExt cx="2178720" cy="1214640"/>
            </a:xfrm>
          </p:grpSpPr>
          <p:sp>
            <p:nvSpPr>
              <p:cNvPr id="127" name=""/>
              <p:cNvSpPr/>
              <p:nvPr/>
            </p:nvSpPr>
            <p:spPr>
              <a:xfrm>
                <a:off x="6788520" y="4332240"/>
                <a:ext cx="2103840" cy="39888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333399"/>
                    </a:solidFill>
                    <a:latin typeface="Arial"/>
                  </a:rPr>
                  <a:t>Upper sideband</a:t>
                </a:r>
                <a:endParaRPr b="0" lang="en-US" sz="20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713640" y="4784760"/>
                <a:ext cx="380880" cy="76212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3900240" y="4424400"/>
              <a:ext cx="2271960" cy="1290600"/>
              <a:chOff x="3900240" y="4424400"/>
              <a:chExt cx="2271960" cy="1290600"/>
            </a:xfrm>
          </p:grpSpPr>
          <p:sp>
            <p:nvSpPr>
              <p:cNvPr id="130" name=""/>
              <p:cNvSpPr/>
              <p:nvPr/>
            </p:nvSpPr>
            <p:spPr>
              <a:xfrm>
                <a:off x="3900240" y="4424400"/>
                <a:ext cx="2117880" cy="39888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333399"/>
                    </a:solidFill>
                    <a:latin typeface="Arial"/>
                  </a:rPr>
                  <a:t>Lower sideband</a:t>
                </a:r>
                <a:endParaRPr b="0" lang="en-US" sz="20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10440" y="4876560"/>
                <a:ext cx="761760" cy="8384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1600200"/>
                <a:ext cx="11908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F13B-CDA2-4FB4-B65D-FE21D806A9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CA46C8-72B9-45CC-A2E4-125F0AA175DB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SBAM Demod Phase Synch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474040" cy="261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4952880" y="2209680"/>
          <a:ext cx="549360" cy="33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2209680"/>
                    <a:ext cx="549360" cy="331920"/>
                  </a:xfrm>
                  <a:prstGeom prst="rect">
                    <a:avLst/>
                  </a:prstGeom>
                  <a:ln w="9360">
                    <a:solidFill>
                      <a:srgbClr val="ffff6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8285040" y="2209680"/>
          <a:ext cx="478080" cy="331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85040" y="2209680"/>
                    <a:ext cx="478080" cy="331920"/>
                  </a:xfrm>
                  <a:prstGeom prst="rect">
                    <a:avLst/>
                  </a:prstGeom>
                  <a:ln w="9360">
                    <a:solidFill>
                      <a:srgbClr val="ffff6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480960" y="2209680"/>
          <a:ext cx="501840" cy="331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0960" y="2209680"/>
                    <a:ext cx="501840" cy="331920"/>
                  </a:xfrm>
                  <a:prstGeom prst="rect">
                    <a:avLst/>
                  </a:prstGeom>
                  <a:ln w="9360">
                    <a:solidFill>
                      <a:srgbClr val="ffff6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1600200" y="3505320"/>
          <a:ext cx="1027080" cy="355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00200" y="3505320"/>
                    <a:ext cx="1027080" cy="355320"/>
                  </a:xfrm>
                  <a:prstGeom prst="rect">
                    <a:avLst/>
                  </a:prstGeom>
                  <a:ln w="9360">
                    <a:solidFill>
                      <a:srgbClr val="ffff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3962520" y="1371600"/>
            <a:ext cx="3962160" cy="2743200"/>
          </a:xfrm>
          <a:prstGeom prst="rect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724280" y="3436920"/>
                <a:ext cx="15242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803240" y="2133720"/>
                <a:ext cx="23878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76200" y="5143680"/>
                <a:ext cx="8620200" cy="15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ϕ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ϕ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ϕ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ϕ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170160" y="4470480"/>
                <a:ext cx="58914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hat if 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1905120" y="5029200"/>
            <a:ext cx="5715000" cy="106668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F2EC-44E0-47D6-8AFF-49CB9BBEAF3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BDAA95-5881-4C01-90A0-D934C78C9BBA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rob_QuadMod1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7543800" cy="38098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Quadrature Modulato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388800" y="5302080"/>
            <a:ext cx="8061480" cy="947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TWO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signals on </a:t>
            </a:r>
            <a:r>
              <a:rPr b="1" i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ONE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channel:  “out of phase”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Can you “separate” them in the demodulator ?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572000" y="3886200"/>
                <a:ext cx="44956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A9B0-5F55-446D-B9BA-103195D2531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900A00-0BDF-4019-9811-13CD92C7715E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rob_QuadMod2" descr=""/>
          <p:cNvPicPr/>
          <p:nvPr/>
        </p:nvPicPr>
        <p:blipFill>
          <a:blip r:embed="rId1"/>
          <a:stretch/>
        </p:blipFill>
        <p:spPr>
          <a:xfrm>
            <a:off x="152280" y="1349280"/>
            <a:ext cx="7239240" cy="25653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emod: Quadrature Syste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914400" y="3200400"/>
                <a:ext cx="23623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52520" y="5322960"/>
                <a:ext cx="808200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ϕ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j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ϕ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ϕ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ϕ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248520" y="1752480"/>
                <a:ext cx="28288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if </m:t>
                    </m:r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562720" y="3124080"/>
                <a:ext cx="35226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if 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57200" y="4191120"/>
                <a:ext cx="744552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6629400" y="358128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6553080"/>
            <a:ext cx="12952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52880" y="5867280"/>
            <a:ext cx="16002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E300-A7F5-4A68-81FE-06F125E9289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0A641A-C73E-495C-B96B-5BF48F1E67FD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9T04:53:29Z</dcterms:created>
  <dc:creator>Jim McClellan</dc:creator>
  <dc:description/>
  <dc:language>en-US</dc:language>
  <cp:lastModifiedBy>Jim McClellan</cp:lastModifiedBy>
  <cp:lastPrinted>1999-11-02T00:50:16Z</cp:lastPrinted>
  <dcterms:modified xsi:type="dcterms:W3CDTF">2003-08-21T22:11:59Z</dcterms:modified>
  <cp:revision>490</cp:revision>
  <dc:subject/>
  <dc:title>SPFirst Lecture #2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users.ece.gatech.edu/mcclella</vt:lpwstr>
  </property>
  <property fmtid="{D5CDD505-2E9C-101B-9397-08002B2CF9AE}" pid="9" name="LinkColor">
    <vt:r8>16711782</vt:r8>
  </property>
  <property fmtid="{D5CDD505-2E9C-101B-9397-08002B2CF9AE}" pid="10" name="MailAddress">
    <vt:lpwstr>jim.mcclellan@ece.gatech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D: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