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51.wmf" ContentType="image/x-wmf"/>
  <Override PartName="/ppt/media/image48.png" ContentType="image/png"/>
  <Override PartName="/ppt/media/image46.wmf" ContentType="image/x-wmf"/>
  <Override PartName="/ppt/media/image45.wmf" ContentType="image/x-wmf"/>
  <Override PartName="/ppt/media/image44.png" ContentType="image/png"/>
  <Override PartName="/ppt/media/image43.wmf" ContentType="image/x-wmf"/>
  <Override PartName="/ppt/media/image42.wmf" ContentType="image/x-wmf"/>
  <Override PartName="/ppt/media/image14.wmf" ContentType="image/x-wmf"/>
  <Override PartName="/ppt/media/image18.wmf" ContentType="image/x-wmf"/>
  <Override PartName="/ppt/media/image20.wmf" ContentType="image/x-wmf"/>
  <Override PartName="/ppt/media/image57.wmf" ContentType="image/x-wmf"/>
  <Override PartName="/ppt/media/image58.wmf" ContentType="image/x-wmf"/>
  <Override PartName="/ppt/media/image21.wmf" ContentType="image/x-wmf"/>
  <Override PartName="/ppt/media/image19.wmf" ContentType="image/x-wmf"/>
  <Override PartName="/ppt/media/image61.wmf" ContentType="image/x-wmf"/>
  <Override PartName="/ppt/media/image22.wmf" ContentType="image/x-wmf"/>
  <Override PartName="/ppt/media/image59.wmf" ContentType="image/x-wmf"/>
  <Override PartName="/ppt/media/image23.png" ContentType="image/png"/>
  <Override PartName="/ppt/media/image63.wmf" ContentType="image/x-wmf"/>
  <Override PartName="/ppt/media/image1.png" ContentType="image/png"/>
  <Override PartName="/ppt/media/image71.wmf" ContentType="image/x-wmf"/>
  <Override PartName="/ppt/media/image29.wmf" ContentType="image/x-wmf"/>
  <Override PartName="/ppt/media/image72.wmf" ContentType="image/x-wmf"/>
  <Override PartName="/ppt/media/image2.png" ContentType="image/png"/>
  <Override PartName="/ppt/media/image16.wmf" ContentType="image/x-wmf"/>
  <Override PartName="/ppt/media/image70.png" ContentType="image/png"/>
  <Override PartName="/ppt/media/image68.wmf" ContentType="image/x-wmf"/>
  <Override PartName="/ppt/media/image31.wmf" ContentType="image/x-wmf"/>
  <Override PartName="/ppt/media/image69.wmf" ContentType="image/x-wmf"/>
  <Override PartName="/ppt/media/image32.wmf" ContentType="image/x-wmf"/>
  <Override PartName="/ppt/media/image67.wmf" ContentType="image/x-wmf"/>
  <Override PartName="/ppt/media/image27.png" ContentType="image/png"/>
  <Override PartName="/ppt/media/image30.wmf" ContentType="image/x-wmf"/>
  <Override PartName="/ppt/media/image28.wmf" ContentType="image/x-wmf"/>
  <Override PartName="/ppt/media/image65.wmf" ContentType="image/x-wmf"/>
  <Override PartName="/ppt/media/image64.wmf" ContentType="image/x-wmf"/>
  <Override PartName="/ppt/media/image66.wmf" ContentType="image/x-wmf"/>
  <Override PartName="/ppt/media/image26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10.wmf" ContentType="image/x-wmf"/>
  <Override PartName="/ppt/media/image47.wmf" ContentType="image/x-wmf"/>
  <Override PartName="/ppt/media/image15.wmf" ContentType="image/x-wmf"/>
  <Override PartName="/ppt/media/image6.png" ContentType="image/png"/>
  <Override PartName="/ppt/media/image40.wmf" ContentType="image/x-wmf"/>
  <Override PartName="/ppt/media/image41.wmf" ContentType="image/x-wmf"/>
  <Override PartName="/ppt/media/image7.png" ContentType="image/png"/>
  <Override PartName="/ppt/media/image3.png" ContentType="image/png"/>
  <Override PartName="/ppt/media/image33.png" ContentType="image/png"/>
  <Override PartName="/ppt/media/image54.png" ContentType="image/png"/>
  <Override PartName="/ppt/media/image11.wmf" ContentType="image/x-wmf"/>
  <Override PartName="/ppt/media/image8.wmf" ContentType="image/x-wmf"/>
  <Override PartName="/ppt/media/image17.png" ContentType="image/png"/>
  <Override PartName="/ppt/media/image5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60.wmf" ContentType="image/x-wmf"/>
  <Override PartName="/ppt/media/image3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007-C7DA-4218-B117-F88072FB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A3A-0B04-435F-8C97-FDB837CF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87E-D1E4-457E-B96C-37C670EC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744-16F6-46B7-8C61-2886D1A2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2AEE-32D3-41DA-BBA3-9F09F919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13DD-5029-4AC0-900C-04F02F6D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A47A-D1A2-4184-9EEC-6702F1A1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359C-D324-4CD9-9BEC-AF4AD766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E311-885F-4616-8C15-95A77D56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5EC0-F076-4AE5-B84F-0AEAF7A9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9899-ECA1-439D-AC7D-737DD18B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D8C-86CA-48DD-BFD0-DF2B8049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CD10-47F0-4286-BD5D-121DCB6E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77E6-B982-4AE4-951F-969B85E5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EB1C-4B36-4802-9E93-B78A523E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E3E9-AD95-4282-A871-189B6660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69E9-95A8-462F-9C24-F3E119DB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627-2385-47F8-B694-AC60E13F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D09-A3AE-4820-B4CE-16203327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DBE-3AD1-457D-841E-EB30AB6F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A5B-9098-4F61-A7C8-6238590D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DF6-842B-4409-BC1F-2E143429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88B-058E-4C37-940F-4FBDD8EA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347-C724-425E-8344-86CBB810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260F-1E2D-42F8-9F3F-C2F5232F1E6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4EAB-192E-4EC4-824D-7E6FABB6085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A437-075B-43B0-80CA-CF17FE116CA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FE5A-BB16-4330-9E0F-5B61EE42607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wmf"/><Relationship Id="rId1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2.wmf"/><Relationship Id="rId1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3.wmf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7040" y="3352680"/>
            <a:ext cx="655308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ourier Transfor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perti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5F52-2972-4E72-80A2-245F64A1D4A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DC71C49-677B-40ED-952D-1C912A3D52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16" name="impulse_FT" descr=""/>
          <p:cNvPicPr/>
          <p:nvPr/>
        </p:nvPicPr>
        <p:blipFill>
          <a:blip r:embed="rId1"/>
          <a:stretch/>
        </p:blipFill>
        <p:spPr>
          <a:xfrm>
            <a:off x="914400" y="1198440"/>
            <a:ext cx="7696080" cy="5545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8600" y="152280"/>
                <a:ext cx="86868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04920" y="1905120"/>
                <a:ext cx="14317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EAD-4779-4E3E-8962-10E943BAA2B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76950-35AA-4D99-A5E5-D8B1C67FAB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Fourier Transfor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16120" y="6008760"/>
                <a:ext cx="76658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838080" y="5029200"/>
                <a:ext cx="76201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838080" y="3449520"/>
                <a:ext cx="6934320" cy="14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2073240"/>
                <a:ext cx="64771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38080" y="890640"/>
                <a:ext cx="59756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5D2-D588-4775-B921-B7D71B95A87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4D206-331C-4A51-8FC9-EFE7D59777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26" name="cosine_FT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55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44440" y="304920"/>
                <a:ext cx="8766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4BE-C5AB-46DA-85D3-B2AA47EA193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E9250-D310-486C-8B51-E271C3265B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ourier Transform of a General Periodic Sign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s periodic with period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0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2438280"/>
                <a:ext cx="739908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62120" y="4038480"/>
                <a:ext cx="7589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refore, since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828800" y="5029200"/>
                <a:ext cx="566424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E02-48FC-471E-9494-B7FEF97C2A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A93A5-BDED-424D-B070-AA447C1135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quare Wave Signal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19047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685800" y="1523880"/>
            <a:ext cx="8128080" cy="1600200"/>
            <a:chOff x="685800" y="1523880"/>
            <a:chExt cx="8128080" cy="1600200"/>
          </a:xfrm>
        </p:grpSpPr>
        <p:graphicFrame>
          <p:nvGraphicFramePr>
            <p:cNvPr id="138" name=""/>
            <p:cNvGraphicFramePr/>
            <p:nvPr/>
          </p:nvGraphicFramePr>
          <p:xfrm>
            <a:off x="3733920" y="1523880"/>
            <a:ext cx="2171520" cy="38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33920" y="1523880"/>
                      <a:ext cx="2171520" cy="38124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"/>
            <p:cNvGraphicFramePr/>
            <p:nvPr/>
          </p:nvGraphicFramePr>
          <p:xfrm>
            <a:off x="6362640" y="2743200"/>
            <a:ext cx="34308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62640" y="2743200"/>
                      <a:ext cx="34308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685800" y="2743200"/>
            <a:ext cx="72396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5800" y="2743200"/>
                      <a:ext cx="72396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2514600" y="2743200"/>
            <a:ext cx="5587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14600" y="2743200"/>
                      <a:ext cx="558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8001000" y="2743200"/>
            <a:ext cx="53352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01000" y="2743200"/>
                      <a:ext cx="533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4572000" y="2743200"/>
            <a:ext cx="203040" cy="279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72000" y="274320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8686800" y="2666880"/>
            <a:ext cx="127080" cy="241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8686800" y="2666880"/>
                      <a:ext cx="127080" cy="2415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2" name=""/>
          <p:cNvGraphicFramePr/>
          <p:nvPr/>
        </p:nvGraphicFramePr>
        <p:xfrm>
          <a:off x="838080" y="5214960"/>
          <a:ext cx="7543800" cy="1465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38080" y="5214960"/>
                    <a:ext cx="75438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914400" y="3695760"/>
          <a:ext cx="7543800" cy="1388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3695760"/>
                    <a:ext cx="75438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640-CFFC-4ADB-9A24-6345FA474D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84625-2622-448D-883D-B4E993ADC0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1762200"/>
            <a:ext cx="8686800" cy="48672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quare Wave Fourier Transfor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34120" y="3933720"/>
          <a:ext cx="380988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933720"/>
                    <a:ext cx="3809880" cy="8524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2" name=""/>
          <p:cNvGrpSpPr/>
          <p:nvPr/>
        </p:nvGrpSpPr>
        <p:grpSpPr>
          <a:xfrm>
            <a:off x="457200" y="1828800"/>
            <a:ext cx="8203680" cy="1600200"/>
            <a:chOff x="457200" y="1828800"/>
            <a:chExt cx="8203680" cy="1600200"/>
          </a:xfrm>
        </p:grpSpPr>
        <p:graphicFrame>
          <p:nvGraphicFramePr>
            <p:cNvPr id="163" name=""/>
            <p:cNvGraphicFramePr/>
            <p:nvPr/>
          </p:nvGraphicFramePr>
          <p:xfrm>
            <a:off x="457200" y="1828800"/>
            <a:ext cx="217152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1828800"/>
                      <a:ext cx="2171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5943240" y="3048120"/>
            <a:ext cx="34272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943240" y="3048120"/>
                      <a:ext cx="342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723600" y="3048120"/>
            <a:ext cx="72360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23600" y="3048120"/>
                      <a:ext cx="72360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2412720" y="3048120"/>
            <a:ext cx="55836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412720" y="3048120"/>
                      <a:ext cx="55836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7543440" y="3048120"/>
            <a:ext cx="533160" cy="380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543440" y="3048120"/>
                      <a:ext cx="53316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4343040" y="3073320"/>
            <a:ext cx="203040" cy="2793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343040" y="307332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8534160" y="3048120"/>
            <a:ext cx="126720" cy="2412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534160" y="3048120"/>
                      <a:ext cx="126720" cy="241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434-5511-45F5-ACAF-972760614B1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305B7-0096-4483-AD75-41F766BBDD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Easy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3520" y="2057400"/>
          <a:ext cx="800100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001000" cy="5493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752480" y="3228840"/>
          <a:ext cx="5289840" cy="7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228840"/>
                    <a:ext cx="5289840" cy="733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676520" y="4572000"/>
          <a:ext cx="562752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572000"/>
                    <a:ext cx="5627520" cy="733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41080" y="2700360"/>
            <a:ext cx="2331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elay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2240" y="4043520"/>
            <a:ext cx="29408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requency Shift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4720" y="1528920"/>
            <a:ext cx="27896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Linearity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76520" y="5638680"/>
          <a:ext cx="4647960" cy="7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638680"/>
                    <a:ext cx="4647960" cy="700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10680" y="5415120"/>
            <a:ext cx="126432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43F-3EFD-49C7-83CA-E7B281EF39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1DB7D-D8F3-4D5C-9944-6D45E25105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cal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82760" y="5505480"/>
                <a:ext cx="79516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hrinks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an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74720" y="2438280"/>
                <a:ext cx="7215120" cy="28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dλ</m:t>
                                </m:r>
                              </m:num>
                              <m:den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den>
                            </m:f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593800" y="1447920"/>
                <a:ext cx="3881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)</m:t>
                    </m:r>
                    <m:r>
                      <m:t xml:space="preserve">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85C-0797-46F5-8F28-BBCC917102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48CE1-B5CB-4E5C-A922-6FFF9F0C7A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cal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3520" y="2257560"/>
            <a:ext cx="7772400" cy="44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62320" y="1219320"/>
                <a:ext cx="38811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)</m:t>
                    </m:r>
                    <m:r>
                      <m:t xml:space="preserve">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124080" y="4838760"/>
                <a:ext cx="2590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EF5-E060-438E-9902-879D792762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E3A38-E35D-4C3E-9054-3406591305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Uncertainty Princi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y to make x(t) shor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n X(j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 will get wide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rrow pulses have wide bandwidth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y to make X(j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 narrow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n x(t) will have longer dur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Cannot simultaneously reduce time duration and bandwidt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60F-C319-4974-9B21-A3464E85D4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9058A-E38C-4CBE-9113-AC7D6C96AE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442-80E1-4A50-A711-E22EAA447D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9EC43-9322-45FC-835A-1E6ED87EFD77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ificant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43000" y="1752480"/>
          <a:ext cx="601992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6019920" cy="561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276720" y="3886200"/>
          <a:ext cx="480060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86200"/>
                    <a:ext cx="4800600" cy="625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143000" y="2819520"/>
          <a:ext cx="647712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819520"/>
                    <a:ext cx="6477120" cy="9619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309960" y="5008680"/>
            <a:ext cx="5405040" cy="1620720"/>
            <a:chOff x="309960" y="5008680"/>
            <a:chExt cx="5405040" cy="1620720"/>
          </a:xfrm>
        </p:grpSpPr>
        <p:graphicFrame>
          <p:nvGraphicFramePr>
            <p:cNvPr id="210" name=""/>
            <p:cNvGraphicFramePr/>
            <p:nvPr/>
          </p:nvGraphicFramePr>
          <p:xfrm>
            <a:off x="1523880" y="5508720"/>
            <a:ext cx="4191120" cy="1120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3880" y="5508720"/>
                      <a:ext cx="4191120" cy="1120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309960" y="5008680"/>
              <a:ext cx="3587040" cy="459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Differentiation Propert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5CF-03D2-4AD8-8B17-59093C0FBF8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13589-8AFB-40DB-9550-AD1A38CCAA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olution in the time-domai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rresponds to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MULTIPLIC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n the frequency-domai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5040" y="1523880"/>
            <a:ext cx="8280360" cy="204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1981080" y="4267080"/>
          <a:ext cx="4953240" cy="95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4267080"/>
                    <a:ext cx="4953240" cy="9590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724280" y="5972040"/>
          <a:ext cx="3962520" cy="42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5972040"/>
                    <a:ext cx="3962520" cy="4287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323040" y="1981080"/>
          <a:ext cx="2516040" cy="39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23040" y="1981080"/>
                    <a:ext cx="2516040" cy="3906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838080" y="1981080"/>
          <a:ext cx="609840" cy="35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1981080"/>
                    <a:ext cx="609840" cy="3524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334120" y="3124080"/>
          <a:ext cx="3504960" cy="37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34120" y="3124080"/>
                    <a:ext cx="3504960" cy="3780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838080" y="3124080"/>
          <a:ext cx="1143000" cy="411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8080" y="3124080"/>
                    <a:ext cx="1143000" cy="4111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85A-D410-4E49-ABE1-A0704FAAB8A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9D274-6F4A-4217-9DBB-6E7FB1B5F9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dlimited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pu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ign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nc” func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deal LPF (Lowpass Filter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a “sinc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s Bandlimite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olve “sincs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CFD-AE15-47DF-9BF8-325DE1B5790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4E982-CA09-4B4F-8823-991A50C3FB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ly Bandlimited Sign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62120" y="1066680"/>
                <a:ext cx="723888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32" name="pulse_trans" descr=""/>
          <p:cNvPicPr/>
          <p:nvPr/>
        </p:nvPicPr>
        <p:blipFill>
          <a:blip r:embed="rId1"/>
          <a:stretch/>
        </p:blipFill>
        <p:spPr>
          <a:xfrm>
            <a:off x="1447920" y="2519280"/>
            <a:ext cx="6172200" cy="426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33520" y="3124080"/>
                <a:ext cx="16221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A56-9080-4BAB-8A4E-F9519F37BFA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E3D26-D3FD-4D4D-A238-0E7C816036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28600" y="4064040"/>
            <a:ext cx="8686800" cy="273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990720" y="2684520"/>
          <a:ext cx="5146560" cy="120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684520"/>
                    <a:ext cx="514656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676520" y="1693800"/>
          <a:ext cx="5532480" cy="51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1693800"/>
                    <a:ext cx="5532480" cy="515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364440" y="2684520"/>
          <a:ext cx="2170080" cy="1201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64440" y="2684520"/>
                    <a:ext cx="21700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AEE-5B9A-4671-89FE-01A1C37C7E6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B4352-68B9-4A59-9739-BB9045A08B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sine Input to LTI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55680" y="1747800"/>
          <a:ext cx="8636040" cy="20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1747800"/>
                    <a:ext cx="863604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80880" y="4191120"/>
          <a:ext cx="8534520" cy="21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191120"/>
                    <a:ext cx="85345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752480" y="2209680"/>
            <a:ext cx="335304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37339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2D2-D2F2-45AC-B11C-AA7627C09AE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CF3AC-A886-4ACF-A054-C62C72031D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934040" cy="284004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2558880" y="2209680"/>
            <a:ext cx="5975640" cy="2286000"/>
            <a:chOff x="2558880" y="2209680"/>
            <a:chExt cx="5975640" cy="2286000"/>
          </a:xfrm>
        </p:grpSpPr>
        <p:grpSp>
          <p:nvGrpSpPr>
            <p:cNvPr id="252" name=""/>
            <p:cNvGrpSpPr/>
            <p:nvPr/>
          </p:nvGrpSpPr>
          <p:grpSpPr>
            <a:xfrm>
              <a:off x="2971440" y="2209680"/>
              <a:ext cx="3429360" cy="1828800"/>
              <a:chOff x="2971440" y="2209680"/>
              <a:chExt cx="3429360" cy="182880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2971800" y="2209680"/>
                <a:ext cx="0" cy="18288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6400800" y="2209680"/>
                <a:ext cx="0" cy="18288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2971440" y="2209680"/>
                <a:ext cx="342900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6" name=""/>
            <p:cNvGraphicFramePr/>
            <p:nvPr/>
          </p:nvGraphicFramePr>
          <p:xfrm>
            <a:off x="7010280" y="2209680"/>
            <a:ext cx="1524240" cy="54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10280" y="2209680"/>
                      <a:ext cx="1524240" cy="5400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58" name=""/>
            <p:cNvSpPr/>
            <p:nvPr/>
          </p:nvSpPr>
          <p:spPr>
            <a:xfrm flipH="1">
              <a:off x="6400440" y="2514600"/>
              <a:ext cx="609480" cy="304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259" name=""/>
            <p:cNvGraphicFramePr/>
            <p:nvPr/>
          </p:nvGraphicFramePr>
          <p:xfrm>
            <a:off x="6235560" y="4114800"/>
            <a:ext cx="54612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35560" y="4114800"/>
                      <a:ext cx="5461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" name=""/>
            <p:cNvGraphicFramePr/>
            <p:nvPr/>
          </p:nvGraphicFramePr>
          <p:xfrm>
            <a:off x="2558880" y="4114800"/>
            <a:ext cx="76212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58880" y="4114800"/>
                      <a:ext cx="7621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3" name=""/>
          <p:cNvGraphicFramePr/>
          <p:nvPr/>
        </p:nvGraphicFramePr>
        <p:xfrm>
          <a:off x="2133720" y="4724280"/>
          <a:ext cx="5715000" cy="595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4724280"/>
                    <a:ext cx="57150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116080" y="5638680"/>
          <a:ext cx="5140440" cy="595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16080" y="5638680"/>
                    <a:ext cx="51404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B1D-6684-44D6-97F9-456275D16BC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BFC92-4B1C-42D7-AA8B-8D0F38A109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rcRect l="0" t="42928" r="0" b="0"/>
          <a:stretch/>
        </p:blipFill>
        <p:spPr>
          <a:xfrm>
            <a:off x="380880" y="1530360"/>
            <a:ext cx="8077320" cy="25844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388620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14400" y="4500720"/>
            <a:ext cx="6781680" cy="23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2529000" y="4114800"/>
          <a:ext cx="34779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9000" y="4114800"/>
                    <a:ext cx="3477960" cy="565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73" name=""/>
          <p:cNvGrpSpPr/>
          <p:nvPr/>
        </p:nvGrpSpPr>
        <p:grpSpPr>
          <a:xfrm>
            <a:off x="5943600" y="2463840"/>
            <a:ext cx="2895480" cy="1193760"/>
            <a:chOff x="5943600" y="2463840"/>
            <a:chExt cx="2895480" cy="1193760"/>
          </a:xfrm>
        </p:grpSpPr>
        <p:graphicFrame>
          <p:nvGraphicFramePr>
            <p:cNvPr id="274" name=""/>
            <p:cNvGraphicFramePr/>
            <p:nvPr/>
          </p:nvGraphicFramePr>
          <p:xfrm>
            <a:off x="6400800" y="2463840"/>
            <a:ext cx="2438280" cy="428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00800" y="2463840"/>
                      <a:ext cx="2438280" cy="428760"/>
                    </a:xfrm>
                    <a:prstGeom prst="rect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76" name=""/>
            <p:cNvSpPr/>
            <p:nvPr/>
          </p:nvSpPr>
          <p:spPr>
            <a:xfrm flipH="1">
              <a:off x="5943600" y="2895480"/>
              <a:ext cx="425520" cy="762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819520" y="990720"/>
            <a:ext cx="6172200" cy="2666880"/>
            <a:chOff x="2819520" y="990720"/>
            <a:chExt cx="6172200" cy="2666880"/>
          </a:xfrm>
        </p:grpSpPr>
        <p:sp>
          <p:nvSpPr>
            <p:cNvPr id="278" name=""/>
            <p:cNvSpPr/>
            <p:nvPr/>
          </p:nvSpPr>
          <p:spPr>
            <a:xfrm flipV="1">
              <a:off x="2819520" y="2057040"/>
              <a:ext cx="0" cy="1600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9520" y="2057400"/>
              <a:ext cx="31240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43600" y="2057400"/>
              <a:ext cx="0" cy="1600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943240" y="1905120"/>
              <a:ext cx="76212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282" name=""/>
            <p:cNvGraphicFramePr/>
            <p:nvPr/>
          </p:nvGraphicFramePr>
          <p:xfrm>
            <a:off x="5715000" y="990720"/>
            <a:ext cx="3276720" cy="931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990720"/>
                      <a:ext cx="3276720" cy="931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458-E90F-424F-A373-07593C5BD70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A1D48-8A1C-4B62-B864-3C316BBBC3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Multiplier (Modulator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ication in the time-domain corresponds to convolution in the frequency-domain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391520" cy="229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"/>
          <p:cNvGraphicFramePr/>
          <p:nvPr/>
        </p:nvGraphicFramePr>
        <p:xfrm>
          <a:off x="5105520" y="2514600"/>
          <a:ext cx="377172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514600"/>
                    <a:ext cx="3771720" cy="6224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5410080" y="1828800"/>
          <a:ext cx="2286000" cy="38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1828800"/>
                    <a:ext cx="2286000" cy="3826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914400" y="2514600"/>
          <a:ext cx="1181160" cy="42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2514600"/>
                    <a:ext cx="1181160" cy="4255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1066680" y="1905120"/>
          <a:ext cx="571680" cy="33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6680" y="1905120"/>
                    <a:ext cx="571680" cy="330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581280" y="3124080"/>
          <a:ext cx="5968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81280" y="3124080"/>
                    <a:ext cx="596880" cy="3430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1371600" y="5397480"/>
          <a:ext cx="6553080" cy="123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71600" y="5397480"/>
                    <a:ext cx="6553080" cy="12319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3FA-EC64-40C8-80B6-9F6EDDCD3D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FF9F6-08B4-46C4-878B-E01EBA4E4C9E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Shift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23880" y="1752480"/>
          <a:ext cx="5627880" cy="7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5627880" cy="733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189000" y="5486400"/>
          <a:ext cx="857412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000" y="5486400"/>
                    <a:ext cx="8574120" cy="11793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04920" y="2610000"/>
                <a:ext cx="8305560" cy="25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D31-2169-47E6-B93F-5D2F4A797EE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57A0A-189D-4FF7-AC72-75751B07BC99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11, Sects. 11-5 to 11-9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ables in Section 11-9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apter 11, Sects. 11-1 to 11-9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s: Chapter 12 (Application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F41-F9A2-40F7-8CD6-AC7B710B63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8C380-67A1-4FB7-A133-29D81029FA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18600" cy="484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1025640" y="76320"/>
          <a:ext cx="7584840" cy="13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5640" y="76320"/>
                    <a:ext cx="7584840" cy="1326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09" name=""/>
          <p:cNvGrpSpPr/>
          <p:nvPr/>
        </p:nvGrpSpPr>
        <p:grpSpPr>
          <a:xfrm>
            <a:off x="2514600" y="1600200"/>
            <a:ext cx="5562720" cy="1218960"/>
            <a:chOff x="2514600" y="1600200"/>
            <a:chExt cx="5562720" cy="1218960"/>
          </a:xfrm>
        </p:grpSpPr>
        <p:sp>
          <p:nvSpPr>
            <p:cNvPr id="310" name=""/>
            <p:cNvSpPr/>
            <p:nvPr/>
          </p:nvSpPr>
          <p:spPr>
            <a:xfrm flipV="1">
              <a:off x="2514600" y="213336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629400" y="213336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600" y="2133720"/>
              <a:ext cx="4114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313" name=""/>
            <p:cNvGraphicFramePr/>
            <p:nvPr/>
          </p:nvGraphicFramePr>
          <p:xfrm>
            <a:off x="7238880" y="1600200"/>
            <a:ext cx="838440" cy="484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238880" y="1600200"/>
                      <a:ext cx="838440" cy="484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5" name=""/>
            <p:cNvSpPr/>
            <p:nvPr/>
          </p:nvSpPr>
          <p:spPr>
            <a:xfrm flipH="1">
              <a:off x="6629040" y="1828800"/>
              <a:ext cx="60948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C698-8119-41EC-BDE8-C3B5F26F4F9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A43D3-0D0B-443D-80D4-5C4C88852CA2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fferentia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09480" y="1752480"/>
          <a:ext cx="624852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6248520" cy="25718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04920" y="4495680"/>
          <a:ext cx="6095880" cy="16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495680"/>
                    <a:ext cx="6095880" cy="16876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21" name=""/>
          <p:cNvGrpSpPr/>
          <p:nvPr/>
        </p:nvGrpSpPr>
        <p:grpSpPr>
          <a:xfrm>
            <a:off x="6858000" y="3200400"/>
            <a:ext cx="2057400" cy="2790720"/>
            <a:chOff x="6858000" y="3200400"/>
            <a:chExt cx="2057400" cy="2790720"/>
          </a:xfrm>
        </p:grpSpPr>
        <p:graphicFrame>
          <p:nvGraphicFramePr>
            <p:cNvPr id="322" name=""/>
            <p:cNvGraphicFramePr/>
            <p:nvPr/>
          </p:nvGraphicFramePr>
          <p:xfrm>
            <a:off x="6858000" y="4800600"/>
            <a:ext cx="2057400" cy="1190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0" y="4800600"/>
                      <a:ext cx="2057400" cy="1190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24" name=""/>
            <p:cNvSpPr/>
            <p:nvPr/>
          </p:nvSpPr>
          <p:spPr>
            <a:xfrm>
              <a:off x="7772400" y="3200400"/>
              <a:ext cx="457200" cy="16765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961680" y="2685960"/>
            <a:ext cx="1985040" cy="459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Multiply by j</a:t>
            </a:r>
            <a:r>
              <a:rPr b="1" i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1280" y="2806560"/>
            <a:ext cx="3353040" cy="622440"/>
          </a:xfrm>
          <a:custGeom>
            <a:avLst/>
            <a:gdLst/>
            <a:ahLst/>
            <a:rect l="l" t="t" r="r" b="b"/>
            <a:pathLst>
              <a:path w="2112" h="392">
                <a:moveTo>
                  <a:pt x="2112" y="104"/>
                </a:moveTo>
                <a:cubicBezTo>
                  <a:pt x="1736" y="84"/>
                  <a:pt x="1360" y="64"/>
                  <a:pt x="1056" y="56"/>
                </a:cubicBezTo>
                <a:cubicBezTo>
                  <a:pt x="752" y="48"/>
                  <a:pt x="464" y="0"/>
                  <a:pt x="288" y="56"/>
                </a:cubicBezTo>
                <a:cubicBezTo>
                  <a:pt x="112" y="112"/>
                  <a:pt x="56" y="252"/>
                  <a:pt x="0" y="392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F6F-439C-42CD-9DBA-409BB3C690A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6A850-2915-4F93-A915-CBBB5CD4944C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304920" y="1676520"/>
          <a:ext cx="8485200" cy="11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4852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57200" y="3014640"/>
          <a:ext cx="817884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014640"/>
                    <a:ext cx="817884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04920" y="380880"/>
          <a:ext cx="8493120" cy="83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80880"/>
                    <a:ext cx="8493120" cy="831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344520" y="4278240"/>
          <a:ext cx="8723160" cy="143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4520" y="4278240"/>
                    <a:ext cx="872316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066680" y="5867280"/>
          <a:ext cx="7500960" cy="79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5867280"/>
                    <a:ext cx="7500960" cy="7905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CB7D-44C0-48F1-9D1B-FFE46C7B36FF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29758-67B2-4060-95C8-FBFB3287806B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lay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97120" y="1600200"/>
          <a:ext cx="559440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7120" y="1600200"/>
                    <a:ext cx="5594400" cy="776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28600" y="2790720"/>
          <a:ext cx="861048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790720"/>
                    <a:ext cx="861048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609480" y="5335560"/>
          <a:ext cx="7925040" cy="12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335560"/>
                    <a:ext cx="792504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61E-6635-4BB0-903B-44302FECDB3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E9484-E93D-469C-A4F3-978BB7B4B0D0}" type="datetime1">
              <a:rPr lang="en-US"/>
              <a:t>07/29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rategy for using the F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 a set of known Fourier transform pairs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 a set of “theorems” or properties of the Fourier transform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 skill in formulating the problem in either the time-domain or the frequency-domain,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hich ever leads to the simplest solu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96D-7CA1-4DC8-8B30-70000E0BA8C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DA15A-C533-47DA-8B27-374E4D95814A}" type="datetime1">
              <a:rPr lang="en-US"/>
              <a:t>07/29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T of Impulse Tr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periodic impulse train 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143000" y="2362320"/>
          <a:ext cx="63882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62320"/>
                    <a:ext cx="63882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914400" y="3805200"/>
          <a:ext cx="7620120" cy="14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805200"/>
                    <a:ext cx="76201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1227240" y="5348160"/>
          <a:ext cx="6773760" cy="135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27240" y="5348160"/>
                    <a:ext cx="6773760" cy="13575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6669000" y="3276720"/>
          <a:ext cx="2475000" cy="52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9000" y="3276720"/>
                    <a:ext cx="2475000" cy="5270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3B9-8645-4B93-8EDA-0C6B5A62A54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E3615-9FA2-4897-BA0D-50F43DF1535B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 2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458200" cy="51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5181480" y="1600200"/>
          <a:ext cx="3149640" cy="9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600200"/>
                    <a:ext cx="3149640" cy="939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6172200" y="3429000"/>
          <a:ext cx="2286000" cy="3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3429000"/>
                    <a:ext cx="2286000" cy="355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838080" y="1752480"/>
          <a:ext cx="3175200" cy="343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1752480"/>
                    <a:ext cx="3175200" cy="3430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706-A15C-4DEA-BA1C-9F02DD48393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D67FE-4D0A-481C-9BBA-B3AFF8436FBB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Fourier transfor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re examples of  Fourier transform pai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sic properties of Fourier transfor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proper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Multiplic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proper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476360" y="2211480"/>
                <a:ext cx="558324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7ED-F1A5-4237-ADC5-95C5D999C9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024B4-1560-44B7-AAE9-853174E3C1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ourier Transfor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9480" y="3400560"/>
            <a:ext cx="7985880" cy="1577880"/>
            <a:chOff x="609480" y="3400560"/>
            <a:chExt cx="7985880" cy="1577880"/>
          </a:xfrm>
        </p:grpSpPr>
        <p:sp>
          <p:nvSpPr>
            <p:cNvPr id="96" name=""/>
            <p:cNvSpPr/>
            <p:nvPr/>
          </p:nvSpPr>
          <p:spPr>
            <a:xfrm>
              <a:off x="5415480" y="3587760"/>
              <a:ext cx="3179880" cy="8254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Fourier Analysi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Forward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 Transform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609480" y="3400560"/>
                  <a:ext cx="4419720" cy="15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" name=""/>
          <p:cNvGrpSpPr/>
          <p:nvPr/>
        </p:nvGrpSpPr>
        <p:grpSpPr>
          <a:xfrm>
            <a:off x="609480" y="1752480"/>
            <a:ext cx="8308440" cy="1476360"/>
            <a:chOff x="609480" y="1752480"/>
            <a:chExt cx="8308440" cy="1476360"/>
          </a:xfrm>
        </p:grpSpPr>
        <p:sp>
          <p:nvSpPr>
            <p:cNvPr id="99" name=""/>
            <p:cNvSpPr/>
            <p:nvPr/>
          </p:nvSpPr>
          <p:spPr>
            <a:xfrm>
              <a:off x="5873760" y="1911240"/>
              <a:ext cx="3044160" cy="8254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Fourier Synthesi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Inverse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 Transform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609480" y="1752480"/>
                  <a:ext cx="4800600" cy="14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t xml:space="preserve">dω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20760" y="5210280"/>
                <a:ext cx="844236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ime-Domain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Frequency-Domai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2F1-4184-4F9D-A53C-5B429F8870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C03D5-52D1-4E5A-B5B5-2D01A1AAE0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8508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WHY use the Fourier transform?</a:t>
            </a:r>
            <a:endParaRPr b="0" lang="en-US" sz="36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nipulate th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“Frequency Spectrum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alog Communication Syste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: Amplitude Modulation;  F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are the “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Building Block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Abstract Layer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t implement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deal Filters: mostly BPF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quency Shift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ka Modulators, Mixers or Multipliers:   x(t)p(t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B0B-F863-44C8-B599-9EF7F1F669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D1EE4-E3A1-4930-8EB1-5C5DB3CE3C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956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ier Transform of h(t)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Frequency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8305920" cy="161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143000" y="5029200"/>
                <a:ext cx="6553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343400" y="3048120"/>
                <a:ext cx="2209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F26-A186-4EBC-8C93-4FBC89F0AA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86720-939D-4FE2-A4E8-6C2DCF83ED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10" name="pulse_FT" descr=""/>
          <p:cNvPicPr/>
          <p:nvPr/>
        </p:nvPicPr>
        <p:blipFill>
          <a:blip r:embed="rId1"/>
          <a:stretch/>
        </p:blipFill>
        <p:spPr>
          <a:xfrm>
            <a:off x="1066680" y="1557360"/>
            <a:ext cx="6934320" cy="5224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49320"/>
                <a:ext cx="746748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69C-EDF7-4EE9-9222-5FB5F9A88C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624A1-B427-4539-BBF2-27A1DA9D0D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13" name="pulse_trans" descr=""/>
          <p:cNvPicPr/>
          <p:nvPr/>
        </p:nvPicPr>
        <p:blipFill>
          <a:blip r:embed="rId1"/>
          <a:stretch/>
        </p:blipFill>
        <p:spPr>
          <a:xfrm>
            <a:off x="1219320" y="1701720"/>
            <a:ext cx="6629400" cy="5079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62120" y="76320"/>
                <a:ext cx="739116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4E2-589B-4D5F-8D98-36F91C3BE2F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B753D-7D94-49F3-83C6-043B8B237D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1-15T13:46:33Z</cp:lastPrinted>
  <dcterms:modified xsi:type="dcterms:W3CDTF">2004-03-27T21:38:56Z</dcterms:modified>
  <cp:revision>450</cp:revision>
  <dc:subject/>
  <dc:title>SPFirst Lecture #2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