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46.wmf" ContentType="image/x-wmf"/>
  <Override PartName="/ppt/media/image13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1E3-94AF-4387-9EA2-27E22785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1E4-2E94-4FC8-9D8E-091A654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A6D-69A4-4BA4-8FE2-D83D9031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8F6-7F9F-4A45-B8B8-9A4738B7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91CC-DB20-45DA-83E5-DB69851E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0EC5-9468-46BC-A155-76582602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6620-6C3D-4DB0-9EDF-851A34AB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A914-79F6-45A8-8188-ADB25B65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F8F9-E4ED-48C3-9EE3-D42F1427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0899-2114-4094-AF9F-551D7F6B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E987-5D3E-4304-9A50-33D54D2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00C-8AFC-4F74-A28A-E401F02E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CE48-96BD-47F4-ADCB-E396E9F0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EE1B-F64F-47CB-905F-079D1A47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5C5-C423-448D-998E-001759B9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AC59-D3F2-4B16-BFD9-4F5AFB36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7CD-2DB9-43CA-AF0E-B0933014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25D-10CE-46E1-BFB7-19C96693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D6C-D537-4A07-95FF-E358E78E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42C-BE91-49F5-BB24-F955EC35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962-98C8-4085-ABB9-9141A54E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33D-439F-40BD-9C8B-54DAA33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87A-0DD2-4D57-922A-3240DA3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CC9-39A2-4EAE-9FDB-02A15E3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22F9-8670-435F-BA75-C2031BFF9BB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C3CD-DC31-45CC-AC97-4774F07AD0F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536B-2F20-4DD5-83CD-D2C061386F3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2C65-14A5-4ED1-A746-3C833327DE1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04760" y="3428640"/>
            <a:ext cx="70102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view: Digital Filte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Analog Signal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4758-CB83-4DC9-9A72-0FD7ECF1D8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ED11D9-BFD9-4323-BECB-166A40CCD653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Reconstru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905120"/>
          <a:ext cx="81788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1671480" y="4267080"/>
            <a:ext cx="5808960" cy="1968120"/>
            <a:chOff x="1671480" y="4267080"/>
            <a:chExt cx="5808960" cy="1968120"/>
          </a:xfrm>
        </p:grpSpPr>
        <p:graphicFrame>
          <p:nvGraphicFramePr>
            <p:cNvPr id="141" name=""/>
            <p:cNvGraphicFramePr/>
            <p:nvPr/>
          </p:nvGraphicFramePr>
          <p:xfrm>
            <a:off x="1938240" y="4267080"/>
            <a:ext cx="544032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8240" y="4267080"/>
                      <a:ext cx="5440320" cy="1352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1671480" y="5775480"/>
              <a:ext cx="580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Ideal bandlimited interpolation formul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2514600"/>
            <a:ext cx="5181480" cy="1547640"/>
            <a:chOff x="1905120" y="2514600"/>
            <a:chExt cx="5181480" cy="1547640"/>
          </a:xfrm>
        </p:grpSpPr>
        <p:graphicFrame>
          <p:nvGraphicFramePr>
            <p:cNvPr id="145" name=""/>
            <p:cNvGraphicFramePr/>
            <p:nvPr/>
          </p:nvGraphicFramePr>
          <p:xfrm>
            <a:off x="1905120" y="3048120"/>
            <a:ext cx="4897440" cy="101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3048120"/>
                      <a:ext cx="489744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H="1">
              <a:off x="5334120" y="2514600"/>
              <a:ext cx="1752480" cy="8380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2590920"/>
              <a:ext cx="68580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956-FF17-442E-8EC9-957FC904AC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30ED6-0097-4165-967F-6C07AE2476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38088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hannon Sampling Theor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C” Interpol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the ide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FECT RECONSTRU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f BANDLIMITED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3414600"/>
            <a:ext cx="876312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2EA-483E-4B11-9E1F-C0D2738439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5C95F-F913-4C47-BF64-F260CA58FE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in Time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3" name="reconst_wave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154" name="reconst_wave" descr=""/>
          <p:cNvPicPr/>
          <p:nvPr/>
        </p:nvPicPr>
        <p:blipFill>
          <a:blip r:embed="rId2"/>
          <a:stretch/>
        </p:blipFill>
        <p:spPr>
          <a:xfrm>
            <a:off x="0" y="1614600"/>
            <a:ext cx="4568760" cy="47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3B8-25FC-4A7D-A0A0-4B4DB61741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8AFF4-3B53-4D47-8DAC-10218D207D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and D-to-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219320" y="4267080"/>
          <a:ext cx="19047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1904760" cy="38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378320" y="3568680"/>
          <a:ext cx="4308480" cy="115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78320" y="3568680"/>
                    <a:ext cx="4308480" cy="1155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193400" y="474516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Samp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19160" y="47451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bandlimited interpolat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57800" y="5313240"/>
          <a:ext cx="3809880" cy="40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5313240"/>
                    <a:ext cx="3809880" cy="401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2280" y="5257800"/>
          <a:ext cx="4572000" cy="88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257800"/>
                    <a:ext cx="4572000" cy="88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63E-83AC-4411-B1A1-5397496837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9B3AC-259B-44C4-9D30-733124B1E1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T Filtering of C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752480"/>
            <a:ext cx="1904760" cy="91440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1752480"/>
            <a:ext cx="10666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D-to-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752480"/>
            <a:ext cx="10666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C-to-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4920" y="177336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x(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23800" y="17733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y(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91160" y="1773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y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95680" y="177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x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733920" y="182880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82880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920" y="2362320"/>
          <a:ext cx="952560" cy="3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696080" y="2324160"/>
          <a:ext cx="91440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96080" y="2324160"/>
                    <a:ext cx="914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438280" y="2514600"/>
          <a:ext cx="10670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514600"/>
                    <a:ext cx="1067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435640" y="2514600"/>
          <a:ext cx="10159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2514600"/>
                    <a:ext cx="1015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37680" y="3292560"/>
            <a:ext cx="83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If no aliasing occurs in sampling x(t), then it follows th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3886200"/>
          <a:ext cx="5988240" cy="64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3886200"/>
                    <a:ext cx="5988240" cy="646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838080" y="4851360"/>
          <a:ext cx="7696440" cy="177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4851360"/>
                    <a:ext cx="7696440" cy="17780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7920" y="5715000"/>
            <a:ext cx="20048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UNDEFIN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OT   LTI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757-B55C-4E38-9B1D-A8CACFA2BA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64CD5-1721-401C-9803-296E86C7ED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TFT_filtering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6553080" cy="6105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T Filtering of a CT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2835360"/>
            <a:ext cx="1752480" cy="52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Spectrum of 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Discrete-Time Signal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3962520"/>
            <a:ext cx="121932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Digital Filter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4952880"/>
            <a:ext cx="228600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4816440"/>
            <a:ext cx="1981080" cy="52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Reconstruction Filter (Analog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553080" y="1523880"/>
                <a:ext cx="33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29400" y="444024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629400" y="350532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553080" y="5487840"/>
                <a:ext cx="33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58000" y="914400"/>
            <a:ext cx="121932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Analog Inpu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6019920"/>
            <a:ext cx="137160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Analog Outpu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F06-E01D-4C64-B9E6-BCBD4E54B2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416EF-4012-48EC-A726-B0A7D3D9B4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FFECTIV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NO Aliasing, t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FREQ &lt;--&gt; DIGITAL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, we can plo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d Freq. Axi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752480" y="3200400"/>
                <a:ext cx="37339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4800600" y="4621320"/>
          <a:ext cx="3505320" cy="78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621320"/>
                    <a:ext cx="3505320" cy="788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095880" y="4952880"/>
            <a:ext cx="152640" cy="838440"/>
          </a:xfrm>
          <a:prstGeom prst="upArrow">
            <a:avLst>
              <a:gd name="adj1" fmla="val 50000"/>
              <a:gd name="adj2" fmla="val 13732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410080"/>
            <a:ext cx="152280" cy="53352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45080" y="5791320"/>
            <a:ext cx="2954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ALOG FREQUENC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7680" y="3809880"/>
            <a:ext cx="2768400" cy="990720"/>
          </a:xfrm>
          <a:custGeom>
            <a:avLst/>
            <a:gdLst/>
            <a:ahLst/>
            <a:rect l="l" t="t" r="r" b="b"/>
            <a:pathLst>
              <a:path w="1744" h="624">
                <a:moveTo>
                  <a:pt x="16" y="624"/>
                </a:moveTo>
                <a:cubicBezTo>
                  <a:pt x="8" y="544"/>
                  <a:pt x="0" y="464"/>
                  <a:pt x="112" y="432"/>
                </a:cubicBezTo>
                <a:cubicBezTo>
                  <a:pt x="224" y="400"/>
                  <a:pt x="456" y="440"/>
                  <a:pt x="688" y="432"/>
                </a:cubicBezTo>
                <a:cubicBezTo>
                  <a:pt x="920" y="424"/>
                  <a:pt x="1328" y="455"/>
                  <a:pt x="1504" y="384"/>
                </a:cubicBezTo>
                <a:cubicBezTo>
                  <a:pt x="1679" y="312"/>
                  <a:pt x="1711" y="156"/>
                  <a:pt x="1744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76000" y="342900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402-12CD-4F79-AFFE-58044B52B3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6C979-3D97-419C-81DE-ABFC3FB71918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8826480" cy="6426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55640" y="4084560"/>
            <a:ext cx="3629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FECTIV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6629400"/>
            <a:ext cx="17528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3429000"/>
            <a:ext cx="1524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54100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22096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362320"/>
            <a:ext cx="0" cy="3047760"/>
          </a:xfrm>
          <a:prstGeom prst="line">
            <a:avLst/>
          </a:prstGeom>
          <a:ln w="38160">
            <a:solidFill>
              <a:srgbClr val="99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27960" y="83808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87520" y="1295280"/>
          <a:ext cx="14223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87520" y="129528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838080" y="4648320"/>
          <a:ext cx="2170080" cy="7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4648320"/>
                    <a:ext cx="2170080" cy="74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010280" y="3505320"/>
          <a:ext cx="186552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10280" y="3505320"/>
                    <a:ext cx="1865520" cy="438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943600" y="914400"/>
          <a:ext cx="1663560" cy="88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3600" y="914400"/>
                    <a:ext cx="16635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346-07EA-44F2-AAA7-DE952386388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8D4E7-8925-4FCE-AE96-D761A834CD93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for Discrete-ti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og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</a:t>
            </a:r>
            <a:r>
              <a:rPr b="0" lang="en-US" sz="4000" spc="-1" strike="noStrike" baseline="-25000">
                <a:solidFill>
                  <a:srgbClr val="0000cc"/>
                </a:solidFill>
                <a:latin typeface="Arial Black"/>
              </a:rPr>
              <a:t>eff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for 11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954600" y="3581280"/>
                <a:ext cx="42750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990720" y="2306520"/>
                <a:ext cx="36734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990720" y="5257800"/>
                <a:ext cx="371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1CF-EF9D-4A06-B39E-3C0E6676EF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30A72-FD34-430E-A728-88C500DCF17C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673360" y="4514760"/>
                <a:ext cx="4413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700440" y="2457360"/>
                <a:ext cx="18288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553080" y="26100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26100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0672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30672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30672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30672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840" y="2610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2610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6080" y="2610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20960" y="2610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43000" y="5440320"/>
                <a:ext cx="2514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177840" y="3295800"/>
            <a:ext cx="1422360" cy="2438280"/>
          </a:xfrm>
          <a:custGeom>
            <a:avLst/>
            <a:gdLst/>
            <a:ahLst/>
            <a:rect l="l" t="t" r="r" b="b"/>
            <a:pathLst>
              <a:path w="896" h="1536">
                <a:moveTo>
                  <a:pt x="560" y="1536"/>
                </a:moveTo>
                <a:cubicBezTo>
                  <a:pt x="412" y="1528"/>
                  <a:pt x="264" y="1520"/>
                  <a:pt x="176" y="1344"/>
                </a:cubicBezTo>
                <a:cubicBezTo>
                  <a:pt x="88" y="1168"/>
                  <a:pt x="0" y="687"/>
                  <a:pt x="32" y="480"/>
                </a:cubicBezTo>
                <a:cubicBezTo>
                  <a:pt x="63" y="272"/>
                  <a:pt x="224" y="175"/>
                  <a:pt x="368" y="96"/>
                </a:cubicBezTo>
                <a:cubicBezTo>
                  <a:pt x="511" y="16"/>
                  <a:pt x="703" y="8"/>
                  <a:pt x="896" y="0"/>
                </a:cubicBezTo>
              </a:path>
            </a:pathLst>
          </a:custGeom>
          <a:noFill/>
          <a:ln w="38160">
            <a:solidFill>
              <a:srgbClr val="333399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02D-8216-45E1-A724-D9DC296832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6BD66-1E8D-4D70-88A0-F93A56333A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B6D-4B0D-4216-AD27-2DDE603FCC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66E1A-EB98-41BE-B265-EE97DFC9CAC2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BECOM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86120" y="4191120"/>
                <a:ext cx="41734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048120" y="5334120"/>
                <a:ext cx="5273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439280" y="5867280"/>
            <a:ext cx="16743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O Alia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320-DF79-43E5-9A4F-C7FA803894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8427D-8B4E-425B-80C2-D8D57F2B02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3124080"/>
                <a:ext cx="698508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 =&gt; y[n] is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MAGNITUDE &amp; PHASE from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476760" y="2971800"/>
            <a:ext cx="609480" cy="2438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2971800"/>
            <a:ext cx="685800" cy="28195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14C-DF2F-4FFA-89DF-A4EFACB64F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CBB5A-D1D9-4F0B-9D1E-43FB33D675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INSIDE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252960" y="3276720"/>
                <a:ext cx="378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438280" y="18288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76640" y="4191120"/>
                <a:ext cx="5154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20840" y="5033880"/>
                <a:ext cx="7991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2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 flipH="1" flipV="1">
            <a:off x="4876560" y="4648320"/>
            <a:ext cx="16002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924680" y="4800600"/>
            <a:ext cx="0" cy="533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" y="2438280"/>
            <a:ext cx="2286000" cy="312444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192" y="1968"/>
                </a:moveTo>
                <a:cubicBezTo>
                  <a:pt x="132" y="1884"/>
                  <a:pt x="72" y="1800"/>
                  <a:pt x="48" y="1632"/>
                </a:cubicBezTo>
                <a:cubicBezTo>
                  <a:pt x="24" y="1464"/>
                  <a:pt x="0" y="1175"/>
                  <a:pt x="48" y="960"/>
                </a:cubicBezTo>
                <a:cubicBezTo>
                  <a:pt x="95" y="744"/>
                  <a:pt x="104" y="495"/>
                  <a:pt x="336" y="336"/>
                </a:cubicBezTo>
                <a:cubicBezTo>
                  <a:pt x="567" y="176"/>
                  <a:pt x="1003" y="88"/>
                  <a:pt x="144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F6C-C9B6-4DE8-A749-EDE160B0D5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D8590-D1F8-4273-B834-5BF980682B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output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38280" y="3983040"/>
                <a:ext cx="4413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700440" y="228600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6553080" y="2438280"/>
            <a:ext cx="1067040" cy="914400"/>
          </a:xfrm>
          <a:prstGeom prst="rect">
            <a:avLst/>
          </a:prstGeom>
          <a:solidFill>
            <a:srgbClr val="ffcc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2438280"/>
            <a:ext cx="1066680" cy="914400"/>
          </a:xfrm>
          <a:prstGeom prst="rect">
            <a:avLst/>
          </a:prstGeom>
          <a:solidFill>
            <a:srgbClr val="ffcc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01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840" y="24382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2438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6080" y="2438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0960" y="2438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52280" y="3392640"/>
                <a:ext cx="1981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5800" y="5486400"/>
                <a:ext cx="7639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2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C07-D245-4766-9E0B-1BA491E98C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C6849-F823-4F17-9E19-E0549677DB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INPUT FREQ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700440" y="259092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553080" y="27432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27432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0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840" y="2743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48720" y="27432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608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0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143000" y="5573880"/>
                <a:ext cx="2514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77840" y="3429000"/>
            <a:ext cx="1422360" cy="2438280"/>
          </a:xfrm>
          <a:custGeom>
            <a:avLst/>
            <a:gdLst/>
            <a:ahLst/>
            <a:rect l="l" t="t" r="r" b="b"/>
            <a:pathLst>
              <a:path w="896" h="1536">
                <a:moveTo>
                  <a:pt x="560" y="1536"/>
                </a:moveTo>
                <a:cubicBezTo>
                  <a:pt x="412" y="1528"/>
                  <a:pt x="264" y="1520"/>
                  <a:pt x="176" y="1344"/>
                </a:cubicBezTo>
                <a:cubicBezTo>
                  <a:pt x="88" y="1168"/>
                  <a:pt x="0" y="687"/>
                  <a:pt x="32" y="480"/>
                </a:cubicBezTo>
                <a:cubicBezTo>
                  <a:pt x="63" y="272"/>
                  <a:pt x="224" y="175"/>
                  <a:pt x="368" y="96"/>
                </a:cubicBezTo>
                <a:cubicBezTo>
                  <a:pt x="511" y="16"/>
                  <a:pt x="703" y="8"/>
                  <a:pt x="896" y="0"/>
                </a:cubicBezTo>
              </a:path>
            </a:pathLst>
          </a:custGeom>
          <a:noFill/>
          <a:ln w="38160">
            <a:solidFill>
              <a:srgbClr val="333399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651640" y="5526000"/>
          <a:ext cx="257796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526000"/>
                    <a:ext cx="2577960" cy="119700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 flipH="1">
            <a:off x="3048120" y="2209680"/>
            <a:ext cx="45720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29000" y="1752480"/>
                <a:ext cx="1143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438280" y="4521240"/>
                <a:ext cx="548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763-51CB-4C0C-AACD-D112A027CA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0C766-8EA1-46B6-8483-AD5E80B005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POP QUIZ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700440" y="259092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6553080" y="27432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27432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0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840" y="2743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48720" y="27432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608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0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86400"/>
                <a:ext cx="2133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6" name=""/>
          <p:cNvGraphicFramePr/>
          <p:nvPr/>
        </p:nvGraphicFramePr>
        <p:xfrm>
          <a:off x="5560920" y="5105520"/>
          <a:ext cx="293364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0920" y="5105520"/>
                    <a:ext cx="2933640" cy="108252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243828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2920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048120" y="2209680"/>
            <a:ext cx="45720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848720" y="3505320"/>
          <a:ext cx="109044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3505320"/>
                    <a:ext cx="1090440" cy="46512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09680" y="4114800"/>
                <a:ext cx="548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 rot="10800000">
                <a:off x="2514600" y="1715400"/>
                <a:ext cx="51814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 rot="10800000">
                <a:off x="2971800" y="525780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078-50F7-41F6-A555-8EA7621E8C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D95B4-D5BA-4DF7-A9FB-06E6B26714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ORTANT CONCEP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L Signals hav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x Exponenti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ulses, Square Pul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ILTER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lter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age Processing Example: Blu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ear Time-Invariant Process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Domain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or 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F32-1D81-4C8A-BEEB-8C669CC0EE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CDC63-A1B4-45F6-9101-3DA17D17C3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uperficial Knowled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72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 depends how carefully you think about it.  If you don’t think very carefully it’s obvious; but if you think about it in depth, you’ll get confused and it won’t be obvious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E3B-671F-4E38-A645-381C0E9D05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62A92-483D-43E9-AF58-1B379A0AD706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1419120"/>
            <a:ext cx="8458200" cy="5438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2438280" y="2057400"/>
            <a:ext cx="1828800" cy="266688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5600" y="2001960"/>
                <a:ext cx="3325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6248520" y="2514600"/>
            <a:ext cx="1371600" cy="2362320"/>
          </a:xfrm>
          <a:prstGeom prst="line">
            <a:avLst/>
          </a:prstGeom>
          <a:ln w="76320">
            <a:solidFill>
              <a:srgbClr val="ff66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400800" y="2994120"/>
                <a:ext cx="19810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8FF-A5D8-4349-80CB-3DA5B96CD8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3895A-2BA8-43A2-966A-B8C6FA0910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E FUTUR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ircuits &amp;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pla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514600" y="3048120"/>
            <a:ext cx="1295280" cy="129528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886200" y="2666880"/>
                <a:ext cx="919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943600" y="4267080"/>
                <a:ext cx="1236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981080" y="4343400"/>
                <a:ext cx="7430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 flipH="1">
            <a:off x="2743200" y="4495680"/>
            <a:ext cx="320040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3124080"/>
            <a:ext cx="1143000" cy="106704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4876920"/>
            <a:ext cx="1676520" cy="8254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7920" y="4952880"/>
            <a:ext cx="2646720" cy="8254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mplementation 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LC-op-amp circui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08480" y="2514600"/>
            <a:ext cx="3647880" cy="459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olynomials: Poles &amp; Zero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234-05CE-4572-8E97-E2DD31111B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AC0EA-E6B1-4E94-8C0A-A95F453D99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pling Theore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visi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 the FREQUENCY DOMAI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ier transform of sampled sig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nstruction from s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ective 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ortant FT 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volution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lti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5AB-B121-4F19-882F-FF9A6387E8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26DCF-254C-4B57-96A3-548A549DC3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ematical Eleg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80880" y="1752480"/>
            <a:ext cx="7943040" cy="1198800"/>
            <a:chOff x="380880" y="1752480"/>
            <a:chExt cx="7943040" cy="1198800"/>
          </a:xfrm>
        </p:grpSpPr>
        <p:graphicFrame>
          <p:nvGraphicFramePr>
            <p:cNvPr id="360" name=""/>
            <p:cNvGraphicFramePr/>
            <p:nvPr/>
          </p:nvGraphicFramePr>
          <p:xfrm>
            <a:off x="380880" y="1752480"/>
            <a:ext cx="4572000" cy="119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752480"/>
                      <a:ext cx="4572000" cy="11988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5291640" y="1905120"/>
              <a:ext cx="303228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Fourier Synthe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Inverse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63" name=""/>
          <p:cNvGraphicFramePr/>
          <p:nvPr/>
        </p:nvGraphicFramePr>
        <p:xfrm>
          <a:off x="380880" y="5105520"/>
          <a:ext cx="746784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05520"/>
                    <a:ext cx="7467840" cy="1218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6553080" y="1447920"/>
            <a:ext cx="21304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331920" y="3400560"/>
            <a:ext cx="7776000" cy="1400040"/>
            <a:chOff x="331920" y="3400560"/>
            <a:chExt cx="7776000" cy="1400040"/>
          </a:xfrm>
        </p:grpSpPr>
        <p:graphicFrame>
          <p:nvGraphicFramePr>
            <p:cNvPr id="367" name=""/>
            <p:cNvGraphicFramePr/>
            <p:nvPr/>
          </p:nvGraphicFramePr>
          <p:xfrm>
            <a:off x="331920" y="3400560"/>
            <a:ext cx="4392360" cy="1400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1920" y="3400560"/>
                      <a:ext cx="4392360" cy="1400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4944600" y="3936960"/>
              <a:ext cx="316332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Fourier Analy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Forward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00F-3CF4-4C4E-B9E2-18ED67DB2C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E2425-8B5F-40AD-9991-4C1C57CDEFB5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igher Educ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620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primary goal of undergraduate education should be happy graduates; happy alums make better donor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71A-10F6-4DF8-BB99-BF45405DCF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234C6-2C39-46C6-958B-E61ED7255AF3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ys_Reconstruct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329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: Freq. 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275520" y="3429000"/>
            <a:ext cx="24058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IFTING !!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09480" y="4800600"/>
                <a:ext cx="723924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880" y="3200400"/>
                <a:ext cx="39625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99C-91A4-46BC-9314-3226943F92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8311C-84C9-451E-9EFC-7C28EF04B6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liased1_signal_trans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1666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Represent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00200" y="3222720"/>
          <a:ext cx="617220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222720"/>
                    <a:ext cx="6172200" cy="119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17366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0" name="aliased2_signal_trans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8839440" cy="23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884-6942-40A0-8F17-BE5DD33712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EE93F-3B29-498D-87FE-C428D828A1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liasing Distor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029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lt; 2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the copies of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verlap, and we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iasing distor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3" name="aliased3_signal_tran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686800" cy="2017800"/>
          </a:xfrm>
          <a:prstGeom prst="rect">
            <a:avLst/>
          </a:prstGeom>
          <a:ln w="0">
            <a:noFill/>
          </a:ln>
        </p:spPr>
      </p:pic>
      <p:pic>
        <p:nvPicPr>
          <p:cNvPr id="104" name="aliased1_signal_trans" descr=""/>
          <p:cNvPicPr/>
          <p:nvPr/>
        </p:nvPicPr>
        <p:blipFill>
          <a:blip r:embed="rId2"/>
          <a:stretch/>
        </p:blipFill>
        <p:spPr>
          <a:xfrm>
            <a:off x="304920" y="1333440"/>
            <a:ext cx="8686800" cy="163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16002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D89-541C-4077-8C6D-55F1ED4CE7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C134F-054C-4C7C-9E3D-C58FAC2B62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ys_Reconstruct" descr=""/>
          <p:cNvPicPr/>
          <p:nvPr/>
        </p:nvPicPr>
        <p:blipFill>
          <a:blip r:embed="rId1"/>
          <a:srcRect l="0" t="0" r="0" b="37572"/>
          <a:stretch/>
        </p:blipFill>
        <p:spPr>
          <a:xfrm>
            <a:off x="457200" y="121932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o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14600" y="3124080"/>
          <a:ext cx="45720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124080"/>
                    <a:ext cx="4572000" cy="974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676520" y="4343400"/>
          <a:ext cx="5486400" cy="106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343400"/>
                    <a:ext cx="54864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828800" y="5638680"/>
          <a:ext cx="518148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638680"/>
                    <a:ext cx="5181480" cy="546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85F-B444-4021-B21E-85FE0129D9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0EE3B-DC3F-42CE-B41B-F17EA7A20F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onstruct_tran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678280" cy="5943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Reconstruction: Frequency-Domain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38680" y="2743200"/>
                <a:ext cx="33530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the copies of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do not overlap, so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304920" y="3276720"/>
            <a:ext cx="2286000" cy="761760"/>
            <a:chOff x="304920" y="3276720"/>
            <a:chExt cx="2286000" cy="761760"/>
          </a:xfrm>
        </p:grpSpPr>
        <p:sp>
          <p:nvSpPr>
            <p:cNvPr id="118" name=""/>
            <p:cNvSpPr/>
            <p:nvPr/>
          </p:nvSpPr>
          <p:spPr>
            <a:xfrm>
              <a:off x="1371600" y="3581280"/>
              <a:ext cx="121932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304920" y="3276720"/>
            <a:ext cx="1117440" cy="36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3276720"/>
                      <a:ext cx="1117440" cy="3682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297-AD04-497B-857B-8CB845B3C4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8AF75-ABCB-4312-B6CF-EC049AE3E7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deal_BLht_Recon_Filter" descr=""/>
          <p:cNvPicPr/>
          <p:nvPr/>
        </p:nvPicPr>
        <p:blipFill>
          <a:blip r:embed="rId1"/>
          <a:stretch/>
        </p:blipFill>
        <p:spPr>
          <a:xfrm>
            <a:off x="1219320" y="4056120"/>
            <a:ext cx="6324480" cy="2589120"/>
          </a:xfrm>
          <a:prstGeom prst="rect">
            <a:avLst/>
          </a:prstGeom>
          <a:ln w="0">
            <a:noFill/>
          </a:ln>
        </p:spPr>
      </p:pic>
      <p:pic>
        <p:nvPicPr>
          <p:cNvPr id="122" name="ideal_BL_Recon_Filter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467480" cy="2428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Reconstruction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4038480"/>
          <a:ext cx="2819520" cy="17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2819520" cy="1706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1447920"/>
          <a:ext cx="328932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447920"/>
                    <a:ext cx="3289320" cy="14857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4419720" y="4191120"/>
            <a:ext cx="2128680" cy="457200"/>
            <a:chOff x="4419720" y="4191120"/>
            <a:chExt cx="2128680" cy="457200"/>
          </a:xfrm>
        </p:grpSpPr>
        <p:graphicFrame>
          <p:nvGraphicFramePr>
            <p:cNvPr id="129" name=""/>
            <p:cNvGraphicFramePr/>
            <p:nvPr/>
          </p:nvGraphicFramePr>
          <p:xfrm>
            <a:off x="5181480" y="4191120"/>
            <a:ext cx="1366920" cy="39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4191120"/>
                      <a:ext cx="1366920" cy="3999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 flipH="1">
              <a:off x="4419720" y="4419720"/>
              <a:ext cx="76176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028840" y="5280120"/>
            <a:ext cx="4115160" cy="914400"/>
            <a:chOff x="5028840" y="5280120"/>
            <a:chExt cx="4115160" cy="914400"/>
          </a:xfrm>
        </p:grpSpPr>
        <p:graphicFrame>
          <p:nvGraphicFramePr>
            <p:cNvPr id="133" name=""/>
            <p:cNvGraphicFramePr/>
            <p:nvPr/>
          </p:nvGraphicFramePr>
          <p:xfrm>
            <a:off x="5238720" y="5280120"/>
            <a:ext cx="390528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38720" y="5280120"/>
                      <a:ext cx="3905280" cy="414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 flipH="1">
              <a:off x="5028840" y="5661000"/>
              <a:ext cx="228600" cy="533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B36-765F-4BDC-BB68-19D6595EBD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39C9F-7198-40FA-AB1B-0E426AE32B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02T00:50:16Z</cp:lastPrinted>
  <dcterms:modified xsi:type="dcterms:W3CDTF">2003-08-21T22:11:41Z</dcterms:modified>
  <cp:revision>486</cp:revision>
  <dc:subject/>
  <dc:title>SPFirst Lecture #2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