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2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109-8269-49F2-99CB-6CC0D26D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E15-7162-4FCF-86EA-716B2B24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934-445D-49CE-A527-D3453B16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A5F-BF55-41B4-8436-93E68309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BD60-FCE0-4B64-8049-F610524B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8D7-D554-4720-8C24-EA5A2633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3ED0-AC83-4404-96B5-E2E61563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29A-549B-4832-9506-0E16B61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CE9-47D8-4836-9C9B-B65924D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B338-7689-4004-9587-C8E88F25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426A-7BD0-4C7D-9C54-E471084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587-6688-4D8B-93D3-D014A26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0E6-5D42-416F-A0CE-E1591EC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195E-ABE9-46D4-B56E-8AF0FC5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EA4-E4C1-4EB9-B527-FA1A0EA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C497-5827-461D-BCE3-9E195782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07E-A821-4701-9E22-42567E8B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996-312F-4929-A356-99BA1B66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8F6-1024-48B6-9A93-E10C299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ABA-DA28-4EDA-9C1C-FB621B69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F34-CA8A-4AC3-8640-9BC754E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1B3-884B-4816-A964-53583CE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726-02DA-4A58-8428-D67C8BD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CBC-AC4A-4830-B44B-996101D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4B2-EFE5-4D42-9891-F8D20A41327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78A-4C36-4ADB-AE61-CCB9220A258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90A-16FE-4122-B697-41523D99047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DE96-1399-424D-A42B-DC4C8271DF4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.wmf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troduction to the 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1D1-7B4C-4017-80D8-08F3BE873E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C83C9B8-1775-4451-A514-08FCDB45A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F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365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2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5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8" name="sq_waves" descr=""/>
          <p:cNvPicPr/>
          <p:nvPr/>
        </p:nvPicPr>
        <p:blipFill>
          <a:blip r:embed="rId1"/>
          <a:stretch/>
        </p:blipFill>
        <p:spPr>
          <a:xfrm>
            <a:off x="1295280" y="1093680"/>
            <a:ext cx="5943600" cy="568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EF5-6837-420D-A83E-014E73B7D8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85C78-1CB0-4AAA-A234-E741A294E001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Spectr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651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51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3" name="sq_wave_spect" descr=""/>
          <p:cNvPicPr/>
          <p:nvPr/>
        </p:nvPicPr>
        <p:blipFill>
          <a:blip r:embed="rId1"/>
          <a:stretch/>
        </p:blipFill>
        <p:spPr>
          <a:xfrm>
            <a:off x="1525680" y="990720"/>
            <a:ext cx="5408640" cy="571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188120" y="3048120"/>
                <a:ext cx="14940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058-746B-4CDC-808A-F04C2F0E8E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E33BB-17F9-49EA-B0F5-50D7BD5E9AF8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S in the LIMIT  (long period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65320" y="259092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13400" y="579600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2920" y="1274760"/>
                <a:ext cx="8924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k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1520" y="4321080"/>
                <a:ext cx="878832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193920"/>
                <a:ext cx="2209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3197160"/>
                <a:ext cx="213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86400" y="3384720"/>
                <a:ext cx="3025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A54-A601-4DFB-B860-C4B54337C1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252A9-1F42-4647-834D-4374BB08F209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Defin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non-periodic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47320" y="243828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70640" y="441972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4435560"/>
                <a:ext cx="5294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9400" y="2449440"/>
                <a:ext cx="54892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4FD-6A6A-4213-92DB-97E150A828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82D82-4540-46CD-AF22-FD538B6F27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1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1000" y="625320"/>
          <a:ext cx="2644920" cy="5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1000" y="625320"/>
                    <a:ext cx="2644920" cy="578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71880" y="5057640"/>
          <a:ext cx="3246480" cy="11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5057640"/>
                    <a:ext cx="324648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95280" y="1676520"/>
          <a:ext cx="6934320" cy="14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676520"/>
                    <a:ext cx="69343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20680" y="3124080"/>
          <a:ext cx="6750000" cy="16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0680" y="3124080"/>
                    <a:ext cx="6750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905600" y="3029040"/>
          <a:ext cx="10288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05600" y="3029040"/>
                    <a:ext cx="1028880" cy="457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F17-49C9-4FAC-982B-1F37B25160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95222-D1B8-4873-B5BA-6D11647C2D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036-0126-4DB3-85C2-2DC9BC974B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57890-BC0D-458B-A335-EA04C42CAA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T_1st_order" descr=""/>
          <p:cNvPicPr/>
          <p:nvPr/>
        </p:nvPicPr>
        <p:blipFill>
          <a:blip r:embed="rId1"/>
          <a:stretch/>
        </p:blipFill>
        <p:spPr>
          <a:xfrm>
            <a:off x="1371600" y="1255680"/>
            <a:ext cx="6324480" cy="5559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320" y="1133640"/>
                <a:ext cx="2819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068880" y="3976560"/>
                <a:ext cx="2989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240600" y="1133640"/>
                <a:ext cx="28270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6320" y="6076800"/>
                <a:ext cx="32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DB1-319A-4BD2-9D38-E023FCFBEA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3A61F-81D2-4795-9069-511A21F6EE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09800" y="5345280"/>
          <a:ext cx="362592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5345280"/>
                    <a:ext cx="3625920" cy="1055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2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28600"/>
          <a:ext cx="32637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28600"/>
                    <a:ext cx="3263760" cy="1068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944640" y="3471840"/>
          <a:ext cx="7208640" cy="14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4640" y="3471840"/>
                    <a:ext cx="72086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066680" y="1905120"/>
          <a:ext cx="7040520" cy="122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05120"/>
                    <a:ext cx="70405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22C-B102-422D-8CEE-A7B4823534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F71D9-CA8F-43FA-BD99-A38922B9FA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6440" y="15228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2280"/>
                    <a:ext cx="8485200" cy="1166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6" name="pulse_FT" descr=""/>
          <p:cNvPicPr/>
          <p:nvPr/>
        </p:nvPicPr>
        <p:blipFill>
          <a:blip r:embed="rId3"/>
          <a:stretch/>
        </p:blipFill>
        <p:spPr>
          <a:xfrm>
            <a:off x="1066680" y="1386000"/>
            <a:ext cx="7162920" cy="53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878-1060-4B21-90DB-A88C1B456A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54141-4198-46C4-8557-7BA49E3F58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3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67080" y="76320"/>
                <a:ext cx="35816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95480" y="5462640"/>
                <a:ext cx="27432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04920" y="1685880"/>
                <a:ext cx="838188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75080"/>
                <a:ext cx="723096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468-851A-48A7-8A06-5F8A4EDC03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6FD51-BC86-4A44-803C-868F5EEE3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136-45E1-4E84-996A-17584E19A3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B00A1-F907-4B91-A5AD-B75CAAEF16F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3" name="pulse_trans" descr=""/>
          <p:cNvPicPr/>
          <p:nvPr/>
        </p:nvPicPr>
        <p:blipFill>
          <a:blip r:embed="rId1"/>
          <a:stretch/>
        </p:blipFill>
        <p:spPr>
          <a:xfrm>
            <a:off x="1066680" y="1643040"/>
            <a:ext cx="6705720" cy="513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5800" y="33480"/>
                <a:ext cx="73915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CD3-4F24-479A-B775-02629AC3B1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E03F6-CBC2-463B-97C9-54C82AA8A2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4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52480" y="2057400"/>
          <a:ext cx="54864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4864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49760" y="3886200"/>
            <a:ext cx="48074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hifting Property of the Im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91120" y="330120"/>
                <a:ext cx="3809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4419720"/>
                <a:ext cx="74548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75D-E7ED-44BA-93E0-59291380B6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635F7-C78D-4E51-AE98-0134F39648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57480" y="304920"/>
          <a:ext cx="681984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04920"/>
                    <a:ext cx="6819840" cy="725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5" name="impulse_FT" descr=""/>
          <p:cNvPicPr/>
          <p:nvPr/>
        </p:nvPicPr>
        <p:blipFill>
          <a:blip r:embed="rId3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A16-ED5A-4092-BCA3-7EA806F6F7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27857-9490-49F9-8502-C0658C43C1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5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32200" y="647640"/>
          <a:ext cx="52354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647640"/>
                    <a:ext cx="5235480" cy="64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23720" y="1752480"/>
          <a:ext cx="8186760" cy="13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752480"/>
                    <a:ext cx="818676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76520" y="4503600"/>
          <a:ext cx="568476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03600"/>
                    <a:ext cx="5684760" cy="525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838080" y="3332160"/>
          <a:ext cx="767880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332160"/>
                    <a:ext cx="7678800" cy="706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069920" y="5514840"/>
          <a:ext cx="719784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9920" y="551484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CC8-F124-4802-84A0-FA4EB267A7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D0F29-E910-4F50-816E-8C14DE5F58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43000" y="152280"/>
          <a:ext cx="719784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51" name="cosine_FT" descr=""/>
          <p:cNvPicPr/>
          <p:nvPr/>
        </p:nvPicPr>
        <p:blipFill>
          <a:blip r:embed="rId3"/>
          <a:stretch/>
        </p:blipFill>
        <p:spPr>
          <a:xfrm>
            <a:off x="838080" y="1440000"/>
            <a:ext cx="7772400" cy="53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8D2-CBE6-418C-A222-285204BA6C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AD082-2133-45E1-98BF-8F9B7DE1A0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44520" y="1219320"/>
          <a:ext cx="652788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219320"/>
                    <a:ext cx="6527880" cy="1127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" y="2514600"/>
          <a:ext cx="82296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8229600" cy="113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62120" y="3809880"/>
          <a:ext cx="7559640" cy="112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809880"/>
                    <a:ext cx="7559640" cy="1125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47920" y="5105520"/>
          <a:ext cx="65149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105520"/>
                    <a:ext cx="6514920" cy="666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066680" y="5978520"/>
          <a:ext cx="706932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978520"/>
                    <a:ext cx="7069320" cy="65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1B1-33CF-48F3-8ECD-CADCD7124A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3339A-77AA-4CCD-B87B-507C03BD15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1 to 11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Chapter 11, Sects. 11-1 to 11-4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, Sects. 11-5, 11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F59-8D13-474B-9D0E-535C0B74CA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2DF0-15A3-4528-985F-CCABD9A32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finition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 to 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 of  Fourier transform pai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86120" y="3603600"/>
                <a:ext cx="40287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3F9-472F-4B42-ABF1-040E2CB9E9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D5428-B0CE-41E4-A9F5-962FCF6A29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erything = Sum of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Square Pulse = Sum of Sinusoid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?????????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Period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of Square Wave as Period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uitive Argu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666880"/>
            <a:ext cx="396252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432"/>
                </a:moveTo>
                <a:lnTo>
                  <a:pt x="528" y="432"/>
                </a:lnTo>
                <a:lnTo>
                  <a:pt x="528" y="0"/>
                </a:lnTo>
                <a:lnTo>
                  <a:pt x="960" y="0"/>
                </a:lnTo>
                <a:lnTo>
                  <a:pt x="960" y="432"/>
                </a:lnTo>
                <a:lnTo>
                  <a:pt x="1440" y="43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E09-29E4-44F3-AD7B-4C3485480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80436-0C09-43ED-9061-9614C0CA07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Series:  Periodic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022400" y="1676520"/>
            <a:ext cx="7664400" cy="2133360"/>
            <a:chOff x="1022400" y="1676520"/>
            <a:chExt cx="7664400" cy="2133360"/>
          </a:xfrm>
        </p:grpSpPr>
        <p:graphicFrame>
          <p:nvGraphicFramePr>
            <p:cNvPr id="99" name=""/>
            <p:cNvGraphicFramePr/>
            <p:nvPr/>
          </p:nvGraphicFramePr>
          <p:xfrm>
            <a:off x="342252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252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601344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344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102240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240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270504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0504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51824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1824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441324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324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55972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5972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3" name=""/>
          <p:cNvGraphicFramePr/>
          <p:nvPr/>
        </p:nvGraphicFramePr>
        <p:xfrm>
          <a:off x="990720" y="3960720"/>
          <a:ext cx="3886200" cy="1328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0720" y="3960720"/>
                    <a:ext cx="3886200" cy="132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90720" y="5391000"/>
          <a:ext cx="3849480" cy="1238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90720" y="5391000"/>
                    <a:ext cx="3849480" cy="1238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0080" y="4637160"/>
          <a:ext cx="3429000" cy="1093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10080" y="4637160"/>
                    <a:ext cx="3429000" cy="109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876920" y="3927600"/>
            <a:ext cx="3753000" cy="520560"/>
            <a:chOff x="4876920" y="3927600"/>
            <a:chExt cx="3753000" cy="520560"/>
          </a:xfrm>
        </p:grpSpPr>
        <p:sp>
          <p:nvSpPr>
            <p:cNvPr id="122" name=""/>
            <p:cNvSpPr/>
            <p:nvPr/>
          </p:nvSpPr>
          <p:spPr>
            <a:xfrm>
              <a:off x="5446800" y="3927600"/>
              <a:ext cx="318312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7692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00600" y="5832360"/>
            <a:ext cx="3540600" cy="520560"/>
            <a:chOff x="4800600" y="5832360"/>
            <a:chExt cx="3540600" cy="520560"/>
          </a:xfrm>
        </p:grpSpPr>
        <p:sp>
          <p:nvSpPr>
            <p:cNvPr id="125" name=""/>
            <p:cNvSpPr/>
            <p:nvPr/>
          </p:nvSpPr>
          <p:spPr>
            <a:xfrm>
              <a:off x="5374440" y="5832360"/>
              <a:ext cx="296676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800600" y="59288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BB8-3408-4987-A456-228CBF5C5E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DF29D-472E-41EA-8D0C-AE7220B5FA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1800" y="5214960"/>
          <a:ext cx="849636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5214960"/>
                    <a:ext cx="84963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3120" cy="2059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990720" y="1523880"/>
            <a:ext cx="7664400" cy="2133360"/>
            <a:chOff x="990720" y="1523880"/>
            <a:chExt cx="7664400" cy="2133360"/>
          </a:xfrm>
        </p:grpSpPr>
        <p:graphicFrame>
          <p:nvGraphicFramePr>
            <p:cNvPr id="134" name=""/>
            <p:cNvGraphicFramePr/>
            <p:nvPr/>
          </p:nvGraphicFramePr>
          <p:xfrm>
            <a:off x="3390840" y="1523880"/>
            <a:ext cx="21718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90840" y="152388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981760" y="327636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81760" y="327636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990720" y="327636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327636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2673360" y="3276360"/>
            <a:ext cx="5587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73360" y="327636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7486560" y="3276360"/>
            <a:ext cx="53352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486560" y="327636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381560" y="327636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81560" y="327636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528040" y="3276360"/>
            <a:ext cx="12708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28040" y="327636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19320" y="3733920"/>
                <a:ext cx="36576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0BB-4709-40A0-9F93-8B9CD53B02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41BC3-5818-4C24-ABDD-A829BA1F4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057480"/>
            <a:ext cx="845820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90720" y="1547640"/>
                <a:ext cx="68356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πk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68B-E1E0-45DD-84C1-DDD4F2A0B1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BD697-2877-4CC7-A438-0C1796D9B3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is not periodic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 of Sinusoid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-harmonically related sinusoid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uld not be periodic, but would probably be non-zero for all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s a “sum” (actually 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gr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that involv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represent signals that are identically zero for negativ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!!!!!!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33C-1762-4B1C-979D-B0F51BFC6B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E162C-16B0-4BF5-B12A-6318C62123BC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46Z</dcterms:modified>
  <cp:revision>430</cp:revision>
  <dc:subject/>
  <dc:title>SPFirst Lecture #2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