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3C9-6846-4322-A487-21EF1012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23A-16B6-4264-B6B2-EB02B397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75B-04AD-40C3-B43C-EDE77023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601-39CD-48C9-AE5F-53C181BF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B179-BB0F-49CB-9A8A-76A58291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1DB6-D1B0-4579-B3A5-7B71E4F2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EE5C-2A81-4273-85EE-D3B0E69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60B-7DD1-4098-9076-4D245846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FA7A-DA15-4614-9C19-B4DFDEFD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01B2-B4A2-42EB-A309-61E7510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D127-7D61-49EB-A931-C26360C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5CD-AE62-40CE-ABD9-89415E5D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20D9-CBC2-44A3-A802-069AE67E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0E20-0511-4199-AAE1-A78802A2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90B-1F90-4470-9E99-649D1A1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E9F1-D9BD-407C-9C40-B058D86C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C2F9-E519-4108-B6DD-B9FAE1C9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91F-C7F2-43BF-A92A-6BE34BE8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399-1677-4A72-9538-CE4C6F9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663-BBBD-41C3-AAF2-A9B81D0F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C4E-FB82-41ED-A184-6F3364E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2D8-E740-46AF-8B6C-D94EB18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E40-0BED-4B93-9B0A-FA074B2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52C-6D01-4D40-9514-EBBD506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6E5C-D1D0-4B65-9DED-E818B4E4CD3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7E1B-262D-4CB3-8AB1-017B477C5F4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F413-17FC-451F-A771-F4C9901C729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901C-6AF6-43C8-9B59-B5B14A6031D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28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9AA9-5163-4FCD-9BEB-E9C3FE6B401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1029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1030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0D2B-E584-4C6C-80DB-439907E08D6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9840" y="3457440"/>
            <a:ext cx="70866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volutio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Continuous-Tim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BBEC-E3FE-4FA7-8CD3-CAD1B9E2418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60E9-E2D4-49F0-BBB5-160A8EA68B0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711360" y="2438280"/>
                <a:ext cx="779760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t</m:t>
                                      </m:r>
                                    </m:sup>
                                  </m:sSup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aτ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bτ</m:t>
                                          </m:r>
                                        </m:sup>
                                      </m:sSup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t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−</m:t>
                                      </m:r>
                                      <m:r>
                                        <m:t xml:space="preserve">a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611280" y="1676520"/>
                <a:ext cx="2155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440160" y="1676520"/>
                <a:ext cx="3341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77F9-3B7A-4B0E-9868-4D26E28C606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7FD-1C0F-4953-8A30-E865F23D9E4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ial Case: u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762120" y="2362320"/>
                <a:ext cx="563868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774720" y="1676520"/>
                <a:ext cx="3340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5095800" y="1720800"/>
                <a:ext cx="1609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838080" y="4800600"/>
                <a:ext cx="41911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9705-1618-41EA-ABF2-DACC5CCF40A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FA33-1304-43B7-8CB9-3A24D60A1C1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ve Unit Step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914400" y="2438280"/>
                <a:ext cx="5334120" cy="41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882720" y="1720800"/>
                <a:ext cx="1609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3657600" y="1720800"/>
                <a:ext cx="1609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 Box 6"/>
          <p:cNvSpPr/>
          <p:nvPr/>
        </p:nvSpPr>
        <p:spPr>
          <a:xfrm>
            <a:off x="4917600" y="5715000"/>
            <a:ext cx="1704600" cy="4597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Unit Ramp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DB1B-F59F-4D75-A05E-1A84D3DC78E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EE4-F197-4BE7-8A2C-61126BCFC0A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Commutativ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885680"/>
            <a:ext cx="8534520" cy="443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380880" y="1523880"/>
                <a:ext cx="8534520" cy="451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τ</m:t>
                              </m:r>
                              <m:r>
                                <m:t xml:space="preserve">)</m:t>
                              </m:r>
                              <m:r>
                                <m:t xml:space="preserve">dτ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let </m:t>
                          </m:r>
                          <m:r>
                            <m:t xml:space="preserve">σ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τ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dσ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dτ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dσ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dσ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∗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6" name="Rectangle 5"/>
          <p:cNvSpPr/>
          <p:nvPr/>
        </p:nvSpPr>
        <p:spPr>
          <a:xfrm>
            <a:off x="304920" y="3809880"/>
            <a:ext cx="1904760" cy="533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010280" y="5105520"/>
            <a:ext cx="1905120" cy="5331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E9B-05FD-40E0-9DFF-27D8E08F502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4E48-F00F-4BF0-87FD-FF7653FE946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of 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2" name="Picture 3" descr="_x000e_fig10-15ab.GIF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728640" y="1449360"/>
            <a:ext cx="7805880" cy="540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762120" y="2590920"/>
                <a:ext cx="647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3905280" y="259092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6845400" y="2590920"/>
                <a:ext cx="1854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762120" y="5486400"/>
                <a:ext cx="647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3936960" y="5486400"/>
                <a:ext cx="812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6858000" y="5486400"/>
                <a:ext cx="1854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1784520" y="3657600"/>
                <a:ext cx="5144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822-C386-4E96-A155-8DAFC721745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74E2-452A-40FC-823C-9632E98BF03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ystem is stable if every bounded input produces a bounded outpu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continuous-tim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TI syste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stable if and only i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43200" y="4267080"/>
                <a:ext cx="32004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&lt;¥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71DE-B7B6-4947-8927-7BCAD81F0B7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C67-EB7B-4E23-87E7-0B9873CBEFF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usal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ystem is causal if and only 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y(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pends only on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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LTI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is causal if and only i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209680" y="4408560"/>
                <a:ext cx="4724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for 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F767-DFB7-4CAE-A782-7FB715C85F8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6BFA-F531-4698-9C8A-70C3EA1D7D1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bstitut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=ax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(t)+bx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Therefore, convolution is linear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29"/>
              <p:cNvSpPr txBox="1"/>
              <p:nvPr/>
            </p:nvSpPr>
            <p:spPr>
              <a:xfrm>
                <a:off x="1143000" y="2482920"/>
                <a:ext cx="7315200" cy="30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Linea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028"/>
              <p:cNvSpPr txBox="1"/>
              <p:nvPr/>
            </p:nvSpPr>
            <p:spPr>
              <a:xfrm>
                <a:off x="4013280" y="2711520"/>
                <a:ext cx="11174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8AFE-2304-458C-9022-33280A0445D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C0B8-C717-4E16-BE59-92FC8FE8944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Time-Invaria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bstitut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-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14" name="Object 1028"/>
          <p:cNvGraphicFramePr/>
          <p:nvPr/>
        </p:nvGraphicFramePr>
        <p:xfrm>
          <a:off x="1371600" y="2362320"/>
          <a:ext cx="541008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5410080" cy="133344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6" name="Object 1029"/>
          <p:cNvGraphicFramePr/>
          <p:nvPr/>
        </p:nvGraphicFramePr>
        <p:xfrm>
          <a:off x="2286000" y="3924360"/>
          <a:ext cx="45338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924360"/>
                    <a:ext cx="4533840" cy="133344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8" name="Object 1030"/>
          <p:cNvGraphicFramePr/>
          <p:nvPr/>
        </p:nvGraphicFramePr>
        <p:xfrm>
          <a:off x="2324160" y="5448240"/>
          <a:ext cx="186696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4160" y="5448240"/>
                    <a:ext cx="1866960" cy="57168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1BD-1420-4B1A-B248-B6984DC9A85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9AD7-769C-4231-AE30-5A2E5EC1D73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of Impulses, etc.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of two impul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of step and derivative of impul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33520" y="2819520"/>
                <a:ext cx="5190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5829480" y="2819520"/>
                <a:ext cx="3162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1905120" y="4978440"/>
                <a:ext cx="3649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5715000" y="5105520"/>
                <a:ext cx="1035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6A1B-20DD-443F-B676-DDA1A4D3B05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C6D-9921-4B0A-97BE-D7795AC1B69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9, Sects. 9-6, 9-7, and 9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9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Start reading Chapter 1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E58D-4B6E-4DCE-99E6-784E1A7EB3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5C8C-BC9C-4580-8A8F-B563348AE97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arallel 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3" name="Picture 3" descr="_x000c_fig10-17.GIF  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1577880" y="1370160"/>
            <a:ext cx="6499440" cy="553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781360" y="4724280"/>
                <a:ext cx="3238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1523880" y="3098880"/>
                <a:ext cx="648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181480" y="228600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156280" y="3886200"/>
                <a:ext cx="812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553080" y="3124080"/>
                <a:ext cx="1930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3DD-B87D-46E0-ACA2-07FFD093E17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FDB-2747-4A61-A2EB-ADC740139D1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80880" y="4327560"/>
                <a:ext cx="84121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44" name="Picture 4" descr="_x000c_fig10-12.GIF 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606680"/>
            <a:ext cx="7321680" cy="25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5"/>
          <p:cNvGraphicFramePr/>
          <p:nvPr/>
        </p:nvGraphicFramePr>
        <p:xfrm>
          <a:off x="6958080" y="2187720"/>
          <a:ext cx="188100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8080" y="2187720"/>
                    <a:ext cx="1881000" cy="4698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9FA9-B515-4D75-8911-8CBAB575181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6324-CB38-46C9-987B-657D9A6C394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the Integr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009800" y="4038480"/>
                <a:ext cx="539100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253" name="Picture 5" descr="&#13;fig10-13a.gif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838080" y="1371600"/>
            <a:ext cx="7340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F61C-A3BA-407E-BE04-949EFCFDE3D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8F0-25B5-44DE-8B25-5AB069CD429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4483080" y="3232080"/>
                <a:ext cx="177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8120" y="1790640"/>
                <a:ext cx="928080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=1-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261" name="Picture 6" descr="&#13;fig10-13b.gif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3962520"/>
            <a:ext cx="7367760" cy="254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066680" y="5715000"/>
                <a:ext cx="2667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t&lt;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2199-0104-4AC3-A374-FAC1BCEC781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EE20-A10E-4B52-9AB7-FCD35A42443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ipping and Shift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7" name="Picture 3" descr="_x000c_fig10-10.GIF  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622520"/>
            <a:ext cx="8004240" cy="485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3772080" y="1676520"/>
                <a:ext cx="723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5"/>
          <p:cNvGraphicFramePr/>
          <p:nvPr/>
        </p:nvGraphicFramePr>
        <p:xfrm>
          <a:off x="3809880" y="3352680"/>
          <a:ext cx="3962520" cy="4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3352680"/>
                    <a:ext cx="3962520" cy="4701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3809880" y="4800600"/>
                <a:ext cx="4991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7"/>
          <p:cNvSpPr/>
          <p:nvPr/>
        </p:nvSpPr>
        <p:spPr>
          <a:xfrm>
            <a:off x="1055520" y="3200400"/>
            <a:ext cx="14702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1120" y="4784760"/>
            <a:ext cx="2997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 and shift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9"/>
              <p:cNvSpPr txBox="1"/>
              <p:nvPr/>
            </p:nvSpPr>
            <p:spPr>
              <a:xfrm>
                <a:off x="6400800" y="6095880"/>
                <a:ext cx="266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"/>
              <p:cNvSpPr txBox="1"/>
              <p:nvPr/>
            </p:nvSpPr>
            <p:spPr>
              <a:xfrm>
                <a:off x="5181480" y="6095880"/>
                <a:ext cx="762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FF0-4506-4DC6-955A-8DDA67CA6A8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806-6FBD-4254-BF8A-CAB7ACE8F0E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0" name="Picture 3" descr="_x000e_cconv-demo.gif                                                 0000E524_x0005_JIM-2                          B29E03F8:"/>
          <p:cNvPicPr/>
          <p:nvPr/>
        </p:nvPicPr>
        <p:blipFill>
          <a:blip r:embed="rId1"/>
          <a:stretch/>
        </p:blipFill>
        <p:spPr>
          <a:xfrm>
            <a:off x="914400" y="1295280"/>
            <a:ext cx="765180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1C48-3B84-4C68-84FE-3800D8C8C08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C1BA-1BF1-4173-AC2E-F6F68C2A89A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Movi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5" name="Picture 3" descr="_x0008_demo.GIF     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782720"/>
            <a:ext cx="61531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FDF3-675F-49CC-9B9A-93E6226F159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31B-937F-49B8-8C8B-9D27F78494D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valuating convolu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mpul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bility and causa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scade and parallel connec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34DF-F49D-4F77-AD08-1BD79B50BB1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B9A3-B020-4DF6-8404-47B48FB7CC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and Time-Invariant (LTI)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a continuous-time system is both linear and time-invariant, then the out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y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related to the in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 a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volution integ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143000" y="3462480"/>
                <a:ext cx="701028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92A4-4570-42DA-9D45-B34C29EA8B6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EA4A-70D4-426F-A943-82930995D11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8" name="Picture 7" descr="F:\users\Ddrive\Courses\2025-s03\Lectures\Lect20xLect17\x_and_h.png"/>
          <p:cNvPicPr/>
          <p:nvPr/>
        </p:nvPicPr>
        <p:blipFill>
          <a:blip r:embed="rId1"/>
          <a:stretch/>
        </p:blipFill>
        <p:spPr>
          <a:xfrm>
            <a:off x="1295280" y="1828800"/>
            <a:ext cx="7086600" cy="2154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a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838080" y="4267080"/>
                <a:ext cx="75438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6934320" y="1841400"/>
                <a:ext cx="1836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152280" y="1828800"/>
                <a:ext cx="1665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C7EA-7E42-438F-8FC1-EDCB0B11FC3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5FCE-3B62-48E6-82E7-1DE5738482F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6" name="Picture 11" descr="F:\users\Ddrive\Courses\2025-s03\Lectures\Lect20xLect17\flipping.png"/>
          <p:cNvPicPr/>
          <p:nvPr/>
        </p:nvPicPr>
        <p:blipFill>
          <a:blip r:embed="rId1"/>
          <a:stretch/>
        </p:blipFill>
        <p:spPr>
          <a:xfrm>
            <a:off x="1219320" y="1220760"/>
            <a:ext cx="6629400" cy="5419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ipping and Shift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3657600" y="1143000"/>
                <a:ext cx="68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9" name="Object 5"/>
          <p:cNvGraphicFramePr/>
          <p:nvPr/>
        </p:nvGraphicFramePr>
        <p:xfrm>
          <a:off x="3657600" y="3187800"/>
          <a:ext cx="396252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187800"/>
                    <a:ext cx="3962520" cy="4698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657600" y="5092560"/>
                <a:ext cx="4991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7"/>
          <p:cNvSpPr/>
          <p:nvPr/>
        </p:nvSpPr>
        <p:spPr>
          <a:xfrm>
            <a:off x="309600" y="2971800"/>
            <a:ext cx="14702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31120" y="5019840"/>
            <a:ext cx="2997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 and shift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5791320" y="6477120"/>
                <a:ext cx="22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4800600" y="6440400"/>
                <a:ext cx="685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164D-9452-4A55-8191-E90A879FA06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7851-61D5-4645-B830-6F9869A0897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the Integr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2057400" y="4429080"/>
                <a:ext cx="538812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τ</m:t>
                                      </m:r>
                                    </m:sup>
                                  </m:sSup>
                                  <m:r>
                                    <m:t xml:space="preserve">dτ</m:t>
                                  </m:r>
                                  <m:r>
                                    <m:t xml:space="preserve"> </m:t>
                                  </m:r>
                                </m:e>
                              </m:nary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2" name="Picture 7" descr="F:\users\Ddrive\Courses\2025-s03\Lectures\Lect20xLect17\eval_conv.png"/>
          <p:cNvPicPr/>
          <p:nvPr/>
        </p:nvPicPr>
        <p:blipFill>
          <a:blip r:embed="rId1"/>
          <a:stretch/>
        </p:blipFill>
        <p:spPr>
          <a:xfrm>
            <a:off x="1371600" y="1600200"/>
            <a:ext cx="67816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115-0B1C-430A-AE5C-55887C7AAFF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3502-5ACC-4CD6-908A-E0EA51045A6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Picture 1032" descr="F:\users\Ddrive\Courses\2025-s03\Lectures\Lect20xLect17\yt_from_eval_conv.png"/>
          <p:cNvPicPr/>
          <p:nvPr/>
        </p:nvPicPr>
        <p:blipFill>
          <a:blip r:embed="rId1"/>
          <a:stretch/>
        </p:blipFill>
        <p:spPr>
          <a:xfrm>
            <a:off x="990720" y="3581280"/>
            <a:ext cx="7619760" cy="306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029"/>
              <p:cNvSpPr txBox="1"/>
              <p:nvPr/>
            </p:nvSpPr>
            <p:spPr>
              <a:xfrm>
                <a:off x="762120" y="5546880"/>
                <a:ext cx="2276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t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30"/>
              <p:cNvSpPr txBox="1"/>
              <p:nvPr/>
            </p:nvSpPr>
            <p:spPr>
              <a:xfrm>
                <a:off x="4483080" y="3232080"/>
                <a:ext cx="177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031"/>
              <p:cNvSpPr txBox="1"/>
              <p:nvPr/>
            </p:nvSpPr>
            <p:spPr>
              <a:xfrm>
                <a:off x="1523880" y="1569960"/>
                <a:ext cx="533412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  <m:r>
                                <m:t xml:space="preserve">dτ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  <m:r>
                                <m:t xml:space="preserve">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t</m:t>
                          </m:r>
                          <m:r>
                            <m:t xml:space="preserve">≥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B0CA-297A-4B1E-B350-7FAA6E8ECE8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2E40-3C6B-4548-B40D-8CD4CEDCB2E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6" name="Picture 1030" descr="F:\users\Ddrive\Courses\2025-s03\Lectures\Lect20xLect17\cconvdemo2.png"/>
          <p:cNvPicPr/>
          <p:nvPr/>
        </p:nvPicPr>
        <p:blipFill>
          <a:blip r:embed="rId1"/>
          <a:stretch/>
        </p:blipFill>
        <p:spPr>
          <a:xfrm>
            <a:off x="647640" y="990720"/>
            <a:ext cx="7962840" cy="583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8-11-30T13:48:12Z</cp:lastPrinted>
  <dcterms:modified xsi:type="dcterms:W3CDTF">2013-05-16T00:50:41Z</dcterms:modified>
  <cp:revision>365</cp:revision>
  <dc:subject/>
  <dc:title>SPFirst Lecture #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