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923088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83BF-080A-4CED-8E95-33EB40222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3CFA-B55F-4709-B631-3E0B572E3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95AD-3F66-4F08-854D-D8E1BB7B9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368A-4503-43CF-8FD4-60284ADC6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EA119-E83D-400F-87C6-3C6638005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A7FC7-5D62-41DA-9A47-ECC051E65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E255A-BDD7-44B0-8E3C-22DCE45F8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84B2D-A672-4D5F-A993-D96758FDD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38BBC-D8CD-4997-B141-A4314363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5F5EF-0804-498B-ABF5-95FA62B6D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A328D-1A56-41D2-B82C-8B7483D5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6FE3-3196-445C-B43E-C45D35FD4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77307-657A-45A0-9400-22CD206B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9B714-BD1E-49DE-BCA3-73950D5E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9D676-B0AB-4882-82E4-2133A614A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8C197-B2B4-4A47-8D83-86D5392E2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0352D-6278-4457-B7BC-36BF1681E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1127-C2FC-4C43-A425-D366BB955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038B-6023-428D-A6D2-5881A56A0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4539-B462-44EE-B404-B8FCE736B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1E49-8C06-4C33-A86D-8F04E3B4E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CAF7-2A69-488C-B795-3E687FD7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84BF-835F-474F-B008-0D765A3F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65F2-535D-461B-9A85-5ECDB2E4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CB8E7-DA6F-4761-A7BD-1AFC55F8B5FD}" type="datetime">
              <a:rPr b="0" lang="en-US" sz="1200" spc="-1" strike="noStrike">
                <a:solidFill>
                  <a:srgbClr val="5e574e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6358A-02DD-4473-8795-019B473134DB}" type="slidenum">
              <a:rPr b="0" lang="en-US" sz="12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669BE-792A-4976-931B-7647F87D9C95}" type="datetime">
              <a:rPr b="0" lang="en-US" sz="1200" spc="-1" strike="noStrike">
                <a:solidFill>
                  <a:srgbClr val="5e574e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57840-BC4F-4BC5-BF8A-8B94CC1B54F7}" type="slidenum">
              <a:rPr b="0" lang="en-US" sz="12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1.0/" TargetMode="External"/><Relationship Id="rId2" Type="http://schemas.openxmlformats.org/officeDocument/2006/relationships/hyperlink" Target="http://creativecommons.org/licenses/by-nc-sa/1.0/legalcode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ignal Processing Firs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752480" y="350496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cture 11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inearity &amp; Time-Invarianc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nvolu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B3B3B-2100-46E3-B03F-AED25621991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6E76506-CC52-4C89-888F-C2BC03EB3A5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PECIAL INPUT SIGNAL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x[n] = SINUSOID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x[n] has only one NON-ZERO VALU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752480" y="4800600"/>
            <a:ext cx="6464160" cy="1374120"/>
            <a:chOff x="1752480" y="4800600"/>
            <a:chExt cx="6464160" cy="1374120"/>
          </a:xfrm>
        </p:grpSpPr>
        <p:sp>
          <p:nvSpPr>
            <p:cNvPr id="147" name=""/>
            <p:cNvSpPr/>
            <p:nvPr/>
          </p:nvSpPr>
          <p:spPr>
            <a:xfrm>
              <a:off x="1752480" y="5867280"/>
              <a:ext cx="609624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419720" y="4876920"/>
              <a:ext cx="0" cy="12952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4419720" y="5105520"/>
              <a:ext cx="0" cy="7617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4800600" y="5866920"/>
              <a:ext cx="0" cy="97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5181480" y="5866920"/>
              <a:ext cx="0" cy="97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5562720" y="5866920"/>
              <a:ext cx="0" cy="97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5943600" y="5866920"/>
              <a:ext cx="0" cy="97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6324480" y="5866920"/>
              <a:ext cx="0" cy="97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6705720" y="5866920"/>
              <a:ext cx="0" cy="97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4038480" y="5866920"/>
              <a:ext cx="0" cy="97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3657600" y="5866920"/>
              <a:ext cx="0" cy="97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3276720" y="5866920"/>
              <a:ext cx="0" cy="97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2895480" y="5866920"/>
              <a:ext cx="0" cy="97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2514600" y="5866920"/>
              <a:ext cx="0" cy="97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466160" y="4800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850160" y="57150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657080" y="4572000"/>
            <a:ext cx="198972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UNIT-IMPULS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28280" y="1905120"/>
            <a:ext cx="326232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REQUENCY RESPONS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4800600" y="3048120"/>
                <a:ext cx="3276720" cy="16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t xml:space="preserve">n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n</m:t>
                              </m:r>
                              <m:r>
                                <m:t xml:space="preserve">≠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3776-0111-498D-88BB-03E0A1D41DC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EBCB6D-FB58-4F81-ADFF-9830A57DE6E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IR IMPULSE RESPONS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nvolution = Filter Definitio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ilter Coeffs = Impulse Respons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76320" y="3005280"/>
            <a:ext cx="9067680" cy="1795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2209680" y="4876920"/>
                <a:ext cx="381024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2209680" y="4876920"/>
                <a:ext cx="381024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δ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6F91-D2DE-4127-A49D-B38D71C242B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B19FC8-16CC-4FC4-A864-91330B375F5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395280" y="2541600"/>
                <a:ext cx="812484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−</m:t>
                    </m:r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]</m:t>
                    </m:r>
                    <m:r>
                      <m:t xml:space="preserve">−</m:t>
                    </m:r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MATH FORMULA for h[n]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Use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SHIFTED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IMPULSES to write 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[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5486400" y="2971800"/>
            <a:ext cx="1828800" cy="11430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066680" y="3200400"/>
            <a:ext cx="6464160" cy="2745720"/>
            <a:chOff x="1066680" y="3200400"/>
            <a:chExt cx="6464160" cy="2745720"/>
          </a:xfrm>
        </p:grpSpPr>
        <p:sp>
          <p:nvSpPr>
            <p:cNvPr id="176" name=""/>
            <p:cNvSpPr/>
            <p:nvPr/>
          </p:nvSpPr>
          <p:spPr>
            <a:xfrm>
              <a:off x="1066680" y="4952880"/>
              <a:ext cx="609624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962520"/>
              <a:ext cx="0" cy="10666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3733920" y="4191120"/>
              <a:ext cx="0" cy="7617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638680" y="4952880"/>
              <a:ext cx="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19920" y="4952880"/>
              <a:ext cx="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352680" y="4952880"/>
              <a:ext cx="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971800" y="4952880"/>
              <a:ext cx="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590920" y="4952880"/>
              <a:ext cx="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209680" y="4952880"/>
              <a:ext cx="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828800" y="4952880"/>
              <a:ext cx="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80360" y="3886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164360" y="48006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114800" y="4952880"/>
              <a:ext cx="0" cy="7621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4495680" y="3428640"/>
              <a:ext cx="0" cy="1523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5257800" y="4191120"/>
              <a:ext cx="0" cy="7617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876920" y="4952880"/>
              <a:ext cx="0" cy="7621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55400" y="548640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–</a:t>
              </a: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518360" y="3200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55720" y="49244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66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05520" y="4876920"/>
              <a:ext cx="33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66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333399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6" name=""/>
                <p:cNvSpPr txBox="1"/>
                <p:nvPr/>
              </p:nvSpPr>
              <p:spPr>
                <a:xfrm>
                  <a:off x="2743200" y="3505320"/>
                  <a:ext cx="758880" cy="50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[</m:t>
                      </m:r>
                      <m:r>
                        <m:t xml:space="preserve">n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304920" y="5638680"/>
                <a:ext cx="322560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3624-409A-49CF-9D65-5EB2E3F5BA9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C6A2DF-E23B-4D94-9CC7-E690D4F7BA7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362320" y="3949560"/>
                <a:ext cx="5181480" cy="17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TI: Convolution Sum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Output = Convolution of x[n] &amp; h[n]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OTATION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Here is the FIR case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4495680" y="3246480"/>
            <a:ext cx="3892680" cy="2974320"/>
            <a:chOff x="4495680" y="3246480"/>
            <a:chExt cx="3892680" cy="2974320"/>
          </a:xfrm>
        </p:grpSpPr>
        <p:sp>
          <p:nvSpPr>
            <p:cNvPr id="202" name=""/>
            <p:cNvSpPr/>
            <p:nvPr/>
          </p:nvSpPr>
          <p:spPr>
            <a:xfrm>
              <a:off x="6157800" y="3246480"/>
              <a:ext cx="2230560" cy="45972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FINITE LIMITS</a:t>
              </a:r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4495680" y="3505320"/>
              <a:ext cx="1524240" cy="68580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852880" y="5761080"/>
              <a:ext cx="2230560" cy="45972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FINITE LIMITS</a:t>
              </a:r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flipV="1">
              <a:off x="4647960" y="5486400"/>
              <a:ext cx="1066680" cy="53352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865080" y="5046840"/>
            <a:ext cx="4162680" cy="1292400"/>
            <a:chOff x="865080" y="5046840"/>
            <a:chExt cx="4162680" cy="1292400"/>
          </a:xfrm>
        </p:grpSpPr>
        <p:sp>
          <p:nvSpPr>
            <p:cNvPr id="207" name=""/>
            <p:cNvSpPr/>
            <p:nvPr/>
          </p:nvSpPr>
          <p:spPr>
            <a:xfrm>
              <a:off x="865080" y="5759640"/>
              <a:ext cx="2113200" cy="57960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99"/>
                  </a:solidFill>
                  <a:latin typeface="Arial"/>
                </a:rPr>
                <a:t>Same as </a:t>
              </a: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 b</a:t>
              </a:r>
              <a:r>
                <a:rPr b="1" lang="en-US" sz="2800" spc="-1" strike="noStrike" baseline="-25000">
                  <a:solidFill>
                    <a:srgbClr val="333399"/>
                  </a:solidFill>
                  <a:latin typeface="Arial"/>
                </a:rPr>
                <a:t>k</a:t>
              </a:r>
              <a:endParaRPr b="0" lang="en-US" sz="28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008160" y="5046840"/>
              <a:ext cx="2019600" cy="1179360"/>
            </a:xfrm>
            <a:custGeom>
              <a:avLst/>
              <a:gdLst/>
              <a:ahLst/>
              <a:rect l="l" t="t" r="r" b="b"/>
              <a:pathLst>
                <a:path w="1272" h="743">
                  <a:moveTo>
                    <a:pt x="0" y="672"/>
                  </a:moveTo>
                  <a:cubicBezTo>
                    <a:pt x="144" y="707"/>
                    <a:pt x="288" y="743"/>
                    <a:pt x="480" y="720"/>
                  </a:cubicBezTo>
                  <a:cubicBezTo>
                    <a:pt x="671" y="696"/>
                    <a:pt x="1032" y="648"/>
                    <a:pt x="1152" y="528"/>
                  </a:cubicBezTo>
                  <a:cubicBezTo>
                    <a:pt x="1272" y="408"/>
                    <a:pt x="1236" y="204"/>
                    <a:pt x="1200" y="0"/>
                  </a:cubicBezTo>
                </a:path>
              </a:pathLst>
            </a:custGeom>
            <a:noFill/>
            <a:ln w="2844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3505320" y="2332080"/>
                <a:ext cx="303516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∗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28D3-7DB6-4B8A-BDE5-1DCD5001346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5B6CCF-07EE-4273-B99C-BA95752CC85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NVOLUTION Exampl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600200" y="2735280"/>
          <a:ext cx="5715000" cy="40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735280"/>
                    <a:ext cx="5715000" cy="40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533520" y="1654200"/>
                <a:ext cx="812484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δ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t xml:space="preserve">δ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δ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t xml:space="preserve">δ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  <m:r>
                          <m:t xml:space="preserve">δ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533520" y="4114800"/>
                <a:ext cx="1623960" cy="21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0</m:t>
                        </m:r>
                        <m:r>
                          <m:t xml:space="preserve">]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2</m:t>
                        </m:r>
                        <m:r>
                          <m:t xml:space="preserve">]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3</m:t>
                        </m:r>
                        <m:r>
                          <m:t xml:space="preserve">]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4</m:t>
                        </m:r>
                        <m:r>
                          <m:t xml:space="preserve">]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1448-5B65-4E3F-BED0-C5A156A6661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4F7FA7-2724-44C3-B58F-6F9F486AC94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GENERAL FIR FILTE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6189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LIDE a Length-L WINDOW over x[n]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2279520"/>
            <a:ext cx="9296280" cy="36640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4130640" y="5900760"/>
            <a:ext cx="70668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377800" y="5900760"/>
            <a:ext cx="108000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n-M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581280" y="2286000"/>
            <a:ext cx="3048120" cy="114300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B3BF-6384-4FC7-9FB6-A9193F6A850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E1A3BE-9961-49DD-99C9-CB52C2B7F6D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280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DCONVDEMO: MATLAB GUI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888840" y="1193760"/>
            <a:ext cx="7366320" cy="551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A80D-0DCD-42EF-AED1-1B1DDB3F96F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396AF1-55C6-4383-A78E-6AAAAAE316C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3124080" y="5562720"/>
                <a:ext cx="416412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−</m:t>
                    </m:r>
                    <m:r>
                      <m:t xml:space="preserve">u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POP QUIZ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733040"/>
            <a:ext cx="8178840" cy="18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R Filter is “FIRST DIFFERENCE”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[</a:t>
            </a: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] = </a:t>
            </a: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[</a:t>
            </a: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] - </a:t>
            </a: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[n-1]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PUT is “UNIT STEP”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4724280"/>
            <a:ext cx="81788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nd 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[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809880" y="3505320"/>
            <a:ext cx="5029200" cy="1882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611280" y="3581280"/>
                <a:ext cx="2741400" cy="13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t xml:space="preserve">n</m:t>
                              </m:r>
                              <m:r>
                                <m:t xml:space="preserve">≥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n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124080" y="5562720"/>
                <a:ext cx="549756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−</m:t>
                    </m:r>
                    <m:r>
                      <m:t xml:space="preserve">u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28FD-0CD8-43A3-AA5A-ED000AB1BB3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6EDBE1-8814-4360-B973-95D2DB9D36D3}" type="datetime1">
              <a:rPr lang="en-US"/>
              <a:t>07/29/26</a:t>
            </a:fld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HARDWARE STRUCTUR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INTERNAL STRUCTURE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of “FILTER”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AT COMPONENTS ARE NEEDED?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HOW DO WE “HOOK” THEM TOGETHER?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GNAL FLOW GRAPH NOTATIO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1981080"/>
            <a:ext cx="190512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FILTER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09480" y="243828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505320" y="2438280"/>
            <a:ext cx="9903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633840" y="19810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y[n]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47000" y="19810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x[n]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4800600" y="1828800"/>
                <a:ext cx="411480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A06E-2B98-42BD-B17B-A78F25F5758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050A5B-D07D-44FF-B52E-CA06F4D58AF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HARDWARE ATOM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dd, Multiply &amp; Stor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76320" y="2989440"/>
            <a:ext cx="6858000" cy="3755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5257800" y="1752480"/>
                <a:ext cx="3505320" cy="128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457200" y="4724280"/>
                <a:ext cx="20955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β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4226040" y="6172200"/>
                <a:ext cx="22860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6019920" y="4425840"/>
                <a:ext cx="300348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E238-3480-460E-94E7-75EEEC52A5E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3C6817-5F83-4A3A-B97D-260D7FE081F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8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icense Info for SPFirst Slid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is work released under a 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Creative Commons License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 with the following terms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ttribu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copy, distribute, display, and perform the work. In return, licensees must give the original authors credit.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on-Commercia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copy, distribute, display, and perform the work. In return, licensees may not use the work for commercial purposes—unless they get the licensor's permission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hare Alik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distribute derivative works only under a license identical to the one that governs the licensor's work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33"/>
                </a:solidFill>
                <a:uFillTx/>
                <a:latin typeface="Verdana"/>
                <a:hlinkClick r:id="rId2"/>
              </a:rPr>
              <a:t>Full Text of the License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6600"/>
                </a:solidFill>
                <a:latin typeface="Verdana"/>
              </a:rPr>
              <a:t>This (hidden) page should be kept with the presentati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7886-ED97-4C9E-BD5A-2FC72650246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D7401C-CD30-4BF0-A469-C22432BF5814}" type="datetime1">
              <a:rPr lang="en-US"/>
              <a:t>07/29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IR STRUCTUR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irect Form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76320" y="3497400"/>
            <a:ext cx="9067680" cy="32083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242640" y="2743200"/>
            <a:ext cx="1920960" cy="70380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IGNA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LOW GRAPH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6320" y="4800600"/>
            <a:ext cx="609480" cy="838080"/>
          </a:xfrm>
          <a:prstGeom prst="ellipse">
            <a:avLst/>
          </a:prstGeom>
          <a:noFill/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209680" y="4724280"/>
            <a:ext cx="609840" cy="838440"/>
          </a:xfrm>
          <a:prstGeom prst="ellipse">
            <a:avLst/>
          </a:prstGeom>
          <a:noFill/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495680" y="4724280"/>
            <a:ext cx="609840" cy="838440"/>
          </a:xfrm>
          <a:prstGeom prst="ellipse">
            <a:avLst/>
          </a:prstGeom>
          <a:noFill/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781680" y="4724280"/>
            <a:ext cx="609840" cy="838440"/>
          </a:xfrm>
          <a:prstGeom prst="ellipse">
            <a:avLst/>
          </a:prstGeom>
          <a:noFill/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4038480" y="1752480"/>
                <a:ext cx="4572000" cy="16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B4B5-0CF7-4558-B63A-0FB49D5D0AA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BD400F-6855-42A7-9C60-BDAE3237D42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Moore’s Law for TI DSP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76320" y="1166760"/>
            <a:ext cx="8839080" cy="57276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6705720" y="4070520"/>
            <a:ext cx="2286000" cy="8254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ouble every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8 months ?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307880" y="1752480"/>
            <a:ext cx="195768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OG SCAL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352F-8436-4FF4-B18A-F16E6F78144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3B2C1D-0D69-4822-8053-542B4B9B5BE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YSTEM PROPERTI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MATHEMATICAL DESCRIPTIO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TIME-INVARIANC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LINEARITY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AUSALITY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o output prior to input”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505320" y="1905120"/>
            <a:ext cx="190476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514600" y="236232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410080" y="236232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538600" y="190512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y[n]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51760" y="190512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x[n]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023D-A604-4A7D-ABEE-8EB559677A5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BE8474-75D7-4755-BA85-C93D54C9DBB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TIME-INVARIANC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DEA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ime-Shifting the input will cause the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same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time-shift in the output”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QUIVALENTLY,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e can prove tha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 time origin (n=0) is picked arbitrary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1787-AACB-4B38-BB03-C32CFC1D184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B2B807-811C-4884-8A58-BC2AAAD51BC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TESTING Time-Invarianc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443556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1779480" y="4038480"/>
            <a:ext cx="5383440" cy="2222640"/>
          </a:xfrm>
          <a:custGeom>
            <a:avLst/>
            <a:gdLst/>
            <a:ahLst/>
            <a:rect l="l" t="t" r="r" b="b"/>
            <a:pathLst>
              <a:path w="3391" h="1400">
                <a:moveTo>
                  <a:pt x="3176" y="768"/>
                </a:moveTo>
                <a:cubicBezTo>
                  <a:pt x="3283" y="932"/>
                  <a:pt x="3391" y="1096"/>
                  <a:pt x="3128" y="1200"/>
                </a:cubicBezTo>
                <a:cubicBezTo>
                  <a:pt x="2864" y="1303"/>
                  <a:pt x="2072" y="1400"/>
                  <a:pt x="1592" y="1392"/>
                </a:cubicBezTo>
                <a:cubicBezTo>
                  <a:pt x="1112" y="1384"/>
                  <a:pt x="495" y="1383"/>
                  <a:pt x="248" y="1152"/>
                </a:cubicBezTo>
                <a:cubicBezTo>
                  <a:pt x="0" y="920"/>
                  <a:pt x="52" y="460"/>
                  <a:pt x="104" y="0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5D0C-BAE5-4EF1-BB95-CB051314A19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0E8BBA-9BB7-44F9-973A-7574510939C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INEAR SYSTEM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INEARITY = Two Propertie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SCALING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oubling x[n] will double y[n]”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SUPERPOSITION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dding two inputs gives an output that is the sum of the individual outputs”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1DFD-3B9B-408B-B57D-44CF4C7C519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96A853-D4C5-4785-A5A2-FB9040E082F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TESTING LINEARITY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472104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152280" y="3581280"/>
            <a:ext cx="2286000" cy="251460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334120" y="1676520"/>
            <a:ext cx="1904760" cy="251460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C4D1-8F5C-42C1-AE2E-63698E8C0186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9CA010-1370-427C-A9E0-E25BB448C19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TI SYSTEM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TI:  </a:t>
            </a: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ear &amp; </a:t>
            </a: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me-</a:t>
            </a: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nvarian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MPLETELY CHARACTERIZED by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IMPULSE RESPONSE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h[n]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CONVOLUTION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:  y[n] = x[n]*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h[n]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 “rule”defining the system can ALWAYS be re-written as convolu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R Example: h[n] is same as b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7BEF-7C0A-47AF-BD5D-3665A73B72D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73DE1E-112A-43E9-B79C-51B18627A86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POP QUIZ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733040"/>
            <a:ext cx="8178840" cy="18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IR Filter is “FIRST DIFFERENCE”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[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] = 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[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] - 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[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-1]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rite output as a convolutio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eed impulse respons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482760" indent="-185760">
              <a:lnSpc>
                <a:spcPct val="4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n, another way to compute the output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22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" y="4724280"/>
            <a:ext cx="81788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2693880" y="3581280"/>
                <a:ext cx="345276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−</m:t>
                    </m:r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2133720" y="4724280"/>
                <a:ext cx="46782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δ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t xml:space="preserve">δ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</m:e>
                    </m:d>
                    <m:r>
                      <m:t xml:space="preserve">∗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F284-B31B-4000-9E17-A8F009BFB5C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BD6F14-3080-40FB-A2D9-F09BC010BC10}" type="datetime1">
              <a:rPr lang="en-US"/>
              <a:t>07/29/26</a:t>
            </a:fld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ASCADE SYSTEM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oes the order of S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&amp; S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matter?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O, </a:t>
            </a:r>
            <a:r>
              <a:rPr b="0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LTI SYSTEMS can be rearranged !!!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AT ARE THE FILTER COEFFS?   {b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0" y="3898800"/>
            <a:ext cx="9144000" cy="219708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2813760" y="4876920"/>
            <a:ext cx="583200" cy="648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699960" y="4876920"/>
            <a:ext cx="583200" cy="648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00AD-0FEE-4624-98C0-EACB9D3A304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39730F-4C27-4DC4-B7A5-21DED4E02993}" type="datetime1">
              <a:rPr lang="en-US"/>
              <a:t>07/29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READING ASSIGNMENT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s Lecture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hapter 5, Sections 5-5 and 5-6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ection 5-4 will be covered, but not “in depth”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ther Reading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citation: Ch. 5, Sects 5-6, 5-7 &amp; 5-8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CONVOLU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ext Lecture: start Chapter 6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70AE-07AB-4786-B60C-BAFC15C6DA1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FD5FE7-B5BC-411C-836A-F63C02351F3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ASCADE EQUIVALEN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ind “overall” h[n] for a cascade ?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457200" y="2235240"/>
            <a:ext cx="8305920" cy="462276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829520" y="3048120"/>
            <a:ext cx="482400" cy="5101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401520" y="3048120"/>
            <a:ext cx="482400" cy="5101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020640" y="5867280"/>
            <a:ext cx="482400" cy="5101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524600" y="5867280"/>
            <a:ext cx="482400" cy="5101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29000" y="3048120"/>
            <a:ext cx="2133720" cy="236196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1981080" y="2819520"/>
            <a:ext cx="3353040" cy="266688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781680" y="4572000"/>
            <a:ext cx="2057400" cy="38088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DDB5-7649-49B6-911F-A9AB11D3A17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2D7F8E-DA9F-4E56-B3B0-6C3BE71C66FE}" type="datetime1">
              <a:rPr lang="en-US"/>
              <a:t>07/29/26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NVOLUTION Exampl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76312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7B26-900E-4651-BEB6-5B59049D56A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C8CCC4-740C-428C-A52F-6CA3A0CCA4FF}" type="datetime1">
              <a:rPr lang="en-US"/>
              <a:t>07/29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ECTURE OBJECTIV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4266720"/>
            <a:ext cx="8178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LOCK DIAGRAM REPRESENTATIO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mponents for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 Hardwar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Connect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imple Filters Together to Build More Complicated System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44680" y="2514600"/>
            <a:ext cx="217728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TI SYSTEM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1752480"/>
            <a:ext cx="817884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GENERAL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PROPERTIES of FILTER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L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EARITY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T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ME-</a:t>
            </a:r>
            <a:r>
              <a:rPr b="0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I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VARIANC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==&gt; 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CONVOLUTIO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E469-FDF6-46A4-8824-510D4219942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7E4644-30C9-4A75-A88F-21303ADBC74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80880" y="17524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MPULSE RESPONSE, 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IR case:  same a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NVOLUTIO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ENERAL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ENERAL CLASS of SYSTEM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INEAR     and     TIME-INVARIAN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ALL </a:t>
            </a: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LTI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 systems have </a:t>
            </a: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[</a:t>
            </a: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] &amp; use convolutio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OVERVIEW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3276720" y="3548160"/>
                <a:ext cx="304776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∗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5257800" y="1752480"/>
                <a:ext cx="85104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495680" y="2438280"/>
                <a:ext cx="81612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9F8A-9FE1-43E5-8F63-FB10FDD93EF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4F0B03-1151-469A-B88E-D154B462F27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NCENTRATE on the FILTER  (DSP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ISCRETE-TIME SIGNAL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UNCTIONS of </a:t>
            </a: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, the “time index”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PUT </a:t>
            </a: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[</a:t>
            </a: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UTPUT </a:t>
            </a: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[</a:t>
            </a: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DIGITAL FILTERING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1905120"/>
            <a:ext cx="1904760" cy="914400"/>
          </a:xfrm>
          <a:prstGeom prst="rect">
            <a:avLst/>
          </a:prstGeom>
          <a:solidFill>
            <a:srgbClr val="ffcc00"/>
          </a:soli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FILTER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400800" y="1905120"/>
            <a:ext cx="121932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D-to-A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1905120"/>
            <a:ext cx="121932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A-to-D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14600" y="236232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10080" y="236232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20120" y="2362320"/>
            <a:ext cx="9903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2362320"/>
            <a:ext cx="9903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5880" y="190512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x(t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758360" y="190512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y(t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38600" y="190512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Arial"/>
              </a:rPr>
              <a:t>y[n]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51760" y="190512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Arial"/>
              </a:rPr>
              <a:t>x[n]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19920" y="2514600"/>
            <a:ext cx="838080" cy="1600200"/>
          </a:xfrm>
          <a:custGeom>
            <a:avLst/>
            <a:gdLst/>
            <a:ahLst/>
            <a:rect l="l" t="t" r="r" b="b"/>
            <a:pathLst>
              <a:path w="592" h="1104">
                <a:moveTo>
                  <a:pt x="0" y="1104"/>
                </a:moveTo>
                <a:cubicBezTo>
                  <a:pt x="196" y="1064"/>
                  <a:pt x="392" y="1024"/>
                  <a:pt x="480" y="912"/>
                </a:cubicBezTo>
                <a:cubicBezTo>
                  <a:pt x="568" y="800"/>
                  <a:pt x="592" y="584"/>
                  <a:pt x="528" y="432"/>
                </a:cubicBezTo>
                <a:cubicBezTo>
                  <a:pt x="464" y="280"/>
                  <a:pt x="168" y="72"/>
                  <a:pt x="96" y="0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7BC3-7522-4B3B-9A5B-372FBFB88D0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51394C-FAE6-4532-BD86-5BEBF7F54FD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BUILDING BLOCK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BUILD UP COMPLICATED FILTER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ROM SIMPLE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MODUL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x: FILTER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MODULE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MIGHT BE 3-pt FIR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2057400"/>
            <a:ext cx="1371600" cy="76212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FILTER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243828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934320" y="2438280"/>
            <a:ext cx="91440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215120" y="190512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y[n]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47000" y="190512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x[n]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800600" y="2057400"/>
            <a:ext cx="1371600" cy="76212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FILTER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86200" y="3276720"/>
            <a:ext cx="1371600" cy="76176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FILTER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05320" y="2438280"/>
            <a:ext cx="12952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3880" y="3657600"/>
            <a:ext cx="23623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438280"/>
            <a:ext cx="0" cy="12193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257440" y="3657600"/>
            <a:ext cx="16765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6934320" y="2514240"/>
            <a:ext cx="0" cy="11430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0" y="2362320"/>
            <a:ext cx="152280" cy="152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72200" y="2438280"/>
            <a:ext cx="68580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933600" y="25146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400080" y="20574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79800" y="2597040"/>
            <a:ext cx="788760" cy="337320"/>
          </a:xfrm>
          <a:prstGeom prst="rect">
            <a:avLst/>
          </a:prstGeom>
          <a:solidFill>
            <a:srgbClr val="ccecff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PUT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32320" y="1905120"/>
            <a:ext cx="1012680" cy="337320"/>
          </a:xfrm>
          <a:prstGeom prst="rect">
            <a:avLst/>
          </a:prstGeom>
          <a:solidFill>
            <a:srgbClr val="ccecff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OUTPUT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265A-CCCB-4CBE-B5C4-09B631FE482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407F5A-A688-4760-8A08-E67DA3C5F46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GENERAL FIR FILTE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LTER COEFFICIENTS {b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EFINE THE FILTER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r example,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5029200" y="2286000"/>
                <a:ext cx="37339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914400" y="4495680"/>
                <a:ext cx="7543800" cy="185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x</m:t>
                            </m:r>
                            <m:r>
                              <m:t xml:space="preserve">[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]</m:t>
                            </m:r>
                          </m:e>
                        </m:nary>
                      </m:e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3505320" y="3733920"/>
                <a:ext cx="2514600" cy="59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6934320" y="1752480"/>
            <a:ext cx="304560" cy="990720"/>
          </a:xfrm>
          <a:prstGeom prst="downArrow">
            <a:avLst>
              <a:gd name="adj1" fmla="val 50000"/>
              <a:gd name="adj2" fmla="val 81324"/>
            </a:avLst>
          </a:prstGeom>
          <a:solidFill>
            <a:srgbClr val="ff66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4191120"/>
            <a:ext cx="380880" cy="1600200"/>
          </a:xfrm>
          <a:custGeom>
            <a:avLst/>
            <a:gdLst/>
            <a:ahLst/>
            <a:rect l="l" t="t" r="r" b="b"/>
            <a:pathLst>
              <a:path w="535" h="1008">
                <a:moveTo>
                  <a:pt x="336" y="0"/>
                </a:moveTo>
                <a:cubicBezTo>
                  <a:pt x="435" y="60"/>
                  <a:pt x="535" y="120"/>
                  <a:pt x="480" y="288"/>
                </a:cubicBezTo>
                <a:cubicBezTo>
                  <a:pt x="424" y="455"/>
                  <a:pt x="212" y="731"/>
                  <a:pt x="0" y="1008"/>
                </a:cubicBezTo>
              </a:path>
            </a:pathLst>
          </a:custGeom>
          <a:noFill/>
          <a:ln w="57240">
            <a:solidFill>
              <a:srgbClr val="ff66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F7F1-A7FB-4817-BA18-AA5BEC99849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CA9A3E-0E24-4AAC-BE72-E6CB8555EFB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MATLAB for FIR FILTE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Courier New"/>
              </a:rPr>
              <a:t>yy = conv(bb,xx)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VECTOR </a:t>
            </a:r>
            <a:r>
              <a:rPr b="1" lang="en-US" sz="3600" spc="-1" strike="noStrike">
                <a:solidFill>
                  <a:srgbClr val="ff6600"/>
                </a:solidFill>
                <a:latin typeface="Courier New"/>
              </a:rPr>
              <a:t>bb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contains Filter Coefficient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SP-First:   </a:t>
            </a:r>
            <a:r>
              <a:rPr b="1" lang="en-US" sz="3600" spc="-1" strike="noStrike">
                <a:solidFill>
                  <a:srgbClr val="ff6600"/>
                </a:solidFill>
                <a:latin typeface="Courier New"/>
              </a:rPr>
              <a:t>yy = firfilt(bb,xx)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LTER COEFFICIENTS  </a:t>
            </a: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{b</a:t>
            </a:r>
            <a:r>
              <a:rPr b="0" lang="en-US" sz="3600" spc="-1" strike="noStrike" baseline="-25000">
                <a:solidFill>
                  <a:srgbClr val="ff6600"/>
                </a:solidFill>
                <a:latin typeface="Arial"/>
              </a:rPr>
              <a:t>k</a:t>
            </a: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92200" y="4003560"/>
            <a:ext cx="1887480" cy="94716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urier New"/>
              </a:rPr>
              <a:t>conv2(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or imag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828800" y="4605480"/>
                <a:ext cx="4267080" cy="15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6E20-D46A-4A7E-B940-8453815EBE5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B34E77-0FD7-4286-8591-68D44F105CA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9T04:53:29Z</dcterms:created>
  <dc:creator>Jim McClellan</dc:creator>
  <dc:description/>
  <dc:language>en-US</dc:language>
  <cp:lastModifiedBy> </cp:lastModifiedBy>
  <cp:lastPrinted>1999-05-04T22:17:43Z</cp:lastPrinted>
  <dcterms:modified xsi:type="dcterms:W3CDTF">2005-02-18T22:31:56Z</dcterms:modified>
  <cp:revision>218</cp:revision>
  <dc:subject/>
  <dc:title>SPFirst Lecture #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users.ece.gatech.edu/mcclella</vt:lpwstr>
  </property>
  <property fmtid="{D5CDD505-2E9C-101B-9397-08002B2CF9AE}" pid="9" name="LinkColor">
    <vt:r8>16711782</vt:r8>
  </property>
  <property fmtid="{D5CDD505-2E9C-101B-9397-08002B2CF9AE}" pid="10" name="MailAddress">
    <vt:lpwstr>jim.mcclellan@ece.gatech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D: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