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13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17.wmf" ContentType="image/x-wmf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7.png" ContentType="image/png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759-8BBE-41EB-82B4-7D66492A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415-822E-48D9-9B85-E48CF71B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49C-0713-44B1-8927-605054C4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94C-F179-40F9-9D5D-27C2AA8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02D7-26BD-4D84-A42F-33F71378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2006-B6E0-4F63-A8C7-D93659F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B81D-414A-4B6C-9F72-3D7DEE2B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86CE-30B2-432D-B5F9-3C228BC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5A2A-F9B2-4854-968A-F8EA6EB7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70A1-A9DE-4817-8F51-7E927D6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3CCA-2962-492C-A269-4DF5322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EF9-1944-4691-B990-EC6981D5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BC5-3BEF-4C6B-A93B-A6A41C8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7473-0DD2-4489-8F16-4A9D2E4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D316-5287-4C88-B135-AB9FD59F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473-57F2-4C6A-82B3-D96C578A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A922-C6DE-4D5D-98C5-088BAC74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A50-153B-4E6B-9A94-6E9D5230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FCC-DA97-4054-9B01-86EA23D8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730-8AF6-43E2-832B-8DB91AB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D22-67B9-4C06-A868-0949C2F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C9C-E5E2-49D4-8544-0024306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270-296E-4B3D-ABBB-8A24690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189-B9C6-417D-83AA-552A4A6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CF5B-37F4-451F-A0F9-05B471A44D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0D3-E14B-433F-81DA-6BBDAAE9349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9989-D411-4B57-B136-3BB93BE9CFA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0FFA-D1DE-4DE5-B176-A17E66866AD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744-41B6-446F-9A17-A998732DA8D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837-B457-4872-9495-E9164B13FAB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9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ignals and System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DBD2-B282-43A3-A091-CA771194B67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0F8-BEA0-407A-AF94-FB44DE6DF38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the properties apply to the limi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INTUITIVE”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finition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fining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066680" y="4952880"/>
            <a:ext cx="4912200" cy="1206720"/>
            <a:chOff x="1066680" y="4952880"/>
            <a:chExt cx="4912200" cy="1206720"/>
          </a:xfrm>
        </p:grpSpPr>
        <p:sp>
          <p:nvSpPr>
            <p:cNvPr id="174" name="Text Box 6"/>
            <p:cNvSpPr/>
            <p:nvPr/>
          </p:nvSpPr>
          <p:spPr>
            <a:xfrm>
              <a:off x="4150800" y="525780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cc"/>
                  </a:solidFill>
                  <a:latin typeface="Arial"/>
                </a:rPr>
                <a:t>Unit area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5" name="Object 7"/>
            <p:cNvGraphicFramePr/>
            <p:nvPr/>
          </p:nvGraphicFramePr>
          <p:xfrm>
            <a:off x="1066680" y="4952880"/>
            <a:ext cx="2210040" cy="120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2210040" cy="120672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77" name="Group 11"/>
          <p:cNvGrpSpPr/>
          <p:nvPr/>
        </p:nvGrpSpPr>
        <p:grpSpPr>
          <a:xfrm>
            <a:off x="838080" y="4235400"/>
            <a:ext cx="6327360" cy="565200"/>
            <a:chOff x="838080" y="4235400"/>
            <a:chExt cx="6327360" cy="565200"/>
          </a:xfrm>
        </p:grpSpPr>
        <p:sp>
          <p:nvSpPr>
            <p:cNvPr id="178" name="Text Box 5"/>
            <p:cNvSpPr/>
            <p:nvPr/>
          </p:nvSpPr>
          <p:spPr>
            <a:xfrm>
              <a:off x="4298040" y="4267080"/>
              <a:ext cx="28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Concentrated at t=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9" name="Object 8"/>
            <p:cNvGraphicFramePr/>
            <p:nvPr/>
          </p:nvGraphicFramePr>
          <p:xfrm>
            <a:off x="838080" y="4235400"/>
            <a:ext cx="302904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4235400"/>
                      <a:ext cx="3029040" cy="56520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2362320" y="2438280"/>
                <a:ext cx="3581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1A0E-7B77-48C7-BE8E-214D30DE342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CF4-68B5-4C4A-9DA6-0925B2780BB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6553080" cy="467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3048120" y="4132440"/>
                <a:ext cx="376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3048120" y="1746360"/>
                <a:ext cx="426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5623-9B33-45B5-A2D8-89F1D4B3CF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CA97-92F8-4A83-8A65-C4CF2F0E704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3017880"/>
            <a:ext cx="9144000" cy="32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895320" y="1922400"/>
                <a:ext cx="7562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393F-240A-44AC-8273-E4ADEEEF348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4F4-4E74-4ACF-874D-007410FC6A7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operties of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060160" y="16765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oncentrated at one ti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823360" y="35812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ampling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88880" y="25146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Unit are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120280" y="45720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xtract one value of f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646520" y="57150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rivative of unit ste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152280" y="3505320"/>
          <a:ext cx="5257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5257800" cy="5871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Object 11"/>
          <p:cNvGraphicFramePr/>
          <p:nvPr/>
        </p:nvGraphicFramePr>
        <p:xfrm>
          <a:off x="673200" y="2222640"/>
          <a:ext cx="2693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2222640"/>
                    <a:ext cx="2693880" cy="12063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12"/>
          <p:cNvGraphicFramePr/>
          <p:nvPr/>
        </p:nvGraphicFramePr>
        <p:xfrm>
          <a:off x="587520" y="1581120"/>
          <a:ext cx="3836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520" y="1581120"/>
                    <a:ext cx="3836880" cy="60480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04920" y="4160880"/>
          <a:ext cx="3925800" cy="117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60880"/>
                    <a:ext cx="3925800" cy="11732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914400" y="5410080"/>
          <a:ext cx="2286000" cy="106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410080"/>
                    <a:ext cx="2286000" cy="10670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24B-AD22-4C06-BA1E-B2870AC5039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8F0A-46DE-4618-B0A3-EC35A51605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tinuous-Tim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073840" cy="148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562720" y="2590920"/>
                <a:ext cx="3047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a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743200" y="3733920"/>
                <a:ext cx="2971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3809880" y="4581360"/>
                <a:ext cx="45198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3581280" y="5181480"/>
                <a:ext cx="297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9"/>
          <p:cNvSpPr/>
          <p:nvPr/>
        </p:nvSpPr>
        <p:spPr>
          <a:xfrm>
            <a:off x="534240" y="24224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776200" y="1828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80FE-A281-49CD-8C97-B37DC004268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2141-EFE0-450A-BF74-035CC7A83A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OR   (CIRCUIT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TI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by  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ULATOR   (e.g., AM Radio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ER &amp; ADD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BCB-4660-489E-8A89-57C9C10DAD0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246-FAE6-45EC-A77F-9CF1F2C435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28"/>
              <p:cNvSpPr txBox="1"/>
              <p:nvPr/>
            </p:nvSpPr>
            <p:spPr>
              <a:xfrm>
                <a:off x="2286000" y="4803840"/>
                <a:ext cx="4038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30"/>
              <p:cNvSpPr txBox="1"/>
              <p:nvPr/>
            </p:nvSpPr>
            <p:spPr>
              <a:xfrm>
                <a:off x="2438280" y="2590920"/>
                <a:ext cx="3810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A53E-E9C3-48C5-BB9E-D392AAAC873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48D-C10B-4762-A4E0-8F797DA055B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2" name="Picture 1033" descr=""/>
          <p:cNvPicPr/>
          <p:nvPr/>
        </p:nvPicPr>
        <p:blipFill>
          <a:blip r:embed="rId1"/>
          <a:stretch/>
        </p:blipFill>
        <p:spPr>
          <a:xfrm>
            <a:off x="723960" y="4568760"/>
            <a:ext cx="7632720" cy="2136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4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632720" cy="2136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737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deal Delay of 1 se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028"/>
              <p:cNvSpPr txBox="1"/>
              <p:nvPr/>
            </p:nvSpPr>
            <p:spPr>
              <a:xfrm>
                <a:off x="1905120" y="1523880"/>
                <a:ext cx="189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29"/>
              <p:cNvSpPr txBox="1"/>
              <p:nvPr/>
            </p:nvSpPr>
            <p:spPr>
              <a:xfrm>
                <a:off x="685800" y="3733920"/>
                <a:ext cx="6858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7168-2C49-4776-8FC4-A66C21BFA20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9F0-0616-47C0-A158-A57BB345A80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054"/>
              <p:cNvSpPr txBox="1"/>
              <p:nvPr/>
            </p:nvSpPr>
            <p:spPr>
              <a:xfrm>
                <a:off x="2057400" y="2389320"/>
                <a:ext cx="3276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2055"/>
          <p:cNvGraphicFramePr/>
          <p:nvPr/>
        </p:nvGraphicFramePr>
        <p:xfrm>
          <a:off x="1905120" y="4896000"/>
          <a:ext cx="441936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0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896000"/>
                    <a:ext cx="441936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2056"/>
          <p:cNvSpPr/>
          <p:nvPr/>
        </p:nvSpPr>
        <p:spPr>
          <a:xfrm>
            <a:off x="6285240" y="2760840"/>
            <a:ext cx="241488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unning Integr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BA79-E8D4-42F8-8D26-093A85D4EF0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C205-616E-458C-A47B-95C5A489D2A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e the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lt;0, we get zer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gt;0, we get o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we have h(t) = u(t) for the 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4572000" y="152280"/>
                <a:ext cx="35053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2" name="Object 6"/>
          <p:cNvGraphicFramePr/>
          <p:nvPr/>
        </p:nvGraphicFramePr>
        <p:xfrm>
          <a:off x="3429000" y="2438280"/>
          <a:ext cx="38736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3873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CBB-DAD3-4919-B183-E85DE0D742D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56B-56B8-4621-9C60-12FA1662BF2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 9-1 to 9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, Sects 9-6 to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657-648F-4528-9786-E15EA9C10EF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69C1-9F76-46C6-9976-7BC0E64AECB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raphical Represent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6755040" cy="471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4489560" y="3244680"/>
                <a:ext cx="1648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6019920" y="1752480"/>
                <a:ext cx="2209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724280" y="3809880"/>
                <a:ext cx="4013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AD9-730F-4FB4-97A5-577E26E675A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CD0-891E-46BF-B981-E1A9FAC210F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ntegr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6019920" y="330120"/>
                <a:ext cx="297180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7" name="Picture 9" descr="int_exponential30"/>
          <p:cNvPicPr/>
          <p:nvPr/>
        </p:nvPicPr>
        <p:blipFill>
          <a:blip r:embed="rId1"/>
          <a:stretch/>
        </p:blipFill>
        <p:spPr>
          <a:xfrm>
            <a:off x="0" y="1676520"/>
            <a:ext cx="5791320" cy="41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5411880" y="3835440"/>
                <a:ext cx="35845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8</m:t>
                                          </m:r>
                                          <m:r>
                                            <m:t xml:space="preserve">τ</m:t>
                                          </m:r>
                                        </m:sup>
                                      </m:sSup>
                                      <m:r>
                                        <m:t xml:space="preserve">u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τ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2787480" y="1752480"/>
                <a:ext cx="2241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Line 11"/>
          <p:cNvSpPr/>
          <p:nvPr/>
        </p:nvSpPr>
        <p:spPr>
          <a:xfrm flipH="1">
            <a:off x="6629040" y="5791320"/>
            <a:ext cx="685800" cy="152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F697-9935-4764-BBEC-723328EAA90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7AB0-AF6E-44FE-91EF-1DF40E7A8D7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029"/>
              <p:cNvSpPr txBox="1"/>
              <p:nvPr/>
            </p:nvSpPr>
            <p:spPr>
              <a:xfrm>
                <a:off x="2590920" y="2438280"/>
                <a:ext cx="2458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30"/>
              <p:cNvSpPr txBox="1"/>
              <p:nvPr/>
            </p:nvSpPr>
            <p:spPr>
              <a:xfrm>
                <a:off x="1752480" y="4724280"/>
                <a:ext cx="39848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1031"/>
          <p:cNvSpPr/>
          <p:nvPr/>
        </p:nvSpPr>
        <p:spPr>
          <a:xfrm>
            <a:off x="6649560" y="4952880"/>
            <a:ext cx="122940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ubl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87B-E6DF-41D0-A012-9510D2A6D0F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B24A-33B7-4885-B4E4-A2C6E2CCF2E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 Output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6553080" y="304920"/>
                <a:ext cx="22860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4" name="Picture 7" descr="diff_exponential"/>
          <p:cNvPicPr/>
          <p:nvPr/>
        </p:nvPicPr>
        <p:blipFill>
          <a:blip r:embed="rId1"/>
          <a:stretch/>
        </p:blipFill>
        <p:spPr>
          <a:xfrm>
            <a:off x="3276720" y="1676520"/>
            <a:ext cx="5790960" cy="357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304920" y="1676520"/>
                <a:ext cx="30938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52280" y="4875120"/>
                <a:ext cx="5257800" cy="18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043-2848-45DF-A114-5CFD53FB483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4F3C-BB17-4F44-BCAB-D11B0F358B6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51000" y="3486240"/>
                <a:ext cx="8518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6460-7B54-466E-995D-020C472A570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BB7B-EBF4-4F74-A77F-AB9D0BF6D5F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for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Picture 1027" descr=""/>
          <p:cNvPicPr/>
          <p:nvPr/>
        </p:nvPicPr>
        <p:blipFill>
          <a:blip r:embed="rId1"/>
          <a:stretch/>
        </p:blipFill>
        <p:spPr>
          <a:xfrm>
            <a:off x="0" y="1752480"/>
            <a:ext cx="9067680" cy="417996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051"/>
          <p:cNvGrpSpPr/>
          <p:nvPr/>
        </p:nvGrpSpPr>
        <p:grpSpPr>
          <a:xfrm>
            <a:off x="209520" y="1828800"/>
            <a:ext cx="8458200" cy="3733920"/>
            <a:chOff x="209520" y="1828800"/>
            <a:chExt cx="8458200" cy="3733920"/>
          </a:xfrm>
        </p:grpSpPr>
        <p:sp>
          <p:nvSpPr>
            <p:cNvPr id="309" name="Line 1036"/>
            <p:cNvSpPr/>
            <p:nvPr/>
          </p:nvSpPr>
          <p:spPr>
            <a:xfrm flipH="1">
              <a:off x="2209680" y="3276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1028"/>
                <p:cNvSpPr txBox="1"/>
                <p:nvPr/>
              </p:nvSpPr>
              <p:spPr>
                <a:xfrm>
                  <a:off x="1219320" y="213372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1029"/>
                <p:cNvSpPr txBox="1"/>
                <p:nvPr/>
              </p:nvSpPr>
              <p:spPr>
                <a:xfrm>
                  <a:off x="1200240" y="320040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1030"/>
                <p:cNvSpPr txBox="1"/>
                <p:nvPr/>
              </p:nvSpPr>
              <p:spPr>
                <a:xfrm>
                  <a:off x="4730760" y="1828800"/>
                  <a:ext cx="6732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Object 1031"/>
                <p:cNvSpPr txBox="1"/>
                <p:nvPr/>
              </p:nvSpPr>
              <p:spPr>
                <a:xfrm>
                  <a:off x="4711680" y="2895480"/>
                  <a:ext cx="711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Object 1032"/>
                <p:cNvSpPr txBox="1"/>
                <p:nvPr/>
              </p:nvSpPr>
              <p:spPr>
                <a:xfrm>
                  <a:off x="7194600" y="245736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Line 1033"/>
            <p:cNvSpPr/>
            <p:nvPr/>
          </p:nvSpPr>
          <p:spPr>
            <a:xfrm flipH="1">
              <a:off x="2209680" y="2133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Line 1034"/>
            <p:cNvSpPr/>
            <p:nvPr/>
          </p:nvSpPr>
          <p:spPr>
            <a:xfrm flipH="1">
              <a:off x="4876560" y="32767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Line 1035"/>
            <p:cNvSpPr/>
            <p:nvPr/>
          </p:nvSpPr>
          <p:spPr>
            <a:xfrm flipH="1">
              <a:off x="4800600" y="22096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8" name="Line 1037"/>
            <p:cNvSpPr/>
            <p:nvPr/>
          </p:nvSpPr>
          <p:spPr>
            <a:xfrm flipH="1">
              <a:off x="4724280" y="46483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9" name="Line 1038"/>
            <p:cNvSpPr/>
            <p:nvPr/>
          </p:nvSpPr>
          <p:spPr>
            <a:xfrm flipH="1">
              <a:off x="7238880" y="27432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0" name="Line 1039"/>
            <p:cNvSpPr/>
            <p:nvPr/>
          </p:nvSpPr>
          <p:spPr>
            <a:xfrm flipH="1">
              <a:off x="2361960" y="46483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1040"/>
            <p:cNvSpPr/>
            <p:nvPr/>
          </p:nvSpPr>
          <p:spPr>
            <a:xfrm flipH="1">
              <a:off x="380880" y="41148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1041"/>
            <p:cNvSpPr/>
            <p:nvPr/>
          </p:nvSpPr>
          <p:spPr>
            <a:xfrm flipH="1">
              <a:off x="380880" y="5181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042"/>
                <p:cNvSpPr txBox="1"/>
                <p:nvPr/>
              </p:nvSpPr>
              <p:spPr>
                <a:xfrm>
                  <a:off x="4788000" y="435600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1043"/>
                <p:cNvSpPr txBox="1"/>
                <p:nvPr/>
              </p:nvSpPr>
              <p:spPr>
                <a:xfrm>
                  <a:off x="2343240" y="443880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1044"/>
                <p:cNvSpPr txBox="1"/>
                <p:nvPr/>
              </p:nvSpPr>
              <p:spPr>
                <a:xfrm>
                  <a:off x="209520" y="495288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Object 1045"/>
                <p:cNvSpPr txBox="1"/>
                <p:nvPr/>
              </p:nvSpPr>
              <p:spPr>
                <a:xfrm>
                  <a:off x="228600" y="380988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1046"/>
                <p:cNvSpPr txBox="1"/>
                <p:nvPr/>
              </p:nvSpPr>
              <p:spPr>
                <a:xfrm>
                  <a:off x="6324480" y="4114800"/>
                  <a:ext cx="6224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Object 1047"/>
                <p:cNvSpPr txBox="1"/>
                <p:nvPr/>
              </p:nvSpPr>
              <p:spPr>
                <a:xfrm>
                  <a:off x="8109000" y="433692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1048"/>
            <p:cNvSpPr/>
            <p:nvPr/>
          </p:nvSpPr>
          <p:spPr>
            <a:xfrm flipH="1">
              <a:off x="7543800" y="43434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0" name="Line 1049"/>
            <p:cNvSpPr/>
            <p:nvPr/>
          </p:nvSpPr>
          <p:spPr>
            <a:xfrm flipH="1">
              <a:off x="7010280" y="4038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6684-3F35-47ED-9EA2-07292B41B2F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B83-5A16-4C1B-84BF-9D1446969CC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1035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40"/>
          <p:cNvGrpSpPr/>
          <p:nvPr/>
        </p:nvGrpSpPr>
        <p:grpSpPr>
          <a:xfrm>
            <a:off x="152280" y="2362320"/>
            <a:ext cx="8985240" cy="2743200"/>
            <a:chOff x="152280" y="2362320"/>
            <a:chExt cx="8985240" cy="2743200"/>
          </a:xfrm>
        </p:grpSpPr>
        <mc:AlternateContent>
          <mc:Choice xmlns:a14="http://schemas.microsoft.com/office/drawing/2010/main" Requires="a14">
            <p:sp>
              <p:nvSpPr>
                <p:cNvPr id="337" name="Object 4"/>
                <p:cNvSpPr txBox="1"/>
                <p:nvPr/>
              </p:nvSpPr>
              <p:spPr>
                <a:xfrm>
                  <a:off x="209520" y="261000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5"/>
                <p:cNvSpPr txBox="1"/>
                <p:nvPr/>
              </p:nvSpPr>
              <p:spPr>
                <a:xfrm>
                  <a:off x="2216160" y="2514600"/>
                  <a:ext cx="1168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Object 6"/>
                <p:cNvSpPr txBox="1"/>
                <p:nvPr/>
              </p:nvSpPr>
              <p:spPr>
                <a:xfrm>
                  <a:off x="5003640" y="4686480"/>
                  <a:ext cx="559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Object 7"/>
                <p:cNvSpPr txBox="1"/>
                <p:nvPr/>
              </p:nvSpPr>
              <p:spPr>
                <a:xfrm>
                  <a:off x="5137200" y="261000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Object 9"/>
                <p:cNvSpPr txBox="1"/>
                <p:nvPr/>
              </p:nvSpPr>
              <p:spPr>
                <a:xfrm>
                  <a:off x="7397640" y="4724280"/>
                  <a:ext cx="1155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Line 10"/>
            <p:cNvSpPr/>
            <p:nvPr/>
          </p:nvSpPr>
          <p:spPr>
            <a:xfrm flipH="1">
              <a:off x="731520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 flipH="1">
              <a:off x="495288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49528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2514600" y="28954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 flipH="1">
              <a:off x="1522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15"/>
            <p:cNvSpPr/>
            <p:nvPr/>
          </p:nvSpPr>
          <p:spPr>
            <a:xfrm flipH="1">
              <a:off x="1523880" y="32767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6"/>
                <p:cNvSpPr txBox="1"/>
                <p:nvPr/>
              </p:nvSpPr>
              <p:spPr>
                <a:xfrm>
                  <a:off x="1987560" y="3429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17"/>
                <p:cNvSpPr txBox="1"/>
                <p:nvPr/>
              </p:nvSpPr>
              <p:spPr>
                <a:xfrm>
                  <a:off x="6324480" y="2438280"/>
                  <a:ext cx="6224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8"/>
                <p:cNvSpPr txBox="1"/>
                <p:nvPr/>
              </p:nvSpPr>
              <p:spPr>
                <a:xfrm>
                  <a:off x="7981920" y="2438280"/>
                  <a:ext cx="11556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Line 19"/>
            <p:cNvSpPr/>
            <p:nvPr/>
          </p:nvSpPr>
          <p:spPr>
            <a:xfrm flipH="1">
              <a:off x="7010280" y="23623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 flipH="1">
              <a:off x="7391160" y="2666880"/>
              <a:ext cx="53316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38"/>
                <p:cNvSpPr txBox="1"/>
                <p:nvPr/>
              </p:nvSpPr>
              <p:spPr>
                <a:xfrm>
                  <a:off x="6832440" y="4572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39"/>
            <p:cNvSpPr/>
            <p:nvPr/>
          </p:nvSpPr>
          <p:spPr>
            <a:xfrm flipH="1">
              <a:off x="6400800" y="44956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7C87-357E-47DC-B399-F65FBAC6CAA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15C9-A8CD-4306-9B8E-E3C19CC55FE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4519440" y="527040"/>
          <a:ext cx="363384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9440" y="527040"/>
                    <a:ext cx="3633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762120" y="2666880"/>
          <a:ext cx="777240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762120" y="4419720"/>
                <a:ext cx="723888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3F9-7E7A-4814-AEB7-B9490679CC5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989-5D72-4BDA-9D23-E1D416CAA14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4267080" y="152280"/>
                <a:ext cx="38102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985680" y="2286000"/>
                <a:ext cx="73202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d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2" name="Object 6"/>
          <p:cNvGraphicFramePr/>
          <p:nvPr/>
        </p:nvGraphicFramePr>
        <p:xfrm>
          <a:off x="1211400" y="4114800"/>
          <a:ext cx="66006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4114800"/>
                    <a:ext cx="66006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7"/>
          <p:cNvGraphicFramePr/>
          <p:nvPr/>
        </p:nvGraphicFramePr>
        <p:xfrm>
          <a:off x="1828800" y="5425920"/>
          <a:ext cx="51814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425920"/>
                    <a:ext cx="51814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34DD-66C3-43C3-B690-CE1A15D4F90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75ED-361C-4FA0-A0F5-6648E5F064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e bye to D-T Systems for a whi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NIT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ous-time signals and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tegral: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mpul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669-DD9C-4596-8C0D-085E5F89D46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3504-7DC7-43CE-A9E4-AC50A75A3BD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T Filtering of C-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413480" y="2471760"/>
            <a:ext cx="741600" cy="1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952560" y="1752480"/>
            <a:ext cx="7683480" cy="1219320"/>
            <a:chOff x="952560" y="1752480"/>
            <a:chExt cx="76834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211140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605808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-to-C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84560" y="1996920"/>
              <a:ext cx="135756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TI System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1371600" y="239544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3467160" y="2395440"/>
              <a:ext cx="6174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440320" y="2395440"/>
              <a:ext cx="61776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927080" y="1752480"/>
              <a:ext cx="5616720" cy="12193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12"/>
                <p:cNvSpPr txBox="1"/>
                <p:nvPr/>
              </p:nvSpPr>
              <p:spPr>
                <a:xfrm>
                  <a:off x="952560" y="198108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13"/>
                <p:cNvSpPr txBox="1"/>
                <p:nvPr/>
              </p:nvSpPr>
              <p:spPr>
                <a:xfrm>
                  <a:off x="8077320" y="198108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Group 30"/>
          <p:cNvGrpSpPr/>
          <p:nvPr/>
        </p:nvGrpSpPr>
        <p:grpSpPr>
          <a:xfrm>
            <a:off x="1600200" y="4648320"/>
            <a:ext cx="5435640" cy="914400"/>
            <a:chOff x="1600200" y="4648320"/>
            <a:chExt cx="5435640" cy="914400"/>
          </a:xfrm>
        </p:grpSpPr>
        <p:sp>
          <p:nvSpPr>
            <p:cNvPr id="115" name="Line 19"/>
            <p:cNvSpPr/>
            <p:nvPr/>
          </p:nvSpPr>
          <p:spPr>
            <a:xfrm>
              <a:off x="6019920" y="510552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743200" y="4648320"/>
              <a:ext cx="3276720" cy="914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LTI ANALOG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4"/>
            <p:cNvSpPr/>
            <p:nvPr/>
          </p:nvSpPr>
          <p:spPr>
            <a:xfrm>
              <a:off x="1981080" y="5105520"/>
              <a:ext cx="74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28"/>
                <p:cNvSpPr txBox="1"/>
                <p:nvPr/>
              </p:nvSpPr>
              <p:spPr>
                <a:xfrm>
                  <a:off x="1600200" y="464832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29"/>
                <p:cNvSpPr txBox="1"/>
                <p:nvPr/>
              </p:nvSpPr>
              <p:spPr>
                <a:xfrm>
                  <a:off x="6477120" y="4648320"/>
                  <a:ext cx="5587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Group 33"/>
          <p:cNvGrpSpPr/>
          <p:nvPr/>
        </p:nvGrpSpPr>
        <p:grpSpPr>
          <a:xfrm>
            <a:off x="2514600" y="2590560"/>
            <a:ext cx="5105520" cy="2133720"/>
            <a:chOff x="2514600" y="2590560"/>
            <a:chExt cx="5105520" cy="2133720"/>
          </a:xfrm>
        </p:grpSpPr>
        <p:graphicFrame>
          <p:nvGraphicFramePr>
            <p:cNvPr id="121" name="Object 14"/>
            <p:cNvGraphicFramePr/>
            <p:nvPr/>
          </p:nvGraphicFramePr>
          <p:xfrm>
            <a:off x="2514600" y="3352680"/>
            <a:ext cx="5105520" cy="71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3352680"/>
                      <a:ext cx="5105520" cy="7113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3" name="Line 31"/>
            <p:cNvSpPr/>
            <p:nvPr/>
          </p:nvSpPr>
          <p:spPr>
            <a:xfrm flipH="1">
              <a:off x="5486400" y="3886200"/>
              <a:ext cx="45720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 flipV="1">
              <a:off x="2971800" y="2590560"/>
              <a:ext cx="1295280" cy="99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5B68-2A52-40C4-8BFA-D35AA084956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1F0-2A2E-458F-A185-9C0DF2B18D7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ALOG SIGNALS   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USOIDS: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t = time in sec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IODIC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SIDED, e.g., for t&gt;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STEP:   u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UARE PUL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SIGNAL:   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431640" y="5695920"/>
            <a:ext cx="8178840" cy="704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ISCRETE-TIME: x[n] is list of numb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E0F8-0287-4F33-9B12-D93A64F1388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925-6582-4351-B594-3A9317B14A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1"/>
          <a:stretch/>
        </p:blipFill>
        <p:spPr>
          <a:xfrm>
            <a:off x="260280" y="2425680"/>
            <a:ext cx="8350200" cy="3213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PERIODI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6" name="Object 7"/>
          <p:cNvGraphicFramePr/>
          <p:nvPr/>
        </p:nvGraphicFramePr>
        <p:xfrm>
          <a:off x="152280" y="1673280"/>
          <a:ext cx="312444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3280"/>
                    <a:ext cx="3124440" cy="4413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Text Box 11"/>
          <p:cNvSpPr/>
          <p:nvPr/>
        </p:nvSpPr>
        <p:spPr>
          <a:xfrm>
            <a:off x="6040800" y="1846440"/>
            <a:ext cx="25473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inusoidal signal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567760" y="5594400"/>
            <a:ext cx="21117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quare Wav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97080" y="5715000"/>
            <a:ext cx="31251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NFINITE DUR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A16-E26E-4FA7-8128-FE961F00BA4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4AD0-BADC-4057-90DA-15D6E81E164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4" name="Picture 1034" descr=""/>
          <p:cNvPicPr/>
          <p:nvPr/>
        </p:nvPicPr>
        <p:blipFill>
          <a:blip r:embed="rId1"/>
          <a:stretch/>
        </p:blipFill>
        <p:spPr>
          <a:xfrm>
            <a:off x="1752480" y="2068560"/>
            <a:ext cx="7099560" cy="4560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ONE-SID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9"/>
              <p:cNvSpPr txBox="1"/>
              <p:nvPr/>
            </p:nvSpPr>
            <p:spPr>
              <a:xfrm>
                <a:off x="228600" y="5207040"/>
                <a:ext cx="1866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1030"/>
          <p:cNvSpPr/>
          <p:nvPr/>
        </p:nvSpPr>
        <p:spPr>
          <a:xfrm>
            <a:off x="5728320" y="1752480"/>
            <a:ext cx="21146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nit step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31"/>
              <p:cNvSpPr txBox="1"/>
              <p:nvPr/>
            </p:nvSpPr>
            <p:spPr>
              <a:xfrm>
                <a:off x="228600" y="1689120"/>
                <a:ext cx="1905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Text Box 1032"/>
          <p:cNvSpPr/>
          <p:nvPr/>
        </p:nvSpPr>
        <p:spPr>
          <a:xfrm>
            <a:off x="497520" y="3505320"/>
            <a:ext cx="146844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One-Sid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Text Box 1033"/>
          <p:cNvSpPr/>
          <p:nvPr/>
        </p:nvSpPr>
        <p:spPr>
          <a:xfrm>
            <a:off x="6195240" y="5092560"/>
            <a:ext cx="262980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uddenly applied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onenti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F579-8B3A-4143-B052-F263E0550A5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BC0-27A9-4BC8-B4AB-8117A984FDB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4" name="Picture 1034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696080" cy="333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128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FINITE LENGT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6203160" y="2362320"/>
            <a:ext cx="26222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quare Pulse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7" name="Object 1031"/>
          <p:cNvGraphicFramePr/>
          <p:nvPr/>
        </p:nvGraphicFramePr>
        <p:xfrm>
          <a:off x="1447920" y="1649520"/>
          <a:ext cx="4597200" cy="56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10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49520"/>
                    <a:ext cx="4597200" cy="5601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Text Box 1033"/>
          <p:cNvSpPr/>
          <p:nvPr/>
        </p:nvSpPr>
        <p:spPr>
          <a:xfrm>
            <a:off x="5955840" y="5397480"/>
            <a:ext cx="254736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 multipli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y a square 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C7FF-D965-47E8-8FC0-292EF567F87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E3B-3701-442E-BD75-367C05B40DD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s an Impulse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ignal that is “concentrated” at one poi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7394400" cy="256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5181480" y="2743200"/>
                <a:ext cx="3581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457200" y="3124080"/>
                <a:ext cx="2590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1-02T00:50:16Z</cp:lastPrinted>
  <dcterms:modified xsi:type="dcterms:W3CDTF">2013-05-16T00:49:49Z</dcterms:modified>
  <cp:revision>412</cp:revision>
  <dc:subject/>
  <dc:title>SPFirst Lecture #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