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26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4.wmf" ContentType="image/x-wmf"/>
  <Override PartName="/ppt/media/image49.png" ContentType="image/png"/>
  <Override PartName="/ppt/media/image52.wmf" ContentType="image/x-wmf"/>
  <Override PartName="/ppt/media/image32.png" ContentType="image/png"/>
  <Override PartName="/ppt/media/image39.wmf" ContentType="image/x-wmf"/>
  <Override PartName="/ppt/media/image41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2.png" ContentType="image/png"/>
  <Override PartName="/ppt/media/image53.wmf" ContentType="image/x-wmf"/>
  <Override PartName="/ppt/media/image33.png" ContentType="image/png"/>
  <Override PartName="/ppt/media/image54.wmf" ContentType="image/x-wmf"/>
  <Override PartName="/ppt/media/image9.png" ContentType="image/png"/>
  <Override PartName="/ppt/media/image40.wmf" ContentType="image/x-wmf"/>
  <Override PartName="/ppt/media/image37.png" ContentType="image/png"/>
  <Override PartName="/ppt/media/image36.png" ContentType="image/png"/>
  <Override PartName="/ppt/media/image31.wmf" ContentType="image/x-wmf"/>
  <Override PartName="/ppt/media/image30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38B-D2D9-4AC7-B835-BC75BA2B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117-6102-40C2-8E08-50ED294C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E90-7B25-4FB3-8A07-CEB3A84E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AD9-BC30-41C1-BE4D-D9935C94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273B-F86E-48A8-8B4E-15F5AF34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0E22-BF01-47B0-9733-4F6AA2A8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7BDA-6CC9-4374-BF49-500C607D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E6BD-2A60-476F-A802-54F0A9C7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C164-8C02-4B09-B50F-D839B9D8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655D-C941-48B8-A4B2-275E1B51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0FEF-2E82-43C0-AB9A-80912DFE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24E-E5E9-45B2-80CA-56DFC145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CC3B-C84F-48CE-8402-A5991D7B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8C20-12CB-43F0-8E10-77CD7C90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830D-8EC1-4E75-BCBE-C583F9F8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A0C7-1ED0-482C-88C6-583CAB2B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9A7E-2678-4A04-9A6E-76CB1EB0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71D-596F-4408-B208-FF54E7C5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844-742E-4DF9-BF3C-CB116619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058-A5E9-4645-BE97-B020432C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91F-09DA-48AC-9F83-09F0126E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420-C801-45AB-85A8-522B6049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671-A353-4D6C-9B27-E9D0F34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94F-1144-4DE6-B679-0018F407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A8F8-BA05-42CE-891E-FCE5FFA3F36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A97A-4D36-4348-BE31-5517123335F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B31E-310F-4948-A0EB-D970D01EF2D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26DF-B4CE-4DE1-B3B5-DC0EB0485D3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360" y="34286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IR Filters: H(z) a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Respons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FB8B-AE4E-4307-ABC7-25038931427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E291EAD-5F3B-4781-87E7-02D3A7744E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990720" y="2819520"/>
          <a:ext cx="685800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6858000" cy="59832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of I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RIVE the SYSTEM FUNCTION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DELAY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PROPER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85800" y="4792680"/>
            <a:ext cx="76201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914400" y="3429000"/>
            <a:ext cx="7016760" cy="1058760"/>
            <a:chOff x="914400" y="3429000"/>
            <a:chExt cx="7016760" cy="1058760"/>
          </a:xfrm>
        </p:grpSpPr>
        <p:graphicFrame>
          <p:nvGraphicFramePr>
            <p:cNvPr id="149" name=""/>
            <p:cNvGraphicFramePr/>
            <p:nvPr/>
          </p:nvGraphicFramePr>
          <p:xfrm>
            <a:off x="914400" y="3809880"/>
            <a:ext cx="7016760" cy="677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914400" y="3809880"/>
                      <a:ext cx="7016760" cy="677880"/>
                    </a:xfrm>
                    <a:prstGeom prst="rect">
                      <a:avLst/>
                    </a:prstGeom>
                    <a:ln w="2844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 flipH="1">
              <a:off x="3048120" y="3429000"/>
              <a:ext cx="30456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857640" y="3429000"/>
              <a:ext cx="30492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61360" y="4648320"/>
            <a:ext cx="4107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ASIER with DELAY PROPERT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915-9AED-47FD-B64F-D0B4D42D00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964CE-0556-441E-99E6-2A955DEA80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371600" y="4780080"/>
          <a:ext cx="621828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780080"/>
                    <a:ext cx="6218280" cy="13158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YSTEM FUNCTION of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E the FILTER COEFFICIE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724280"/>
            <a:ext cx="2286000" cy="13716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2666880"/>
          <a:ext cx="701676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7016760" cy="67788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371600" y="3657600"/>
          <a:ext cx="621972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657600"/>
                    <a:ext cx="6219720" cy="67788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3AF-8131-4310-9908-E211708A69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73719-5C41-4F86-A22C-AD6C02880546}" type="datetime1">
              <a:rPr lang="en-US"/>
              <a:t>07/29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YSTEM FUNC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ERENCE EQU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REA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ILTER COEFF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12840" y="2590920"/>
                <a:ext cx="717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25760" y="4262400"/>
                <a:ext cx="5918040" cy="18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6095880" y="3449520"/>
            <a:ext cx="1866600" cy="1274760"/>
            <a:chOff x="6095880" y="3449520"/>
            <a:chExt cx="1866600" cy="1274760"/>
          </a:xfrm>
        </p:grpSpPr>
        <p:sp>
          <p:nvSpPr>
            <p:cNvPr id="168" name=""/>
            <p:cNvSpPr/>
            <p:nvPr/>
          </p:nvSpPr>
          <p:spPr>
            <a:xfrm flipH="1">
              <a:off x="6095880" y="3657600"/>
              <a:ext cx="990720" cy="10666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2080" y="3449520"/>
              <a:ext cx="950400" cy="5814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H(z)</a:t>
              </a:r>
              <a:endParaRPr b="0" lang="en-US" sz="3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6C7-B47D-48E1-B2FA-414DDB39A0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680A8-6748-4C81-9357-7565B9CB57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z-TRANSFO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 TIME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72000" y="2590920"/>
                <a:ext cx="3422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447920" y="2666880"/>
                <a:ext cx="1044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514680" y="5049720"/>
                <a:ext cx="919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99548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6236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748040" y="4648320"/>
                <a:ext cx="3419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905120" y="4765680"/>
                <a:ext cx="91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19520" y="2819520"/>
            <a:ext cx="1447560" cy="914400"/>
          </a:xfrm>
          <a:prstGeom prst="rect">
            <a:avLst/>
          </a:prstGeom>
          <a:solidFill>
            <a:srgbClr val="ffcc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4876920"/>
            <a:ext cx="1447560" cy="9144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48120" y="2971800"/>
                <a:ext cx="1085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 flipV="1">
            <a:off x="2133720" y="5486040"/>
            <a:ext cx="1371600" cy="685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791320"/>
            <a:ext cx="19810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2A4-8EDC-4E3C-B9EB-32D3F454C0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E71E9-6301-4FE7-865A-34E43B647E60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S &amp;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OTS of Numerator &amp; Denomin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5594400"/>
            <a:ext cx="29718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E: H(z)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nf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267080"/>
            <a:ext cx="13716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RO: H(z)=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2514600"/>
          <a:ext cx="645804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6458040" cy="12319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600200" y="3962520"/>
          <a:ext cx="4441680" cy="11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962520"/>
                    <a:ext cx="4441680" cy="11556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828800" y="5486400"/>
          <a:ext cx="36576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5486400"/>
                    <a:ext cx="3657600" cy="5223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361-88DD-4D42-945D-581B442DE6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DEF61-8D11-4659-B396-FB5F8AF07A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Poles &amp;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LUE of H(z) at POLES is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FINIT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05320"/>
            <a:ext cx="25146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E at z=0.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4086360"/>
            <a:ext cx="23619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RO at z= -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143000" y="2563920"/>
                <a:ext cx="4572000" cy="38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B71-043C-4822-9A21-07C5F80E57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D758E-1749-472F-94E9-1C25EBE49786}" type="datetime1">
              <a:rPr lang="en-US"/>
              <a:t>07/29/26</a:t>
            </a:fld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991400" cy="397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5280" y="4495680"/>
                <a:ext cx="204300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533520" y="2257560"/>
            <a:ext cx="3733560" cy="1247760"/>
            <a:chOff x="533520" y="2257560"/>
            <a:chExt cx="3733560" cy="1247760"/>
          </a:xfrm>
        </p:grpSpPr>
        <p:sp>
          <p:nvSpPr>
            <p:cNvPr id="205" name=""/>
            <p:cNvSpPr/>
            <p:nvPr/>
          </p:nvSpPr>
          <p:spPr>
            <a:xfrm>
              <a:off x="533520" y="2257560"/>
              <a:ext cx="251460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ZERO at z = -1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48120" y="2425680"/>
              <a:ext cx="1218960" cy="1079640"/>
            </a:xfrm>
            <a:custGeom>
              <a:avLst/>
              <a:gdLst/>
              <a:ahLst/>
              <a:rect l="l" t="t" r="r" b="b"/>
              <a:pathLst>
                <a:path w="768" h="680">
                  <a:moveTo>
                    <a:pt x="0" y="56"/>
                  </a:moveTo>
                  <a:cubicBezTo>
                    <a:pt x="224" y="28"/>
                    <a:pt x="448" y="0"/>
                    <a:pt x="576" y="104"/>
                  </a:cubicBezTo>
                  <a:cubicBezTo>
                    <a:pt x="703" y="207"/>
                    <a:pt x="735" y="443"/>
                    <a:pt x="768" y="68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750000" y="3657600"/>
            <a:ext cx="1936800" cy="1359000"/>
            <a:chOff x="6750000" y="3657600"/>
            <a:chExt cx="1936800" cy="1359000"/>
          </a:xfrm>
        </p:grpSpPr>
        <p:sp>
          <p:nvSpPr>
            <p:cNvPr id="208" name=""/>
            <p:cNvSpPr/>
            <p:nvPr/>
          </p:nvSpPr>
          <p:spPr>
            <a:xfrm>
              <a:off x="7162920" y="4191120"/>
              <a:ext cx="152388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OLE a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z = 0.8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6750000" y="3657600"/>
              <a:ext cx="488880" cy="533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B5A-3351-4F73-9151-77B2F1DA04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9D862-3CEA-4441-AA4A-0E9CF5ED3A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STEM FUNCTION: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(z) has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NOMIN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 RESPONSE of I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have H(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REE-DOMAIN APPROA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429000" y="3886200"/>
                <a:ext cx="57150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209680" y="5486400"/>
                <a:ext cx="5791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743200" y="61722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5867280"/>
            <a:ext cx="228600" cy="990720"/>
          </a:xfrm>
          <a:prstGeom prst="upArrow">
            <a:avLst>
              <a:gd name="adj1" fmla="val 50000"/>
              <a:gd name="adj2" fmla="val 10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62485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1905120"/>
            <a:ext cx="1676520" cy="380880"/>
          </a:xfrm>
          <a:prstGeom prst="leftArrow">
            <a:avLst>
              <a:gd name="adj1" fmla="val 55833"/>
              <a:gd name="adj2" fmla="val 77213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62920" y="1981080"/>
            <a:ext cx="380880" cy="2210040"/>
          </a:xfrm>
          <a:prstGeom prst="downArrow">
            <a:avLst>
              <a:gd name="adj1" fmla="val 50000"/>
              <a:gd name="adj2" fmla="val 110891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094-716F-4980-8A50-CBC7906FF9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93526-E1F3-4349-AEE8-D112AA103D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ALUATE on the UNIT CIRC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219320" y="2438280"/>
                <a:ext cx="57150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6896160" cy="2629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629400" y="3505320"/>
            <a:ext cx="1828800" cy="1600200"/>
          </a:xfrm>
          <a:custGeom>
            <a:avLst/>
            <a:gdLst/>
            <a:ahLst/>
            <a:rect l="l" t="t" r="r" b="b"/>
            <a:pathLst>
              <a:path w="1032" h="912">
                <a:moveTo>
                  <a:pt x="0" y="192"/>
                </a:moveTo>
                <a:cubicBezTo>
                  <a:pt x="180" y="96"/>
                  <a:pt x="360" y="0"/>
                  <a:pt x="528" y="48"/>
                </a:cubicBezTo>
                <a:cubicBezTo>
                  <a:pt x="695" y="95"/>
                  <a:pt x="983" y="335"/>
                  <a:pt x="1008" y="480"/>
                </a:cubicBezTo>
                <a:cubicBezTo>
                  <a:pt x="1032" y="624"/>
                  <a:pt x="852" y="768"/>
                  <a:pt x="672" y="91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2E0-9B5A-445D-B217-16B22159B22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EF0DA-EA3D-45BF-863C-6C3097F8A3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ORMUL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9480" y="1565280"/>
                <a:ext cx="73152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28600" y="3124080"/>
                <a:ext cx="1905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362320" y="2908440"/>
                <a:ext cx="59436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57200" y="4383000"/>
                <a:ext cx="518148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38680" y="4419720"/>
                <a:ext cx="27702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4360" y="5692680"/>
                <a:ext cx="77389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B02-F04D-4612-B5D9-668206FA97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419D5-7CBA-42C1-9B8C-5E7E3EA3E2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F25-BEB0-4485-AE28-C5E1CC885D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81448-13D3-4B9C-BABD-8FBA791937EB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7086600" cy="520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638680" y="1101600"/>
                <a:ext cx="32767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1DB-1FFB-464E-8DB9-DA338F1DE17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BF6B1-67CB-4E68-AE41-DB0148FA39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IT CIRC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PPING BETWE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638680" y="2514600"/>
                <a:ext cx="25146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2280" y="2403360"/>
            <a:ext cx="4419720" cy="399744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371240" y="4186080"/>
            <a:ext cx="7544160" cy="1909800"/>
            <a:chOff x="1371240" y="4186080"/>
            <a:chExt cx="7544160" cy="190980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4724280" y="4186080"/>
                  <a:ext cx="4191120" cy="19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>
                            <m:r>
                              <m:t xml:space="preserve">«</m:t>
                            </m:r>
                          </m:e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mr>
                        <m:mr>
                          <m:e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-</m:t>
                            </m:r>
                            <m:r>
                              <m:t xml:space="preserve">1</m:t>
                            </m:r>
                          </m:e>
                          <m:e>
                            <m:r>
                              <m:t xml:space="preserve">«</m:t>
                            </m:r>
                          </m:e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p</m:t>
                            </m:r>
                          </m:e>
                        </m:mr>
                        <m:m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j</m:t>
                            </m:r>
                          </m:e>
                          <m:e>
                            <m:r>
                              <m:t xml:space="preserve">«</m:t>
                            </m:r>
                          </m:e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p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 flipH="1" flipV="1">
              <a:off x="3962520" y="4343040"/>
              <a:ext cx="91440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1371240" y="4343400"/>
              <a:ext cx="3429000" cy="838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2666520" y="5638320"/>
              <a:ext cx="213372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040360" y="1600200"/>
                <a:ext cx="1741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and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923-C2C0-4531-A766-5503D931E78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45EDB-33EC-43C6-BB22-03AC8D68B5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-D 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585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6520" y="230040"/>
            <a:ext cx="5481360" cy="9471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-D VIEWPOINT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LUATE H(z) EVERYWHER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72680" y="5105520"/>
            <a:ext cx="2651400" cy="1538640"/>
            <a:chOff x="472680" y="5105520"/>
            <a:chExt cx="2651400" cy="1538640"/>
          </a:xfrm>
        </p:grpSpPr>
        <p:sp>
          <p:nvSpPr>
            <p:cNvPr id="248" name=""/>
            <p:cNvSpPr/>
            <p:nvPr/>
          </p:nvSpPr>
          <p:spPr>
            <a:xfrm flipV="1">
              <a:off x="1828800" y="5105520"/>
              <a:ext cx="1295280" cy="1218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680" y="6245280"/>
              <a:ext cx="17931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UNIT CIRCL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949440" y="1757520"/>
            <a:ext cx="155088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HERE i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POLE ?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E20-85E3-4479-8CCD-54336A250C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5FC52-9A15-4F74-9E5E-F1AD29D4DB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OVIE for H(z) in 3-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LES to H(z) to Frequency Re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WO POLES SHOW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3829320" cy="36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389-ED54-444D-AB0E-C0D62A0DF12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AFE66-1F67-4669-A831-727DE4B0ED06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 from H(z)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alking around the Unit Circ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438280" y="2363760"/>
            <a:ext cx="4686480" cy="441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5D0-A744-46B4-8BB6-5B53845CD7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AD4EC-486F-4DCD-9BE0-F638CC7FEF2D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67760" cy="53863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15840" y="4267080"/>
            <a:ext cx="18464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E MOV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7400" y="5867280"/>
            <a:ext cx="6624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51680" y="1752480"/>
            <a:ext cx="663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895480"/>
            <a:ext cx="2133720" cy="137160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924680" y="4521240"/>
                <a:ext cx="1067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1B9-E7D3-4DDE-B572-30F37279098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DA605-C52D-461E-B7D0-5B8EDCFEAF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eZ Demo: Pole-Zero Plac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56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940-04A6-4462-BF3B-E25B192DF95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8C878-414C-4BCE-9C60-A6772FD05E34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AL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= SINUSOID =&gt; y[n] is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MAGNITUDE &amp; PHASE from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477120" y="3048120"/>
            <a:ext cx="838080" cy="25146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90560" y="3244680"/>
                <a:ext cx="6496200" cy="300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004-A2F6-4799-BF80-7BFF733152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6F679-5AEB-42EE-A2AA-78CA29C21839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438280" y="4973760"/>
                <a:ext cx="44593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438280" y="20574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929-ADF1-43B3-9B15-2A983B353B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757E3-C65D-4415-9160-A970197FA538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391520" cy="514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5791320" y="1600200"/>
          <a:ext cx="3200400" cy="85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600200"/>
                    <a:ext cx="3200400" cy="851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248520" y="3733920"/>
            <a:ext cx="228600" cy="457200"/>
          </a:xfrm>
          <a:prstGeom prst="upArrow">
            <a:avLst>
              <a:gd name="adj1" fmla="val 51037"/>
              <a:gd name="adj2" fmla="val 4583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3733920"/>
            <a:ext cx="228600" cy="457200"/>
          </a:xfrm>
          <a:prstGeom prst="upArrow">
            <a:avLst>
              <a:gd name="adj1" fmla="val 51037"/>
              <a:gd name="adj2" fmla="val 4583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6160" y="3784680"/>
            <a:ext cx="16912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ero at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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1676520"/>
            <a:ext cx="137160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200400"/>
            <a:ext cx="228600" cy="533520"/>
          </a:xfrm>
          <a:prstGeom prst="upArrow">
            <a:avLst>
              <a:gd name="adj1" fmla="val 51037"/>
              <a:gd name="adj2" fmla="val 53484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952880" y="4190400"/>
            <a:ext cx="228600" cy="1523880"/>
          </a:xfrm>
          <a:prstGeom prst="upArrow">
            <a:avLst>
              <a:gd name="adj1" fmla="val 51037"/>
              <a:gd name="adj2" fmla="val 15276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114800" y="3733920"/>
          <a:ext cx="1676520" cy="42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3733920"/>
                    <a:ext cx="1676520" cy="420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23880" y="1447920"/>
                <a:ext cx="16891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is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CBD-7951-4CD0-BEDA-7D60C4B2DEC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C6D28-F3E5-426A-AF2F-A73EA64F3C67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8, Sects. 8-4 8-5 &amp; 8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8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-ZERO PLO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BCF-C111-4D6C-BC9B-DCB1BA3DF6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8C4DF-CC0A-495F-A95F-F9B9F06197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: Eval Freq. Resp.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d output, y[n], 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valuate at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791320" y="3114720"/>
          <a:ext cx="31240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114720"/>
                    <a:ext cx="3124080" cy="466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438280" y="1752480"/>
                <a:ext cx="3135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92" name=""/>
          <p:cNvGraphicFramePr/>
          <p:nvPr/>
        </p:nvGraphicFramePr>
        <p:xfrm>
          <a:off x="3505320" y="3733920"/>
          <a:ext cx="156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733920"/>
                    <a:ext cx="1562040" cy="466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57200" y="5943600"/>
          <a:ext cx="815328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943600"/>
                    <a:ext cx="8153280" cy="68112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14400" y="4516560"/>
                <a:ext cx="6858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π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BE0-30B4-4124-899D-23F4A6CC77B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2BFA5-620B-4D54-AB3E-85523B6007DE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y the System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0384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44956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4495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1160" y="40384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604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747960" y="4213080"/>
                <a:ext cx="1184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1752480" y="274320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584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79720" y="2917800"/>
                <a:ext cx="1320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46483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06800" y="27432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2917800"/>
                <a:ext cx="1366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808440" y="5356080"/>
                <a:ext cx="4192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 flipV="1">
            <a:off x="2743200" y="4876560"/>
            <a:ext cx="53352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2240" y="5105520"/>
            <a:ext cx="22258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7CE-F9DC-4AF1-B1C7-A1C5C2B743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85D1B-B2D1-435D-854D-BDEAED5402A2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UPERPOS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80880" y="1981080"/>
                <a:ext cx="7396200" cy="378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162920" y="4191120"/>
                <a:ext cx="1295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267680" y="5334120"/>
                <a:ext cx="1724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 flipV="1">
            <a:off x="5791320" y="4495680"/>
            <a:ext cx="1295280" cy="152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7120" y="5410080"/>
            <a:ext cx="761760" cy="152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67C-4F91-48AC-9AB4-FACF62344CA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54D2E-F626-4633-831E-F06B87349BD3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BANK in LAB (BPFs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486400" cy="51818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472080" y="1828800"/>
            <a:ext cx="2276280" cy="13136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f L is sam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/L controls BW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508800" y="4191120"/>
            <a:ext cx="2077920" cy="161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ARIABL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ANDWIDTH ?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P3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tch hea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hange 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3AC-550B-47BB-BC11-0A66A0C488C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CA48C-B6F0-4B11-BB3D-BF3410586906}" type="datetime1">
              <a:rPr lang="en-US"/>
              <a:t>07/29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P-3 AUDIO COD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rcRect l="0" t="9695" r="0" b="0"/>
          <a:stretch/>
        </p:blipFill>
        <p:spPr>
          <a:xfrm>
            <a:off x="838080" y="167652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600200" y="1523880"/>
            <a:ext cx="1905120" cy="167652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A48-BC08-44D2-9516-7655D31E7E8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C8849-20F9-44EA-B4F7-90FDC191B0FE}" type="datetime1">
              <a:rPr lang="en-US"/>
              <a:t>07/29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from Linear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IIR with 2 FIR term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4029120"/>
          <a:ext cx="753408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29120"/>
                    <a:ext cx="7534080" cy="8478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990720" y="2286000"/>
          <a:ext cx="6858000" cy="5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286000"/>
                    <a:ext cx="6858000" cy="59832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609480" y="5257800"/>
          <a:ext cx="7413840" cy="13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257800"/>
                    <a:ext cx="7413840" cy="13161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CAB-AC72-47AA-9836-01F265085B5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F0598-6E8E-404D-B439-EEE9D8D4C29A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RPRET RO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LUE of H(z) at POLES is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_x0008_FINIT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391160" cy="38908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95880" y="5638680"/>
            <a:ext cx="106704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5880" y="4495680"/>
            <a:ext cx="11430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RO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E7D-4456-4BEE-A367-3B0B72C248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3C543-7FCF-412A-B520-2374EFEF0546}" type="datetime1">
              <a:rPr lang="en-US"/>
              <a:t>07/29/26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HASE from 3-D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47A-0896-4EB8-A7DF-4E90A08C3B9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F9D92-9A67-41A9-BA12-A9D834E46A0F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ORMUL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1676520"/>
          <a:ext cx="7391520" cy="11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7391520" cy="1157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57200" y="2922480"/>
          <a:ext cx="6718320" cy="14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922480"/>
                    <a:ext cx="6718320" cy="14209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415800" y="5791320"/>
          <a:ext cx="752976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800" y="5791320"/>
                    <a:ext cx="7529760" cy="911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33520" y="4419720"/>
          <a:ext cx="7988040" cy="116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419720"/>
                    <a:ext cx="7988040" cy="11602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779-215B-46FA-8316-69657682EF8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8DC2B-EFBF-46C4-ACE3-D67B2A06587E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458200" cy="54403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094400" y="1874880"/>
            <a:ext cx="24652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e H(z) to g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eq.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1638360"/>
            <a:ext cx="3657600" cy="3009960"/>
          </a:xfrm>
          <a:custGeom>
            <a:avLst/>
            <a:gdLst/>
            <a:ahLst/>
            <a:rect l="l" t="t" r="r" b="b"/>
            <a:pathLst>
              <a:path w="2304" h="1896">
                <a:moveTo>
                  <a:pt x="0" y="1896"/>
                </a:moveTo>
                <a:cubicBezTo>
                  <a:pt x="64" y="1735"/>
                  <a:pt x="128" y="1575"/>
                  <a:pt x="240" y="1320"/>
                </a:cubicBezTo>
                <a:cubicBezTo>
                  <a:pt x="351" y="1064"/>
                  <a:pt x="536" y="575"/>
                  <a:pt x="672" y="360"/>
                </a:cubicBezTo>
                <a:cubicBezTo>
                  <a:pt x="807" y="144"/>
                  <a:pt x="928" y="47"/>
                  <a:pt x="1056" y="24"/>
                </a:cubicBezTo>
                <a:cubicBezTo>
                  <a:pt x="1183" y="0"/>
                  <a:pt x="1272" y="56"/>
                  <a:pt x="1440" y="216"/>
                </a:cubicBezTo>
                <a:cubicBezTo>
                  <a:pt x="1607" y="375"/>
                  <a:pt x="1920" y="712"/>
                  <a:pt x="2064" y="984"/>
                </a:cubicBezTo>
                <a:cubicBezTo>
                  <a:pt x="2208" y="1256"/>
                  <a:pt x="2256" y="1552"/>
                  <a:pt x="2304" y="1848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1447920"/>
            <a:ext cx="38124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629400" y="2666880"/>
                <a:ext cx="2057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B5C-5089-4014-9A41-DE49FD50157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F5048-6FB3-4B73-A82F-C2B43F8AF1E2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STEM FUNCTION: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(z) has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OL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nd ZERO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 RESPONSE of I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t H(z) firs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REE-DOMAIN APPROA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8120" y="3732120"/>
                <a:ext cx="608472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8840" y="5411880"/>
                <a:ext cx="6093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743200" y="61722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867280"/>
            <a:ext cx="228600" cy="990720"/>
          </a:xfrm>
          <a:prstGeom prst="upArrow">
            <a:avLst>
              <a:gd name="adj1" fmla="val 50000"/>
              <a:gd name="adj2" fmla="val 10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62485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1905120"/>
            <a:ext cx="1600200" cy="380880"/>
          </a:xfrm>
          <a:prstGeom prst="leftArrow">
            <a:avLst>
              <a:gd name="adj1" fmla="val 55833"/>
              <a:gd name="adj2" fmla="val 73698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1981080"/>
            <a:ext cx="380880" cy="2210040"/>
          </a:xfrm>
          <a:prstGeom prst="downArrow">
            <a:avLst>
              <a:gd name="adj1" fmla="val 50000"/>
              <a:gd name="adj2" fmla="val 110891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D5C-9E01-4A9B-8D1A-03DEFEAAB7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ADEAB-763B-489C-A6B3-98AC8FA432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ORMUL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731960"/>
          <a:ext cx="739152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31960"/>
                    <a:ext cx="7391520" cy="10447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2362320" y="3056040"/>
          <a:ext cx="594360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056040"/>
                    <a:ext cx="5943600" cy="10587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28480" y="5791320"/>
          <a:ext cx="730260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480" y="5791320"/>
                    <a:ext cx="7302600" cy="911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57200" y="4514760"/>
          <a:ext cx="5189400" cy="104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514760"/>
                    <a:ext cx="5189400" cy="10479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5697360" y="4495680"/>
          <a:ext cx="2913120" cy="10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97360" y="4495680"/>
                    <a:ext cx="2913120" cy="10479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80880" y="3200400"/>
          <a:ext cx="1752840" cy="71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3200400"/>
                    <a:ext cx="1752840" cy="716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EC7-B7DB-4F65-9D57-A3A91485069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AAA09-A1D5-46B1-9CCF-560661540317}" type="datetime1">
              <a:rPr lang="en-US"/>
              <a:t>07/29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rom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6858000" cy="509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5" name=""/>
          <p:cNvGraphicFramePr/>
          <p:nvPr/>
        </p:nvGraphicFramePr>
        <p:xfrm>
          <a:off x="6515280" y="1811160"/>
          <a:ext cx="2535120" cy="12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5280" y="1811160"/>
                    <a:ext cx="2535120" cy="12924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782-CE2E-4714-9009-56128D91D4B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4C51D-7CB4-4816-BD32-9E9573E2C5BB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8" name=""/>
          <p:cNvSpPr/>
          <p:nvPr/>
        </p:nvSpPr>
        <p:spPr>
          <a:xfrm>
            <a:off x="255600" y="4479840"/>
            <a:ext cx="22305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ME-DOMAI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0" y="5105520"/>
          <a:ext cx="578952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05520"/>
                    <a:ext cx="578952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6450840" y="4419720"/>
            <a:ext cx="2347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-DOMAI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147840" y="3587760"/>
          <a:ext cx="2490840" cy="12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7840" y="3587760"/>
                    <a:ext cx="24908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2514600" y="4800600"/>
            <a:ext cx="396252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386" name="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390" name="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6320" y="2684520"/>
                <a:ext cx="34290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47160" y="1752480"/>
            <a:ext cx="2090160" cy="70380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e H(z) to g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req. Respons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858000" y="2819520"/>
                <a:ext cx="16765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3B6-C3B0-4392-9DFF-55C5396D7F3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AF7D8-43E0-4842-8688-5E18A75BA66B}" type="datetime1">
              <a:rPr lang="en-US"/>
              <a:t>07/29/26</a:t>
            </a:fld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2438280" y="4973760"/>
                <a:ext cx="44593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438280" y="20574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9BE-FDCA-41FE-BC81-5FDE34CF82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F1255-998E-4B45-9B4C-56B4B880DEF6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: Invert 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the DELAY PROPER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838080" y="4857840"/>
          <a:ext cx="780120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857840"/>
                    <a:ext cx="7801200" cy="70488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371600" y="2438280"/>
          <a:ext cx="5943600" cy="8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438280"/>
                    <a:ext cx="5943600" cy="8845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98E-7AFD-4098-9DD4-AC9E9D7713C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D820B-C8A8-490B-8AEA-306F5D48F95F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01" name="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05" name="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715000" y="4419720"/>
            <a:ext cx="3276720" cy="2415960"/>
            <a:chOff x="5715000" y="4419720"/>
            <a:chExt cx="3276720" cy="2415960"/>
          </a:xfrm>
        </p:grpSpPr>
        <p:sp>
          <p:nvSpPr>
            <p:cNvPr id="108" name="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5715000" y="4910040"/>
                  <a:ext cx="3276720" cy="19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ℓ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ℓ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ℓ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" name=""/>
          <p:cNvGrpSpPr/>
          <p:nvPr/>
        </p:nvGrpSpPr>
        <p:grpSpPr>
          <a:xfrm>
            <a:off x="63360" y="4479840"/>
            <a:ext cx="4465800" cy="1489320"/>
            <a:chOff x="63360" y="4479840"/>
            <a:chExt cx="4465800" cy="1489320"/>
          </a:xfrm>
        </p:grpSpPr>
        <p:sp>
          <p:nvSpPr>
            <p:cNvPr id="111" name="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3360" y="5029200"/>
                  <a:ext cx="44658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ℓ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ℓ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ℓ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" name=""/>
          <p:cNvGrpSpPr/>
          <p:nvPr/>
        </p:nvGrpSpPr>
        <p:grpSpPr>
          <a:xfrm>
            <a:off x="2514600" y="3724200"/>
            <a:ext cx="3962520" cy="1076400"/>
            <a:chOff x="2514600" y="3724200"/>
            <a:chExt cx="3962520" cy="1076400"/>
          </a:xfrm>
        </p:grpSpPr>
        <p:sp>
          <p:nvSpPr>
            <p:cNvPr id="114" name="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352680" y="3724200"/>
                  <a:ext cx="2148120" cy="10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ℓ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"/>
          <p:cNvGrpSpPr/>
          <p:nvPr/>
        </p:nvGrpSpPr>
        <p:grpSpPr>
          <a:xfrm>
            <a:off x="168840" y="1752480"/>
            <a:ext cx="8746560" cy="2743200"/>
            <a:chOff x="168840" y="1752480"/>
            <a:chExt cx="8746560" cy="2743200"/>
          </a:xfrm>
        </p:grpSpPr>
        <p:sp>
          <p:nvSpPr>
            <p:cNvPr id="117" name=""/>
            <p:cNvSpPr/>
            <p:nvPr/>
          </p:nvSpPr>
          <p:spPr>
            <a:xfrm>
              <a:off x="168840" y="2286000"/>
              <a:ext cx="246528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Use H(z) to ge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req. Respons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00200" y="1752480"/>
              <a:ext cx="5715000" cy="2743200"/>
            </a:xfrm>
            <a:custGeom>
              <a:avLst/>
              <a:gdLst/>
              <a:ahLst/>
              <a:rect l="l" t="t" r="r" b="b"/>
              <a:pathLst>
                <a:path w="2304" h="1896">
                  <a:moveTo>
                    <a:pt x="0" y="1896"/>
                  </a:moveTo>
                  <a:cubicBezTo>
                    <a:pt x="64" y="1735"/>
                    <a:pt x="128" y="1575"/>
                    <a:pt x="240" y="1320"/>
                  </a:cubicBezTo>
                  <a:cubicBezTo>
                    <a:pt x="351" y="1064"/>
                    <a:pt x="536" y="575"/>
                    <a:pt x="672" y="360"/>
                  </a:cubicBezTo>
                  <a:cubicBezTo>
                    <a:pt x="807" y="144"/>
                    <a:pt x="928" y="47"/>
                    <a:pt x="1056" y="24"/>
                  </a:cubicBezTo>
                  <a:cubicBezTo>
                    <a:pt x="1183" y="0"/>
                    <a:pt x="1272" y="56"/>
                    <a:pt x="1440" y="216"/>
                  </a:cubicBezTo>
                  <a:cubicBezTo>
                    <a:pt x="1607" y="375"/>
                    <a:pt x="1920" y="712"/>
                    <a:pt x="2064" y="984"/>
                  </a:cubicBezTo>
                  <a:cubicBezTo>
                    <a:pt x="2208" y="1256"/>
                    <a:pt x="2256" y="1552"/>
                    <a:pt x="2304" y="1848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7162920" y="3048120"/>
                  <a:ext cx="1752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4114800" y="1752480"/>
              <a:ext cx="380880" cy="38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BEB-FBDE-4EA6-B777-8C8D5632F6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B9C59-CA6C-43B4-B0D1-FCE813AB1C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IIR FILTER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19400" y="2514600"/>
          <a:ext cx="5476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9400" y="2514600"/>
                    <a:ext cx="5476680" cy="6969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781280" y="4678200"/>
          <a:ext cx="332424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4678200"/>
                    <a:ext cx="3324240" cy="132084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62120" y="3429000"/>
                <a:ext cx="41907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D82-7F0D-4161-AF99-F276D0CB1B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0DEDF-E938-4807-BE24-43C57776E485}" type="datetime1">
              <a:rPr lang="en-US"/>
              <a:t>07/29/26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ypical 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79400" y="1859040"/>
                <a:ext cx="7581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9360" y="3048120"/>
            <a:ext cx="8864640" cy="3098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038480" y="2590920"/>
            <a:ext cx="3886200" cy="1904760"/>
          </a:xfrm>
          <a:custGeom>
            <a:avLst/>
            <a:gdLst/>
            <a:ahLst/>
            <a:rect l="l" t="t" r="r" b="b"/>
            <a:pathLst>
              <a:path w="1655" h="1056">
                <a:moveTo>
                  <a:pt x="1008" y="0"/>
                </a:moveTo>
                <a:cubicBezTo>
                  <a:pt x="1331" y="128"/>
                  <a:pt x="1655" y="256"/>
                  <a:pt x="1488" y="432"/>
                </a:cubicBezTo>
                <a:cubicBezTo>
                  <a:pt x="1320" y="607"/>
                  <a:pt x="660" y="831"/>
                  <a:pt x="0" y="10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5D4-DE61-48D8-976C-943677DDAA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DAA26-FF39-44A5-B0CC-927A2CB2F3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st-Order Transform Pa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8178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OMETRIC SEQUENC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1725480"/>
          <a:ext cx="7925040" cy="13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25480"/>
                    <a:ext cx="7925040" cy="1322640"/>
                  </a:xfrm>
                  <a:prstGeom prst="rect">
                    <a:avLst/>
                  </a:prstGeom>
                  <a:ln w="7632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86000" y="3930480"/>
                <a:ext cx="5637240" cy="24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g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901-F75A-4379-AE43-D3F4D580BB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33BD2-5FD2-4CCF-918D-2C53B915E6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PROPERTY of X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LAY in TIME&lt;--&gt;Multiply X(z) by z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438280" y="2494080"/>
          <a:ext cx="362916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494080"/>
                    <a:ext cx="3629160" cy="13158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82680" y="3963960"/>
          <a:ext cx="6566040" cy="23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3963960"/>
                    <a:ext cx="6566040" cy="236052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87F-9B64-411F-9B59-AC4C55666D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68FCA-2282-456E-9B48-E0DCDB3CBD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2000-11-25T18:34:26Z</cp:lastPrinted>
  <dcterms:modified xsi:type="dcterms:W3CDTF">2006-03-31T19:32:42Z</dcterms:modified>
  <cp:revision>364</cp:revision>
  <dc:subject/>
  <dc:title>SPFirst Lecture #1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