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png" ContentType="image/png"/>
  <Override PartName="/ppt/media/image30.wmf" ContentType="image/x-wmf"/>
  <Override PartName="/ppt/media/image2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24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2.wmf" ContentType="image/x-wmf"/>
  <Override PartName="/ppt/media/image31.wmf" ContentType="image/x-wmf"/>
  <Override PartName="/ppt/media/image36.wmf" ContentType="image/x-wmf"/>
  <Override PartName="/ppt/media/image41.wmf" ContentType="image/x-wmf"/>
  <Override PartName="/ppt/media/image8.png" ContentType="image/png"/>
  <Override PartName="/ppt/media/image38.png" ContentType="image/png"/>
  <Override PartName="/ppt/media/image40.png" ContentType="image/png"/>
  <Override PartName="/ppt/media/image13.wmf" ContentType="image/x-wmf"/>
  <Override PartName="/ppt/media/image37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028-02A9-4503-AE91-C9889CEE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A7B-8C13-470C-BC94-5DB46513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B0C-7CC9-4B47-A9C9-43226A97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4E1-E7FF-4133-9ED6-310DC421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6FCA-0912-4E18-9365-93936A4A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870F-C74A-4A5F-AE2D-2FE476B3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AB07-5BBB-468C-9798-FBC0B84A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87CB-FBA0-44A3-BE42-DFB859B9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473A-FE8C-4B9D-9451-1FB4AC00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6FD6-E3F4-40D5-8A31-2FC24731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8954-35AA-4D9A-B661-ABD72554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E41-1856-4F00-8CDC-D1E52135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443F-FC47-4B92-BC43-F55B653E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F73F-FBE3-457F-B32D-B200E328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3041-378F-49B4-A0E6-265BAF82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BA7A-D06D-4398-AE45-CBC02A87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86A2-574B-435A-8964-A51C5D49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384-B1C7-4054-BFB4-B3D0F3BD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3E7-9367-4C46-8DBA-F298375C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39E-EFF3-4D97-A8F0-F830C25E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2B6-AC86-49ED-A1D9-DF46218F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369-0D23-4D7F-9801-FFB06EF4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8E0-FB7E-4A1B-9068-2E0B9F5E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D21-B599-450A-8AC4-30FAFF6B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4CE1-7208-4F81-897D-630A86F9756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C503-B034-4967-ADBD-10B994B57D0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055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8F94-A777-4CE7-B573-8BB49470C29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AA4D-0FFD-4AE1-96B8-D19B4B3FE34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A276-85E4-4646-BC74-A6FF767789E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3C8E-C02D-4C9C-A808-81A139A4F75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1960" y="3428640"/>
            <a:ext cx="61722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6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IR Filters: Feedbac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d 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1744-9413-42E1-8A2B-6BE71F1B045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FE3A-766C-42F5-B20B-1DDD637C024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 COEFFICI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REVIOU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UTPU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LAB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yy = filter([3,-2],[1,-0.8],xx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212840" y="2685960"/>
                <a:ext cx="7175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5" name="Group 15"/>
          <p:cNvGrpSpPr/>
          <p:nvPr/>
        </p:nvGrpSpPr>
        <p:grpSpPr>
          <a:xfrm>
            <a:off x="141120" y="3048120"/>
            <a:ext cx="7469640" cy="2743200"/>
            <a:chOff x="141120" y="3048120"/>
            <a:chExt cx="7469640" cy="2743200"/>
          </a:xfrm>
        </p:grpSpPr>
        <p:sp>
          <p:nvSpPr>
            <p:cNvPr id="186" name="Freeform 10"/>
            <p:cNvSpPr/>
            <p:nvPr/>
          </p:nvSpPr>
          <p:spPr>
            <a:xfrm>
              <a:off x="3124080" y="3120120"/>
              <a:ext cx="4265640" cy="1740960"/>
            </a:xfrm>
            <a:custGeom>
              <a:avLst/>
              <a:gdLst/>
              <a:ahLst/>
              <a:rect l="l" t="t" r="r" b="b"/>
              <a:pathLst>
                <a:path w="2447" h="1152">
                  <a:moveTo>
                    <a:pt x="1920" y="1152"/>
                  </a:moveTo>
                  <a:cubicBezTo>
                    <a:pt x="2063" y="1076"/>
                    <a:pt x="2207" y="1000"/>
                    <a:pt x="2256" y="864"/>
                  </a:cubicBezTo>
                  <a:cubicBezTo>
                    <a:pt x="2304" y="727"/>
                    <a:pt x="2447" y="431"/>
                    <a:pt x="2208" y="336"/>
                  </a:cubicBezTo>
                  <a:cubicBezTo>
                    <a:pt x="1968" y="240"/>
                    <a:pt x="1136" y="304"/>
                    <a:pt x="816" y="288"/>
                  </a:cubicBezTo>
                  <a:cubicBezTo>
                    <a:pt x="496" y="272"/>
                    <a:pt x="424" y="288"/>
                    <a:pt x="288" y="240"/>
                  </a:cubicBezTo>
                  <a:cubicBezTo>
                    <a:pt x="151" y="191"/>
                    <a:pt x="75" y="95"/>
                    <a:pt x="0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817600" y="3679560"/>
              <a:ext cx="1793160" cy="368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IGN CHANGE</a:t>
              </a:r>
              <a:endParaRPr b="0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>
              <a:off x="141120" y="3048120"/>
              <a:ext cx="5726160" cy="2743200"/>
            </a:xfrm>
            <a:custGeom>
              <a:avLst/>
              <a:gdLst/>
              <a:ahLst/>
              <a:rect l="l" t="t" r="r" b="b"/>
              <a:pathLst>
                <a:path w="3607" h="1815">
                  <a:moveTo>
                    <a:pt x="3504" y="1392"/>
                  </a:moveTo>
                  <a:cubicBezTo>
                    <a:pt x="3555" y="1532"/>
                    <a:pt x="3607" y="1672"/>
                    <a:pt x="3168" y="1728"/>
                  </a:cubicBezTo>
                  <a:cubicBezTo>
                    <a:pt x="2728" y="1783"/>
                    <a:pt x="1375" y="1815"/>
                    <a:pt x="864" y="1728"/>
                  </a:cubicBezTo>
                  <a:cubicBezTo>
                    <a:pt x="352" y="1640"/>
                    <a:pt x="191" y="1447"/>
                    <a:pt x="96" y="1200"/>
                  </a:cubicBezTo>
                  <a:cubicBezTo>
                    <a:pt x="0" y="952"/>
                    <a:pt x="192" y="440"/>
                    <a:pt x="288" y="240"/>
                  </a:cubicBezTo>
                  <a:cubicBezTo>
                    <a:pt x="384" y="40"/>
                    <a:pt x="608" y="39"/>
                    <a:pt x="672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Group 16"/>
          <p:cNvGrpSpPr/>
          <p:nvPr/>
        </p:nvGrpSpPr>
        <p:grpSpPr>
          <a:xfrm>
            <a:off x="765720" y="3200040"/>
            <a:ext cx="3362760" cy="907200"/>
            <a:chOff x="765720" y="3200040"/>
            <a:chExt cx="3362760" cy="907200"/>
          </a:xfrm>
        </p:grpSpPr>
        <p:sp>
          <p:nvSpPr>
            <p:cNvPr id="190" name="Line 13"/>
            <p:cNvSpPr/>
            <p:nvPr/>
          </p:nvSpPr>
          <p:spPr>
            <a:xfrm flipV="1">
              <a:off x="1981080" y="3200040"/>
              <a:ext cx="990720" cy="6094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765720" y="3708360"/>
              <a:ext cx="336276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FEEDBACK COEFFICIENT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8720-CC65-4EB7-A4D1-B71D9EA3350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9F9A-0F3D-4276-8C88-EF2EED94E30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UTE OUT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96" name="Picture 3" descr="_x0016_input-to-1st-order.gif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1180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762120" y="1828800"/>
            <a:ext cx="4190760" cy="533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98" name="Group 9"/>
          <p:cNvGrpSpPr/>
          <p:nvPr/>
        </p:nvGrpSpPr>
        <p:grpSpPr>
          <a:xfrm>
            <a:off x="3657240" y="3124080"/>
            <a:ext cx="4114800" cy="2514600"/>
            <a:chOff x="3657240" y="3124080"/>
            <a:chExt cx="4114800" cy="2514600"/>
          </a:xfrm>
        </p:grpSpPr>
        <p:sp>
          <p:nvSpPr>
            <p:cNvPr id="199" name="Line 5"/>
            <p:cNvSpPr/>
            <p:nvPr/>
          </p:nvSpPr>
          <p:spPr>
            <a:xfrm flipH="1">
              <a:off x="3657240" y="3124080"/>
              <a:ext cx="1219320" cy="838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0" name="Line 6"/>
            <p:cNvSpPr/>
            <p:nvPr/>
          </p:nvSpPr>
          <p:spPr>
            <a:xfrm flipH="1">
              <a:off x="5714640" y="3200400"/>
              <a:ext cx="2057400" cy="8380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1" name="Freeform 8"/>
            <p:cNvSpPr/>
            <p:nvPr/>
          </p:nvSpPr>
          <p:spPr>
            <a:xfrm>
              <a:off x="4267080" y="3124080"/>
              <a:ext cx="1676520" cy="2514600"/>
            </a:xfrm>
            <a:custGeom>
              <a:avLst/>
              <a:gdLst/>
              <a:ahLst/>
              <a:rect l="l" t="t" r="r" b="b"/>
              <a:pathLst>
                <a:path w="1056" h="1584">
                  <a:moveTo>
                    <a:pt x="1056" y="0"/>
                  </a:moveTo>
                  <a:cubicBezTo>
                    <a:pt x="819" y="64"/>
                    <a:pt x="583" y="128"/>
                    <a:pt x="432" y="288"/>
                  </a:cubicBezTo>
                  <a:cubicBezTo>
                    <a:pt x="280" y="447"/>
                    <a:pt x="216" y="744"/>
                    <a:pt x="144" y="960"/>
                  </a:cubicBezTo>
                  <a:cubicBezTo>
                    <a:pt x="72" y="1176"/>
                    <a:pt x="36" y="1380"/>
                    <a:pt x="0" y="1584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8DC6-F2EA-4621-A489-92AA3FA4BE9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92CF-66F1-4A24-BCEC-8A17F3BC4BF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UTE y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3920" y="1885680"/>
            <a:ext cx="817884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EEDBACK DIFFERENCE EQUA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029"/>
              <p:cNvSpPr txBox="1"/>
              <p:nvPr/>
            </p:nvSpPr>
            <p:spPr>
              <a:xfrm>
                <a:off x="2297160" y="2692440"/>
                <a:ext cx="50068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030"/>
              <p:cNvSpPr txBox="1"/>
              <p:nvPr/>
            </p:nvSpPr>
            <p:spPr>
              <a:xfrm>
                <a:off x="2008080" y="4800600"/>
                <a:ext cx="46324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Freeform 1032"/>
          <p:cNvSpPr/>
          <p:nvPr/>
        </p:nvSpPr>
        <p:spPr>
          <a:xfrm>
            <a:off x="2565360" y="4267080"/>
            <a:ext cx="2386080" cy="609840"/>
          </a:xfrm>
          <a:custGeom>
            <a:avLst/>
            <a:gdLst/>
            <a:ahLst/>
            <a:rect l="l" t="t" r="r" b="b"/>
            <a:pathLst>
              <a:path w="1503" h="384">
                <a:moveTo>
                  <a:pt x="64" y="0"/>
                </a:moveTo>
                <a:cubicBezTo>
                  <a:pt x="32" y="64"/>
                  <a:pt x="0" y="128"/>
                  <a:pt x="208" y="144"/>
                </a:cubicBezTo>
                <a:cubicBezTo>
                  <a:pt x="415" y="159"/>
                  <a:pt x="1120" y="56"/>
                  <a:pt x="1312" y="96"/>
                </a:cubicBezTo>
                <a:cubicBezTo>
                  <a:pt x="1503" y="135"/>
                  <a:pt x="1431" y="259"/>
                  <a:pt x="1360" y="384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Rectangle 1033"/>
          <p:cNvSpPr/>
          <p:nvPr/>
        </p:nvSpPr>
        <p:spPr>
          <a:xfrm>
            <a:off x="533520" y="3790800"/>
            <a:ext cx="81788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ED y[-1] to get started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6593-972E-4924-9427-4B08DA387DE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B5A7-4FE5-45B7-B026-502137F3C5D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T REST CONDI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[n] = 0,  for n&lt;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ECAUSE x[n] = 0,  for n&lt;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6" name="Picture 7" descr="_x0016_at-rest-conditions.gif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3414600"/>
            <a:ext cx="90676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6156-5880-42F9-A349-D204C8C4223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3303-3417-4C01-A8B2-D707FC44B96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UTE y[0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STARTS THE RECURS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ME with MORE FEEDBACK TER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2" name="Picture 4" descr="&#13;eval-y[0].gif         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2666880"/>
            <a:ext cx="9124920" cy="128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1112760" y="5029200"/>
                <a:ext cx="72230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22BA-C816-4C55-94E2-BFECE0473C8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2A1B-B494-4B0B-9725-35CAAF05557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UTE MORE y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TINUE THE RECURS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9" name="Picture 5" descr="&#13;eval-y[n].gif         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76320" y="2438280"/>
            <a:ext cx="9067680" cy="3900600"/>
          </a:xfrm>
          <a:prstGeom prst="rect">
            <a:avLst/>
          </a:prstGeom>
          <a:ln w="0">
            <a:noFill/>
          </a:ln>
        </p:spPr>
      </p:pic>
      <p:sp>
        <p:nvSpPr>
          <p:cNvPr id="230" name="Line 8"/>
          <p:cNvSpPr/>
          <p:nvPr/>
        </p:nvSpPr>
        <p:spPr>
          <a:xfrm flipV="1">
            <a:off x="609480" y="3504960"/>
            <a:ext cx="0" cy="152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V="1">
            <a:off x="3657600" y="3504960"/>
            <a:ext cx="0" cy="152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Line 10"/>
          <p:cNvSpPr/>
          <p:nvPr/>
        </p:nvSpPr>
        <p:spPr>
          <a:xfrm flipV="1">
            <a:off x="2286000" y="3504960"/>
            <a:ext cx="0" cy="152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BCB6-16FB-4FB0-B329-C6E91E75055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098C-32AC-468B-A699-81058B7494B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y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37" name="Picture 3" descr="_x000b_plot-yn.gif           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9294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3581280" y="1828800"/>
            <a:ext cx="5562720" cy="12193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AAE0-6D4B-4304-AA76-A64B31F2B1F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FD2C-E02C-4AD9-BC6B-96BDBC9FC3F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42" name="Object 10"/>
          <p:cNvGraphicFramePr/>
          <p:nvPr/>
        </p:nvGraphicFramePr>
        <p:xfrm>
          <a:off x="1219320" y="1752480"/>
          <a:ext cx="411624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4116240" cy="5241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MPULS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45" name="Picture 5" descr="_x0014_impulse-response.gif                                           000096D7_x0005_JKL-2                          B0CAADC9:"/>
          <p:cNvPicPr/>
          <p:nvPr/>
        </p:nvPicPr>
        <p:blipFill>
          <a:blip r:embed="rId3"/>
          <a:srcRect l="0" t="0" r="9922" b="0"/>
          <a:stretch/>
        </p:blipFill>
        <p:spPr>
          <a:xfrm>
            <a:off x="76320" y="2352600"/>
            <a:ext cx="8991360" cy="3514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6" name="Object 8"/>
              <p:cNvSpPr txBox="1"/>
              <p:nvPr/>
            </p:nvSpPr>
            <p:spPr>
              <a:xfrm>
                <a:off x="2057400" y="5943600"/>
                <a:ext cx="28954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n</m:t>
                    </m:r>
                    <m:r>
                      <m:t xml:space="preserve">³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7" name="Object 9"/>
          <p:cNvGraphicFramePr/>
          <p:nvPr/>
        </p:nvGraphicFramePr>
        <p:xfrm>
          <a:off x="1219320" y="1752480"/>
          <a:ext cx="4116240" cy="5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8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1752480"/>
                    <a:ext cx="4116240" cy="5241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Object 12"/>
              <p:cNvSpPr txBox="1"/>
              <p:nvPr/>
            </p:nvSpPr>
            <p:spPr>
              <a:xfrm>
                <a:off x="5410080" y="5181480"/>
                <a:ext cx="3581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DFFA-336A-49A5-B340-F47496CFA8B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7528-AFED-40A5-A266-3C7A9FFDE1C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MPULS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FFERENCE EQUA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 TIME-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514680" y="5354640"/>
                <a:ext cx="919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Line 5"/>
          <p:cNvSpPr/>
          <p:nvPr/>
        </p:nvSpPr>
        <p:spPr>
          <a:xfrm>
            <a:off x="1995480" y="56386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4662360" y="56386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4748040" y="4952880"/>
                <a:ext cx="34196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8"/>
              <p:cNvSpPr txBox="1"/>
              <p:nvPr/>
            </p:nvSpPr>
            <p:spPr>
              <a:xfrm>
                <a:off x="1905120" y="5070600"/>
                <a:ext cx="919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9"/>
          <p:cNvSpPr/>
          <p:nvPr/>
        </p:nvSpPr>
        <p:spPr>
          <a:xfrm>
            <a:off x="3214800" y="5181480"/>
            <a:ext cx="1447560" cy="9144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 flipV="1">
            <a:off x="2133720" y="5791320"/>
            <a:ext cx="1218960" cy="380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380880" y="5791320"/>
            <a:ext cx="198144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MPULS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2"/>
              <p:cNvSpPr txBox="1"/>
              <p:nvPr/>
            </p:nvSpPr>
            <p:spPr>
              <a:xfrm>
                <a:off x="2297160" y="2286000"/>
                <a:ext cx="50068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4" name="Object 13"/>
          <p:cNvGraphicFramePr/>
          <p:nvPr/>
        </p:nvGraphicFramePr>
        <p:xfrm>
          <a:off x="2771640" y="3352680"/>
          <a:ext cx="362916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352680"/>
                    <a:ext cx="3629160" cy="6685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6" name="Text Box 14"/>
          <p:cNvSpPr/>
          <p:nvPr/>
        </p:nvSpPr>
        <p:spPr>
          <a:xfrm>
            <a:off x="3581280" y="6172200"/>
            <a:ext cx="21337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TI SYST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EEA2-7213-413C-A888-7621A6A4187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0FCF-1FBF-4541-8A2B-6F2112E45D9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IMPULS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779400" y="1859040"/>
          <a:ext cx="758196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1859040"/>
                    <a:ext cx="7581960" cy="8478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73" name="Picture 4" descr="_x0010_an-vs-n-form.gif                                               0000975C_x0005_JKL-2                          B0CAADC9:"/>
          <p:cNvPicPr/>
          <p:nvPr/>
        </p:nvPicPr>
        <p:blipFill>
          <a:blip r:embed="rId3"/>
          <a:stretch/>
        </p:blipFill>
        <p:spPr>
          <a:xfrm>
            <a:off x="279360" y="3048120"/>
            <a:ext cx="8864640" cy="3098520"/>
          </a:xfrm>
          <a:prstGeom prst="rect">
            <a:avLst/>
          </a:prstGeom>
          <a:ln w="0">
            <a:noFill/>
          </a:ln>
        </p:spPr>
      </p:pic>
      <p:sp>
        <p:nvSpPr>
          <p:cNvPr id="274" name="Freeform 5"/>
          <p:cNvSpPr/>
          <p:nvPr/>
        </p:nvSpPr>
        <p:spPr>
          <a:xfrm>
            <a:off x="4038480" y="2590920"/>
            <a:ext cx="3886200" cy="1904760"/>
          </a:xfrm>
          <a:custGeom>
            <a:avLst/>
            <a:gdLst/>
            <a:ahLst/>
            <a:rect l="l" t="t" r="r" b="b"/>
            <a:pathLst>
              <a:path w="1655" h="1056">
                <a:moveTo>
                  <a:pt x="1008" y="0"/>
                </a:moveTo>
                <a:cubicBezTo>
                  <a:pt x="1331" y="128"/>
                  <a:pt x="1655" y="256"/>
                  <a:pt x="1488" y="432"/>
                </a:cubicBezTo>
                <a:cubicBezTo>
                  <a:pt x="1320" y="607"/>
                  <a:pt x="660" y="831"/>
                  <a:pt x="0" y="10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A479-C1F4-47E7-9C47-D5C48EAC430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6BC4-FA72-4BB9-98E4-668DD7824F1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F13A-7EF2-44AC-939F-F412376AD9F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B018-588F-4FCB-BC77-58061B274BC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finite-Length Signal:  h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LYNOMIAL Represen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MPLIFY the SUMM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80" name="Object 4"/>
          <p:cNvGraphicFramePr/>
          <p:nvPr/>
        </p:nvGraphicFramePr>
        <p:xfrm>
          <a:off x="1530360" y="2222640"/>
          <a:ext cx="3276720" cy="113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0360" y="2222640"/>
                    <a:ext cx="3276720" cy="1130040"/>
                  </a:xfrm>
                  <a:prstGeom prst="rect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Line 5"/>
          <p:cNvSpPr/>
          <p:nvPr/>
        </p:nvSpPr>
        <p:spPr>
          <a:xfrm flipH="1" flipV="1">
            <a:off x="4571640" y="2819520"/>
            <a:ext cx="1523880" cy="30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127560" y="2717640"/>
            <a:ext cx="169416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PPLIES to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y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1"/>
              <p:cNvSpPr txBox="1"/>
              <p:nvPr/>
            </p:nvSpPr>
            <p:spPr>
              <a:xfrm>
                <a:off x="487440" y="4648320"/>
                <a:ext cx="76978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 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437A-B0B4-40B1-A1D8-75EFA753775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3E8D-0D1F-420B-A40B-C1CD899F5D0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rivation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call Sum of Geometric Sequenc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ields a COMPACT 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90" name="Object 1032"/>
          <p:cNvGraphicFramePr/>
          <p:nvPr/>
        </p:nvGraphicFramePr>
        <p:xfrm>
          <a:off x="6324480" y="2211480"/>
          <a:ext cx="2057400" cy="10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11480"/>
                    <a:ext cx="2057400" cy="1065240"/>
                  </a:xfrm>
                  <a:prstGeom prst="rect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2" name="Object 1033"/>
              <p:cNvSpPr txBox="1"/>
              <p:nvPr/>
            </p:nvSpPr>
            <p:spPr>
              <a:xfrm>
                <a:off x="1295280" y="3505320"/>
                <a:ext cx="6627960" cy="28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&gt;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5449-1CFD-400B-8B6F-9AFB5874759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FD82-6857-4255-A99E-95FFE526BD9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(z) = z-Transform{ h[n] }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ST-ORDER IIR FILTER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98" name="Object 9223"/>
          <p:cNvGraphicFramePr/>
          <p:nvPr/>
        </p:nvGraphicFramePr>
        <p:xfrm>
          <a:off x="2219400" y="2514600"/>
          <a:ext cx="547668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92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9400" y="2514600"/>
                    <a:ext cx="5476680" cy="6969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0" name="Object 9224"/>
          <p:cNvGraphicFramePr/>
          <p:nvPr/>
        </p:nvGraphicFramePr>
        <p:xfrm>
          <a:off x="1781280" y="4678200"/>
          <a:ext cx="3324240" cy="13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92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1280" y="4678200"/>
                    <a:ext cx="3324240" cy="132084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2" name="Object 9225"/>
              <p:cNvSpPr txBox="1"/>
              <p:nvPr/>
            </p:nvSpPr>
            <p:spPr>
              <a:xfrm>
                <a:off x="762120" y="3429000"/>
                <a:ext cx="419076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8D05-52F2-4D21-BEEC-C1A1612D336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34F4-2948-485D-89C2-15B632EF3B3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(z) = z-Transform{ h[n] }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OTHER FIRST-ORDER IIR FILTER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8" name="Object 6"/>
          <p:cNvGraphicFramePr/>
          <p:nvPr/>
        </p:nvGraphicFramePr>
        <p:xfrm>
          <a:off x="1143000" y="2514600"/>
          <a:ext cx="723888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7238880" cy="63180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0" name="Object 7"/>
          <p:cNvGraphicFramePr/>
          <p:nvPr/>
        </p:nvGraphicFramePr>
        <p:xfrm>
          <a:off x="587520" y="4940280"/>
          <a:ext cx="779436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7520" y="4940280"/>
                    <a:ext cx="7794360" cy="138420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2" name="Object 8"/>
              <p:cNvSpPr txBox="1"/>
              <p:nvPr/>
            </p:nvSpPr>
            <p:spPr>
              <a:xfrm>
                <a:off x="189000" y="3328920"/>
                <a:ext cx="85262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0"/>
              <p:cNvSpPr txBox="1"/>
              <p:nvPr/>
            </p:nvSpPr>
            <p:spPr>
              <a:xfrm>
                <a:off x="5105520" y="4343400"/>
                <a:ext cx="1817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s a shift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2650-1C8F-4647-8FE4-384E65F71B7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5EA8-2007-4316-AC66-E4C75E5D9D1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ICATION of z-TRANSFOR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 in TIME-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9" name="Line 1028"/>
          <p:cNvSpPr/>
          <p:nvPr/>
        </p:nvSpPr>
        <p:spPr>
          <a:xfrm>
            <a:off x="1600200" y="32767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Line 1029"/>
          <p:cNvSpPr/>
          <p:nvPr/>
        </p:nvSpPr>
        <p:spPr>
          <a:xfrm>
            <a:off x="4267080" y="32767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1030"/>
              <p:cNvSpPr txBox="1"/>
              <p:nvPr/>
            </p:nvSpPr>
            <p:spPr>
              <a:xfrm>
                <a:off x="4572000" y="2590920"/>
                <a:ext cx="3422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031"/>
              <p:cNvSpPr txBox="1"/>
              <p:nvPr/>
            </p:nvSpPr>
            <p:spPr>
              <a:xfrm>
                <a:off x="1447920" y="2666880"/>
                <a:ext cx="10443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32"/>
              <p:cNvSpPr txBox="1"/>
              <p:nvPr/>
            </p:nvSpPr>
            <p:spPr>
              <a:xfrm>
                <a:off x="3514680" y="5049720"/>
                <a:ext cx="919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Line 1033"/>
          <p:cNvSpPr/>
          <p:nvPr/>
        </p:nvSpPr>
        <p:spPr>
          <a:xfrm>
            <a:off x="1995480" y="53341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5" name="Line 1034"/>
          <p:cNvSpPr/>
          <p:nvPr/>
        </p:nvSpPr>
        <p:spPr>
          <a:xfrm>
            <a:off x="4662360" y="53341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035"/>
              <p:cNvSpPr txBox="1"/>
              <p:nvPr/>
            </p:nvSpPr>
            <p:spPr>
              <a:xfrm>
                <a:off x="4748040" y="4648320"/>
                <a:ext cx="34196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036"/>
              <p:cNvSpPr txBox="1"/>
              <p:nvPr/>
            </p:nvSpPr>
            <p:spPr>
              <a:xfrm>
                <a:off x="1905120" y="4765680"/>
                <a:ext cx="919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Rectangle 1037"/>
          <p:cNvSpPr/>
          <p:nvPr/>
        </p:nvSpPr>
        <p:spPr>
          <a:xfrm>
            <a:off x="2819520" y="2819520"/>
            <a:ext cx="1447560" cy="914400"/>
          </a:xfrm>
          <a:prstGeom prst="rect">
            <a:avLst/>
          </a:prstGeom>
          <a:solidFill>
            <a:srgbClr val="ffcc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9" name="Rectangle 1038"/>
          <p:cNvSpPr/>
          <p:nvPr/>
        </p:nvSpPr>
        <p:spPr>
          <a:xfrm>
            <a:off x="3214800" y="4876920"/>
            <a:ext cx="1447560" cy="9144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039"/>
              <p:cNvSpPr txBox="1"/>
              <p:nvPr/>
            </p:nvSpPr>
            <p:spPr>
              <a:xfrm>
                <a:off x="3048120" y="2971800"/>
                <a:ext cx="1085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Line 1040"/>
          <p:cNvSpPr/>
          <p:nvPr/>
        </p:nvSpPr>
        <p:spPr>
          <a:xfrm flipV="1">
            <a:off x="2133720" y="5486040"/>
            <a:ext cx="1371600" cy="685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Text Box 1041"/>
          <p:cNvSpPr/>
          <p:nvPr/>
        </p:nvSpPr>
        <p:spPr>
          <a:xfrm>
            <a:off x="380880" y="5791320"/>
            <a:ext cx="198144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MPULS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A0EC-F0C0-4FE5-8DD4-4AE7598F09B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F4AF-CA08-4428-8681-245B310A133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EP RESPONSE: x[n]=u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37" name="Picture 7" descr="_x0013_step-response-table   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228600" y="1371600"/>
            <a:ext cx="8153280" cy="607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8" name="Object 8"/>
              <p:cNvSpPr txBox="1"/>
              <p:nvPr/>
            </p:nvSpPr>
            <p:spPr>
              <a:xfrm>
                <a:off x="5746680" y="2590920"/>
                <a:ext cx="3245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n</m:t>
                    </m:r>
                    <m:r>
                      <m:t xml:space="preserve">³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9"/>
          <p:cNvSpPr/>
          <p:nvPr/>
        </p:nvSpPr>
        <p:spPr>
          <a:xfrm>
            <a:off x="4191120" y="4495680"/>
            <a:ext cx="68580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5562720" y="4343400"/>
            <a:ext cx="990360" cy="4572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3453-878F-40CA-9DC9-509C4BBB5C1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83BA-C851-4C09-B502-416F50987C2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RIVE STEP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45" name="Picture 3" descr="_x0011_step-response.gif     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114480" y="1676520"/>
            <a:ext cx="8877240" cy="1562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_x0019_step-response-formula.gif                                      000096D7_x0005_JKL-2                          B0CAADC9:"/>
          <p:cNvPicPr/>
          <p:nvPr/>
        </p:nvPicPr>
        <p:blipFill>
          <a:blip r:embed="rId2"/>
          <a:stretch/>
        </p:blipFill>
        <p:spPr>
          <a:xfrm>
            <a:off x="76320" y="4952880"/>
            <a:ext cx="9067680" cy="1289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_x0011_geometric-sum.gif                                              000096D7_x0005_JKL-2                          B0CAADC9:"/>
          <p:cNvPicPr/>
          <p:nvPr/>
        </p:nvPicPr>
        <p:blipFill>
          <a:blip r:embed="rId3"/>
          <a:stretch/>
        </p:blipFill>
        <p:spPr>
          <a:xfrm>
            <a:off x="2908440" y="3352680"/>
            <a:ext cx="4711680" cy="148608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 flipH="1">
            <a:off x="3580920" y="2743200"/>
            <a:ext cx="403884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Freeform 8"/>
          <p:cNvSpPr/>
          <p:nvPr/>
        </p:nvSpPr>
        <p:spPr>
          <a:xfrm>
            <a:off x="3657600" y="4038480"/>
            <a:ext cx="2654280" cy="1447920"/>
          </a:xfrm>
          <a:custGeom>
            <a:avLst/>
            <a:gdLst/>
            <a:ahLst/>
            <a:rect l="l" t="t" r="r" b="b"/>
            <a:pathLst>
              <a:path w="1672" h="912">
                <a:moveTo>
                  <a:pt x="1440" y="0"/>
                </a:moveTo>
                <a:cubicBezTo>
                  <a:pt x="1556" y="151"/>
                  <a:pt x="1672" y="303"/>
                  <a:pt x="1584" y="432"/>
                </a:cubicBezTo>
                <a:cubicBezTo>
                  <a:pt x="1495" y="560"/>
                  <a:pt x="1175" y="688"/>
                  <a:pt x="912" y="768"/>
                </a:cubicBezTo>
                <a:cubicBezTo>
                  <a:pt x="648" y="847"/>
                  <a:pt x="324" y="879"/>
                  <a:pt x="0" y="912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DD7C-236D-4E49-8B14-D40211191C3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E93B-51B3-4F3A-8EE7-3A0277ED36C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53" name="Picture 2" descr="_x0010_step_esample.gif                                               0000DCCD_x0005_JIM-2                          B29E03F8:"/>
          <p:cNvPicPr/>
          <p:nvPr/>
        </p:nvPicPr>
        <p:blipFill>
          <a:blip r:embed="rId1"/>
          <a:stretch/>
        </p:blipFill>
        <p:spPr>
          <a:xfrm>
            <a:off x="762120" y="797040"/>
            <a:ext cx="7315200" cy="60609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STEP RESPONSE</a:t>
            </a:r>
            <a:br>
              <a:rPr sz="4000"/>
            </a:b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609480" y="3505320"/>
            <a:ext cx="3048120" cy="380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56" name="Object 5"/>
          <p:cNvGraphicFramePr/>
          <p:nvPr/>
        </p:nvGraphicFramePr>
        <p:xfrm>
          <a:off x="4741920" y="3289320"/>
          <a:ext cx="4230720" cy="7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41920" y="3289320"/>
                    <a:ext cx="4230720" cy="7048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8" name="Object 6"/>
          <p:cNvGraphicFramePr/>
          <p:nvPr/>
        </p:nvGraphicFramePr>
        <p:xfrm>
          <a:off x="15840" y="3440160"/>
          <a:ext cx="3795840" cy="44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840" y="3440160"/>
                    <a:ext cx="3795840" cy="4460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CC6A-06A9-41B9-B632-173CF463B85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86F2-623A-478D-8CEF-74E4C9B942D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63" name="Object 2"/>
          <p:cNvGraphicFramePr/>
          <p:nvPr/>
        </p:nvGraphicFramePr>
        <p:xfrm>
          <a:off x="0" y="2590920"/>
          <a:ext cx="909792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90979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TH FORMULA for h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HIFTE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MPULSES to write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67" name="Group 5"/>
          <p:cNvGrpSpPr/>
          <p:nvPr/>
        </p:nvGrpSpPr>
        <p:grpSpPr>
          <a:xfrm>
            <a:off x="1066680" y="2971800"/>
            <a:ext cx="6447960" cy="2351520"/>
            <a:chOff x="1066680" y="2971800"/>
            <a:chExt cx="6447960" cy="2351520"/>
          </a:xfrm>
        </p:grpSpPr>
        <p:sp>
          <p:nvSpPr>
            <p:cNvPr id="368" name="Line 6"/>
            <p:cNvSpPr/>
            <p:nvPr/>
          </p:nvSpPr>
          <p:spPr>
            <a:xfrm flipH="1">
              <a:off x="5486400" y="2971800"/>
              <a:ext cx="1828800" cy="1143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9" name="Line 7"/>
            <p:cNvSpPr/>
            <p:nvPr/>
          </p:nvSpPr>
          <p:spPr>
            <a:xfrm>
              <a:off x="1066680" y="4952880"/>
              <a:ext cx="60962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3733920" y="3962520"/>
              <a:ext cx="0" cy="1066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1" name="Line 9"/>
            <p:cNvSpPr/>
            <p:nvPr/>
          </p:nvSpPr>
          <p:spPr>
            <a:xfrm flipV="1">
              <a:off x="373392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2" name="Line 10"/>
            <p:cNvSpPr/>
            <p:nvPr/>
          </p:nvSpPr>
          <p:spPr>
            <a:xfrm>
              <a:off x="5638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3" name="Line 11"/>
            <p:cNvSpPr/>
            <p:nvPr/>
          </p:nvSpPr>
          <p:spPr>
            <a:xfrm>
              <a:off x="601992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4" name="Line 12"/>
            <p:cNvSpPr/>
            <p:nvPr/>
          </p:nvSpPr>
          <p:spPr>
            <a:xfrm>
              <a:off x="3352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5" name="Line 13"/>
            <p:cNvSpPr/>
            <p:nvPr/>
          </p:nvSpPr>
          <p:spPr>
            <a:xfrm>
              <a:off x="297180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259092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>
              <a:off x="2209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8" name="Line 16"/>
            <p:cNvSpPr/>
            <p:nvPr/>
          </p:nvSpPr>
          <p:spPr>
            <a:xfrm>
              <a:off x="182880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9" name="Text Box 17"/>
            <p:cNvSpPr/>
            <p:nvPr/>
          </p:nvSpPr>
          <p:spPr>
            <a:xfrm>
              <a:off x="3125880" y="39625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.2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0" name="Text Box 18"/>
            <p:cNvSpPr/>
            <p:nvPr/>
          </p:nvSpPr>
          <p:spPr>
            <a:xfrm>
              <a:off x="716472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1" name="Line 19"/>
            <p:cNvSpPr/>
            <p:nvPr/>
          </p:nvSpPr>
          <p:spPr>
            <a:xfrm flipV="1">
              <a:off x="411480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2" name="Line 20"/>
            <p:cNvSpPr/>
            <p:nvPr/>
          </p:nvSpPr>
          <p:spPr>
            <a:xfrm flipV="1">
              <a:off x="449568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3" name="Line 21"/>
            <p:cNvSpPr/>
            <p:nvPr/>
          </p:nvSpPr>
          <p:spPr>
            <a:xfrm flipV="1">
              <a:off x="525780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4" name="Line 22"/>
            <p:cNvSpPr/>
            <p:nvPr/>
          </p:nvSpPr>
          <p:spPr>
            <a:xfrm flipV="1">
              <a:off x="487692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385" name="Object 23"/>
            <p:cNvGraphicFramePr/>
            <p:nvPr/>
          </p:nvGraphicFramePr>
          <p:xfrm>
            <a:off x="3227400" y="3432240"/>
            <a:ext cx="811080" cy="45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6" name="Object 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27400" y="3432240"/>
                      <a:ext cx="81108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7" name="Text Box 24"/>
            <p:cNvSpPr/>
            <p:nvPr/>
          </p:nvSpPr>
          <p:spPr>
            <a:xfrm>
              <a:off x="3555360" y="4924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8" name="Text Box 25"/>
            <p:cNvSpPr/>
            <p:nvPr/>
          </p:nvSpPr>
          <p:spPr>
            <a:xfrm>
              <a:off x="5105520" y="487692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389" name="Object 26"/>
          <p:cNvGraphicFramePr/>
          <p:nvPr/>
        </p:nvGraphicFramePr>
        <p:xfrm>
          <a:off x="452520" y="5562720"/>
          <a:ext cx="28242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0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520" y="5562720"/>
                    <a:ext cx="28242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F340-7AAF-42F9-922F-7A38A2DDE0E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B574-8385-45F9-98AB-FA00C057386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94" name="Object 2"/>
          <p:cNvGraphicFramePr/>
          <p:nvPr/>
        </p:nvGraphicFramePr>
        <p:xfrm>
          <a:off x="2209680" y="3943440"/>
          <a:ext cx="556272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943440"/>
                    <a:ext cx="556272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: Convolu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tput = Convolution of x[n] &amp;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ATION:  y[n] = x[n]*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re is the FIR cas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4495680" y="3235320"/>
            <a:ext cx="3892680" cy="2974320"/>
            <a:chOff x="4495680" y="3235320"/>
            <a:chExt cx="3892680" cy="2974320"/>
          </a:xfrm>
        </p:grpSpPr>
        <p:sp>
          <p:nvSpPr>
            <p:cNvPr id="399" name="Text Box 6"/>
            <p:cNvSpPr/>
            <p:nvPr/>
          </p:nvSpPr>
          <p:spPr>
            <a:xfrm>
              <a:off x="6157800" y="3235320"/>
              <a:ext cx="223056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INITE LIMIT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 flipH="1">
              <a:off x="4495680" y="3505320"/>
              <a:ext cx="1524240" cy="6858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5852880" y="5749920"/>
              <a:ext cx="223056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INITE LIMIT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 flipH="1" flipV="1">
              <a:off x="4647960" y="5486400"/>
              <a:ext cx="1066680" cy="53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403" name="Group 10"/>
          <p:cNvGrpSpPr/>
          <p:nvPr/>
        </p:nvGrpSpPr>
        <p:grpSpPr>
          <a:xfrm>
            <a:off x="865440" y="5046840"/>
            <a:ext cx="4162320" cy="1281240"/>
            <a:chOff x="865440" y="5046840"/>
            <a:chExt cx="4162320" cy="1281240"/>
          </a:xfrm>
        </p:grpSpPr>
        <p:sp>
          <p:nvSpPr>
            <p:cNvPr id="404" name="Text Box 11"/>
            <p:cNvSpPr/>
            <p:nvPr/>
          </p:nvSpPr>
          <p:spPr>
            <a:xfrm>
              <a:off x="865440" y="5748480"/>
              <a:ext cx="2073960" cy="5796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Same as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 b</a:t>
              </a:r>
              <a:r>
                <a:rPr b="1" lang="en-US" sz="2800" spc="-1" strike="noStrike" baseline="-25000">
                  <a:solidFill>
                    <a:srgbClr val="333399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5046840"/>
              <a:ext cx="2019600" cy="1179360"/>
            </a:xfrm>
            <a:custGeom>
              <a:avLst/>
              <a:gdLst/>
              <a:ahLst/>
              <a:rect l="l" t="t" r="r" b="b"/>
              <a:pathLst>
                <a:path w="1272" h="743">
                  <a:moveTo>
                    <a:pt x="0" y="672"/>
                  </a:moveTo>
                  <a:cubicBezTo>
                    <a:pt x="144" y="707"/>
                    <a:pt x="288" y="743"/>
                    <a:pt x="480" y="720"/>
                  </a:cubicBezTo>
                  <a:cubicBezTo>
                    <a:pt x="671" y="696"/>
                    <a:pt x="1032" y="648"/>
                    <a:pt x="1152" y="528"/>
                  </a:cubicBezTo>
                  <a:cubicBezTo>
                    <a:pt x="1272" y="408"/>
                    <a:pt x="1236" y="204"/>
                    <a:pt x="1200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6F78-5B94-42BB-A350-8334D33684C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6C43-781B-4046-9662-4A61205FFB6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8, Sects. 8-1, 8-2 &amp; 8-3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8, Sects 8-1 thru 8-4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LES &amp; ZERO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8, Sects. 8-4 8-5 &amp; 8-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E9B5-8B26-4E91-A4B7-EF4B4F6D493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A7E3-DF09-4D40-B159-889935AD587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409" name="Object 2"/>
          <p:cNvGraphicFramePr/>
          <p:nvPr/>
        </p:nvGraphicFramePr>
        <p:xfrm>
          <a:off x="152280" y="1741320"/>
          <a:ext cx="358164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41320"/>
                    <a:ext cx="358164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3"/>
          <p:cNvGraphicFramePr/>
          <p:nvPr/>
        </p:nvGraphicFramePr>
        <p:xfrm>
          <a:off x="3701880" y="1754280"/>
          <a:ext cx="4756320" cy="12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1880" y="1754280"/>
                    <a:ext cx="475632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4"/>
          <p:cNvGraphicFramePr/>
          <p:nvPr/>
        </p:nvGraphicFramePr>
        <p:xfrm>
          <a:off x="874800" y="4419720"/>
          <a:ext cx="6411960" cy="68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4800" y="4419720"/>
                    <a:ext cx="64119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-pt RUNNING AVG 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779760" y="5257800"/>
            <a:ext cx="209196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EROS 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IT CIRC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17" name="Group 7"/>
          <p:cNvGrpSpPr/>
          <p:nvPr/>
        </p:nvGrpSpPr>
        <p:grpSpPr>
          <a:xfrm>
            <a:off x="2590560" y="2514600"/>
            <a:ext cx="6451920" cy="4010760"/>
            <a:chOff x="2590560" y="2514600"/>
            <a:chExt cx="6451920" cy="4010760"/>
          </a:xfrm>
        </p:grpSpPr>
        <p:sp>
          <p:nvSpPr>
            <p:cNvPr id="418" name="Line 8"/>
            <p:cNvSpPr/>
            <p:nvPr/>
          </p:nvSpPr>
          <p:spPr>
            <a:xfrm flipH="1" flipV="1">
              <a:off x="2590560" y="5029200"/>
              <a:ext cx="3809880" cy="9144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9" name="Freeform 9"/>
            <p:cNvSpPr/>
            <p:nvPr/>
          </p:nvSpPr>
          <p:spPr>
            <a:xfrm>
              <a:off x="8305920" y="2514600"/>
              <a:ext cx="736560" cy="2971800"/>
            </a:xfrm>
            <a:custGeom>
              <a:avLst/>
              <a:gdLst/>
              <a:ahLst/>
              <a:rect l="l" t="t" r="r" b="b"/>
              <a:pathLst>
                <a:path w="464" h="2232">
                  <a:moveTo>
                    <a:pt x="192" y="2232"/>
                  </a:moveTo>
                  <a:cubicBezTo>
                    <a:pt x="328" y="1476"/>
                    <a:pt x="464" y="720"/>
                    <a:pt x="432" y="360"/>
                  </a:cubicBezTo>
                  <a:cubicBezTo>
                    <a:pt x="400" y="0"/>
                    <a:pt x="200" y="36"/>
                    <a:pt x="0" y="72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0" name="Text Box 10"/>
            <p:cNvSpPr/>
            <p:nvPr/>
          </p:nvSpPr>
          <p:spPr>
            <a:xfrm>
              <a:off x="6323760" y="5334120"/>
              <a:ext cx="2494080" cy="119124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(z-1) in 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denominato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ancels k=0 term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421" name="Object 11"/>
          <p:cNvGraphicFramePr/>
          <p:nvPr/>
        </p:nvGraphicFramePr>
        <p:xfrm>
          <a:off x="1133640" y="3355920"/>
          <a:ext cx="6029280" cy="68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33640" y="3355920"/>
                    <a:ext cx="60292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80B2-40AF-4A8E-AA3F-119A688B638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A4C2-DC99-4622-8D28-3DA6ADCD1CE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26" name="Picture 2" descr="_x000c_PZ-10-20.gif                                                   0000DCF0_x0005_JIM-2                          B29E03F8:"/>
          <p:cNvPicPr/>
          <p:nvPr/>
        </p:nvPicPr>
        <p:blipFill>
          <a:blip r:embed="rId1"/>
          <a:stretch/>
        </p:blipFill>
        <p:spPr>
          <a:xfrm>
            <a:off x="152280" y="1523880"/>
            <a:ext cx="2971800" cy="48769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84326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 DESIGN: CHANGE 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428" name="Picture 4" descr="_x000c_Hw-10-20.gif                                                   000073A8_x0003_JJ2                            B37C3755:"/>
          <p:cNvPicPr/>
          <p:nvPr/>
        </p:nvPicPr>
        <p:blipFill>
          <a:blip r:embed="rId2"/>
          <a:stretch/>
        </p:blipFill>
        <p:spPr>
          <a:xfrm>
            <a:off x="3352680" y="1523880"/>
            <a:ext cx="5715000" cy="485928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5"/>
          <p:cNvSpPr/>
          <p:nvPr/>
        </p:nvSpPr>
        <p:spPr>
          <a:xfrm>
            <a:off x="3997080" y="3962520"/>
            <a:ext cx="1722960" cy="119124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ssban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rrow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L big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098F-C60B-4C76-BA44-C9DB8B9DDBE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F851-BE8C-4AC0-9999-884C26C7174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(z) = z-Transform{ h[n] }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ST-ORDER CAS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35" name="Picture 4" descr="&#13;Hz-for-an.gif                                                  0000975C_x0005_JKL-2                          B0CAADC9:"/>
          <p:cNvPicPr/>
          <p:nvPr/>
        </p:nvPicPr>
        <p:blipFill>
          <a:blip r:embed="rId1"/>
          <a:stretch/>
        </p:blipFill>
        <p:spPr>
          <a:xfrm>
            <a:off x="304920" y="3009960"/>
            <a:ext cx="8420040" cy="33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Object 5"/>
          <p:cNvGraphicFramePr/>
          <p:nvPr/>
        </p:nvGraphicFramePr>
        <p:xfrm>
          <a:off x="5646600" y="2325600"/>
          <a:ext cx="3243240" cy="79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46600" y="2325600"/>
                    <a:ext cx="3243240" cy="7984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8" name="Object 6"/>
          <p:cNvGraphicFramePr/>
          <p:nvPr/>
        </p:nvGraphicFramePr>
        <p:xfrm>
          <a:off x="5659560" y="1701720"/>
          <a:ext cx="247320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9560" y="1701720"/>
                    <a:ext cx="2473200" cy="6001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B11A-4B1B-4CB9-B8F2-8A6503FEE3D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54C0-19FE-4AC9-812A-7685AA9D996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ow how to compute the output y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RST-ORDER CASE (N=1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-transform: Impulse Response h[n]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H(z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1447920" y="3200400"/>
            <a:ext cx="6357960" cy="1386000"/>
            <a:chOff x="1447920" y="3200400"/>
            <a:chExt cx="6357960" cy="1386000"/>
          </a:xfrm>
        </p:grpSpPr>
        <p:graphicFrame>
          <p:nvGraphicFramePr>
            <p:cNvPr id="105" name="Object 4"/>
            <p:cNvGraphicFramePr/>
            <p:nvPr/>
          </p:nvGraphicFramePr>
          <p:xfrm>
            <a:off x="1447920" y="3352680"/>
            <a:ext cx="6357960" cy="123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3352680"/>
                      <a:ext cx="6357960" cy="1233720"/>
                    </a:xfrm>
                    <a:prstGeom prst="rect">
                      <a:avLst/>
                    </a:prstGeom>
                    <a:ln w="324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7" name="Line 5"/>
            <p:cNvSpPr/>
            <p:nvPr/>
          </p:nvSpPr>
          <p:spPr>
            <a:xfrm>
              <a:off x="3429000" y="3200400"/>
              <a:ext cx="304920" cy="6094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08" name="Rectangle 6"/>
          <p:cNvSpPr/>
          <p:nvPr/>
        </p:nvSpPr>
        <p:spPr>
          <a:xfrm>
            <a:off x="380880" y="16765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FINITE IMPULSE RESPONSE FILTER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efin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  <a:ea typeface="ＭＳ Ｐゴシック"/>
              </a:rPr>
              <a:t>IIR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IGITAL Filters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Hav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  <a:ea typeface="ＭＳ Ｐゴシック"/>
              </a:rPr>
              <a:t>FEEDBACK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 use PREVIOUS OUTPUT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C213-0B7A-4549-9940-6E372E635A6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E466-52E5-49E9-9CA8-0820CE587A7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2514600" y="1676520"/>
            <a:ext cx="5587920" cy="3124080"/>
            <a:chOff x="2514600" y="1676520"/>
            <a:chExt cx="5587920" cy="3124080"/>
          </a:xfrm>
        </p:grpSpPr>
        <p:sp>
          <p:nvSpPr>
            <p:cNvPr id="114" name="Text Box 4"/>
            <p:cNvSpPr/>
            <p:nvPr/>
          </p:nvSpPr>
          <p:spPr>
            <a:xfrm>
              <a:off x="2639880" y="1676520"/>
              <a:ext cx="3718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5" name="Text Box 5"/>
            <p:cNvSpPr/>
            <p:nvPr/>
          </p:nvSpPr>
          <p:spPr>
            <a:xfrm>
              <a:off x="4991040" y="2133720"/>
              <a:ext cx="31114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17" name="Group 7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118" name="Line 8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5184720" y="4419720"/>
            <a:ext cx="3727440" cy="1865160"/>
            <a:chOff x="5184720" y="4419720"/>
            <a:chExt cx="3727440" cy="1865160"/>
          </a:xfrm>
        </p:grpSpPr>
        <p:sp>
          <p:nvSpPr>
            <p:cNvPr id="121" name="Text Box 11"/>
            <p:cNvSpPr/>
            <p:nvPr/>
          </p:nvSpPr>
          <p:spPr>
            <a:xfrm>
              <a:off x="6478560" y="4419720"/>
              <a:ext cx="234792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FREQ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Object 12"/>
                <p:cNvSpPr txBox="1"/>
                <p:nvPr/>
              </p:nvSpPr>
              <p:spPr>
                <a:xfrm>
                  <a:off x="5184720" y="4970520"/>
                  <a:ext cx="37274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3" name="Group 13"/>
          <p:cNvGrpSpPr/>
          <p:nvPr/>
        </p:nvGrpSpPr>
        <p:grpSpPr>
          <a:xfrm>
            <a:off x="152280" y="4479840"/>
            <a:ext cx="3581640" cy="1844640"/>
            <a:chOff x="152280" y="4479840"/>
            <a:chExt cx="3581640" cy="1844640"/>
          </a:xfrm>
        </p:grpSpPr>
        <p:sp>
          <p:nvSpPr>
            <p:cNvPr id="124" name="Text Box 14"/>
            <p:cNvSpPr/>
            <p:nvPr/>
          </p:nvSpPr>
          <p:spPr>
            <a:xfrm>
              <a:off x="229320" y="4479840"/>
              <a:ext cx="22305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TIME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15"/>
                <p:cNvSpPr txBox="1"/>
                <p:nvPr/>
              </p:nvSpPr>
              <p:spPr>
                <a:xfrm>
                  <a:off x="152280" y="5010120"/>
                  <a:ext cx="35816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16"/>
          <p:cNvGrpSpPr/>
          <p:nvPr/>
        </p:nvGrpSpPr>
        <p:grpSpPr>
          <a:xfrm>
            <a:off x="2514600" y="3429000"/>
            <a:ext cx="3962520" cy="1371600"/>
            <a:chOff x="2514600" y="3429000"/>
            <a:chExt cx="3962520" cy="1371600"/>
          </a:xfrm>
        </p:grpSpPr>
        <p:sp>
          <p:nvSpPr>
            <p:cNvPr id="127" name="Line 17"/>
            <p:cNvSpPr/>
            <p:nvPr/>
          </p:nvSpPr>
          <p:spPr>
            <a:xfrm>
              <a:off x="2514600" y="4800600"/>
              <a:ext cx="39625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Object 18"/>
                <p:cNvSpPr txBox="1"/>
                <p:nvPr/>
              </p:nvSpPr>
              <p:spPr>
                <a:xfrm>
                  <a:off x="3581280" y="3429000"/>
                  <a:ext cx="167652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D690-51EF-481B-A40E-28745FAC320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00EB-1112-4BBB-BE5B-F0D64361B74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Quick Review: Delay by n</a:t>
            </a:r>
            <a:r>
              <a:rPr b="0" lang="en-US" sz="4000" spc="-1" strike="noStrike" baseline="-25000">
                <a:solidFill>
                  <a:srgbClr val="0000cc"/>
                </a:solidFill>
                <a:latin typeface="Arial Black"/>
              </a:rPr>
              <a:t>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46600" y="2895480"/>
            <a:ext cx="329256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PULS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50440" y="3962520"/>
            <a:ext cx="30898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STEM FUNC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3733920" y="3886200"/>
                <a:ext cx="2519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1905120" y="1600200"/>
                <a:ext cx="358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Text Box 11"/>
          <p:cNvSpPr/>
          <p:nvPr/>
        </p:nvSpPr>
        <p:spPr>
          <a:xfrm>
            <a:off x="792720" y="5118120"/>
            <a:ext cx="38656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3"/>
              <p:cNvSpPr txBox="1"/>
              <p:nvPr/>
            </p:nvSpPr>
            <p:spPr>
              <a:xfrm>
                <a:off x="3733920" y="2819520"/>
                <a:ext cx="358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4"/>
              <p:cNvSpPr txBox="1"/>
              <p:nvPr/>
            </p:nvSpPr>
            <p:spPr>
              <a:xfrm>
                <a:off x="4724280" y="5105520"/>
                <a:ext cx="34005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E9E1-406C-4450-9745-0F5DD77FF4F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E9D9-2C2B-4D88-8B6A-8F066269EC9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43" name="Object 2"/>
          <p:cNvGraphicFramePr/>
          <p:nvPr/>
        </p:nvGraphicFramePr>
        <p:xfrm>
          <a:off x="2017800" y="1600200"/>
          <a:ext cx="37828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7800" y="1600200"/>
                    <a:ext cx="37828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Quick Review: L-pt Averag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399240" y="3048120"/>
            <a:ext cx="7144560" cy="1458720"/>
            <a:chOff x="399240" y="3048120"/>
            <a:chExt cx="7144560" cy="1458720"/>
          </a:xfrm>
        </p:grpSpPr>
        <p:sp>
          <p:nvSpPr>
            <p:cNvPr id="147" name="Text Box 6"/>
            <p:cNvSpPr/>
            <p:nvPr/>
          </p:nvSpPr>
          <p:spPr>
            <a:xfrm>
              <a:off x="399240" y="3048120"/>
              <a:ext cx="329256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IMPULSE RESPONS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48" name="Object 13"/>
            <p:cNvGraphicFramePr/>
            <p:nvPr/>
          </p:nvGraphicFramePr>
          <p:xfrm>
            <a:off x="3759120" y="3200400"/>
            <a:ext cx="3784680" cy="1306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59120" y="3200400"/>
                      <a:ext cx="3784680" cy="13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0" name="Group 22"/>
          <p:cNvGrpSpPr/>
          <p:nvPr/>
        </p:nvGrpSpPr>
        <p:grpSpPr>
          <a:xfrm>
            <a:off x="256680" y="4743360"/>
            <a:ext cx="6449040" cy="1428840"/>
            <a:chOff x="256680" y="4743360"/>
            <a:chExt cx="6449040" cy="1428840"/>
          </a:xfrm>
        </p:grpSpPr>
        <p:sp>
          <p:nvSpPr>
            <p:cNvPr id="151" name="Text Box 12"/>
            <p:cNvSpPr/>
            <p:nvPr/>
          </p:nvSpPr>
          <p:spPr>
            <a:xfrm>
              <a:off x="256680" y="4832280"/>
              <a:ext cx="308988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SYSTEM FUNCTIO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19"/>
                <p:cNvSpPr txBox="1"/>
                <p:nvPr/>
              </p:nvSpPr>
              <p:spPr>
                <a:xfrm>
                  <a:off x="3429000" y="4743360"/>
                  <a:ext cx="3276720" cy="14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L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L</m:t>
                              </m:r>
                            </m:den>
                          </m:f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82FA-51C4-4FC0-A963-05CACD07E51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A5CC-9507-4C47-8C4F-20C5B6BE97B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OGICAL THREA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IMPULSE RESPONSE,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FINITELY LO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II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Filt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EXPLOIT THREE DOMAIN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ow Relationship for IIR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2057400" y="5029200"/>
                <a:ext cx="66294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«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«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9" name="Group 11"/>
          <p:cNvGrpSpPr/>
          <p:nvPr/>
        </p:nvGrpSpPr>
        <p:grpSpPr>
          <a:xfrm>
            <a:off x="2743200" y="5410080"/>
            <a:ext cx="5486400" cy="1067040"/>
            <a:chOff x="2743200" y="5410080"/>
            <a:chExt cx="5486400" cy="1067040"/>
          </a:xfrm>
        </p:grpSpPr>
        <p:sp>
          <p:nvSpPr>
            <p:cNvPr id="160" name="AutoShape 7"/>
            <p:cNvSpPr/>
            <p:nvPr/>
          </p:nvSpPr>
          <p:spPr>
            <a:xfrm>
              <a:off x="2743200" y="5791320"/>
              <a:ext cx="228600" cy="533160"/>
            </a:xfrm>
            <a:prstGeom prst="upArrow">
              <a:avLst>
                <a:gd name="adj1" fmla="val 50000"/>
                <a:gd name="adj2" fmla="val 58307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1" name="AutoShape 8"/>
            <p:cNvSpPr/>
            <p:nvPr/>
          </p:nvSpPr>
          <p:spPr>
            <a:xfrm>
              <a:off x="8001000" y="5410080"/>
              <a:ext cx="228600" cy="990720"/>
            </a:xfrm>
            <a:prstGeom prst="upArrow">
              <a:avLst>
                <a:gd name="adj1" fmla="val 50000"/>
                <a:gd name="adj2" fmla="val 108346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>
              <a:off x="5105520" y="5867280"/>
              <a:ext cx="228600" cy="609840"/>
            </a:xfrm>
            <a:prstGeom prst="upArrow">
              <a:avLst>
                <a:gd name="adj1" fmla="val 50000"/>
                <a:gd name="adj2" fmla="val 66693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163" name="Object 10"/>
          <p:cNvGraphicFramePr/>
          <p:nvPr/>
        </p:nvGraphicFramePr>
        <p:xfrm>
          <a:off x="4648320" y="2514600"/>
          <a:ext cx="3504960" cy="12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14600"/>
                    <a:ext cx="3504960" cy="1276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DC4A-7BCA-4C35-B5DB-B8CC1453CD9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E3EF-1465-4C5D-BD18-4761724C5D2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ONE FEEDBACK TER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4876560"/>
            <a:ext cx="8178840" cy="12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USAL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USING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UTUR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OUTPUTS or INPU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1206360" y="2666880"/>
                <a:ext cx="68580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" name="Group 13"/>
          <p:cNvGrpSpPr/>
          <p:nvPr/>
        </p:nvGrpSpPr>
        <p:grpSpPr>
          <a:xfrm>
            <a:off x="5056920" y="3327480"/>
            <a:ext cx="3485160" cy="811440"/>
            <a:chOff x="5056920" y="3327480"/>
            <a:chExt cx="3485160" cy="811440"/>
          </a:xfrm>
        </p:grpSpPr>
        <p:sp>
          <p:nvSpPr>
            <p:cNvPr id="172" name="Text Box 8"/>
            <p:cNvSpPr/>
            <p:nvPr/>
          </p:nvSpPr>
          <p:spPr>
            <a:xfrm>
              <a:off x="5056920" y="3327480"/>
              <a:ext cx="307800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FIR PART of the FILTER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Text Box 9"/>
            <p:cNvSpPr/>
            <p:nvPr/>
          </p:nvSpPr>
          <p:spPr>
            <a:xfrm>
              <a:off x="6265800" y="3740040"/>
              <a:ext cx="22762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FEED-FORWARD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1962360" y="3124080"/>
            <a:ext cx="2000880" cy="1319760"/>
            <a:chOff x="1962360" y="3124080"/>
            <a:chExt cx="2000880" cy="1319760"/>
          </a:xfrm>
        </p:grpSpPr>
        <p:sp>
          <p:nvSpPr>
            <p:cNvPr id="175" name="Line 6"/>
            <p:cNvSpPr/>
            <p:nvPr/>
          </p:nvSpPr>
          <p:spPr>
            <a:xfrm flipV="1">
              <a:off x="3429000" y="3124080"/>
              <a:ext cx="457200" cy="6098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2468880" y="3632040"/>
              <a:ext cx="149436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PREVIOUS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1962360" y="4044960"/>
              <a:ext cx="159660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FEEDBACK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78" name="Rectangle 11"/>
          <p:cNvSpPr/>
          <p:nvPr/>
        </p:nvSpPr>
        <p:spPr>
          <a:xfrm>
            <a:off x="457200" y="1828800"/>
            <a:ext cx="8178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REVIOU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UTPUT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Fatih  Alagoz</cp:lastModifiedBy>
  <cp:lastPrinted>1999-10-15T00:17:22Z</cp:lastPrinted>
  <dcterms:modified xsi:type="dcterms:W3CDTF">2013-05-09T11:59:57Z</dcterms:modified>
  <cp:revision>328</cp:revision>
  <dc:subject/>
  <dc:title>SPFirst Lecture #1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