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6.wmf" ContentType="image/x-wmf"/>
  <Override PartName="/ppt/media/image45.png" ContentType="image/png"/>
  <Override PartName="/ppt/media/image10.wmf" ContentType="image/x-wmf"/>
  <Override PartName="/ppt/media/image47.wmf" ContentType="image/x-wmf"/>
  <Override PartName="/ppt/media/image34.wmf" ContentType="image/x-wmf"/>
  <Override PartName="/ppt/media/image33.wmf" ContentType="image/x-wmf"/>
  <Override PartName="/ppt/media/image1.png" ContentType="image/png"/>
  <Override PartName="/ppt/media/image29.wmf" ContentType="image/x-wmf"/>
  <Override PartName="/ppt/media/image20.wmf" ContentType="image/x-wmf"/>
  <Override PartName="/ppt/media/image57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67.wmf" ContentType="image/x-wmf"/>
  <Override PartName="/ppt/media/image30.wmf" ContentType="image/x-wmf"/>
  <Override PartName="/ppt/media/image4.wmf" ContentType="image/x-wmf"/>
  <Override PartName="/ppt/media/image16.wmf" ContentType="image/x-wmf"/>
  <Override PartName="/ppt/media/image66.wmf" ContentType="image/x-wmf"/>
  <Override PartName="/ppt/media/image17.wmf" ContentType="image/x-wmf"/>
  <Override PartName="/ppt/media/image5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62.wmf" ContentType="image/x-wmf"/>
  <Override PartName="/ppt/media/image68.png" ContentType="image/png"/>
  <Override PartName="/ppt/media/image25.wmf" ContentType="image/x-wmf"/>
  <Override PartName="/ppt/media/image59.wmf" ContentType="image/x-wmf"/>
  <Override PartName="/ppt/media/image22.wmf" ContentType="image/x-wmf"/>
  <Override PartName="/ppt/media/image24.wmf" ContentType="image/x-wmf"/>
  <Override PartName="/ppt/media/image60.wmf" ContentType="image/x-wmf"/>
  <Override PartName="/ppt/media/image23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wmf" ContentType="image/x-wmf"/>
  <Override PartName="/ppt/media/image58.png" ContentType="image/png"/>
  <Override PartName="/ppt/media/image15.wmf" ContentType="image/x-wmf"/>
  <Override PartName="/ppt/media/image40.wmf" ContentType="image/x-wmf"/>
  <Override PartName="/ppt/media/image11.wmf" ContentType="image/x-wmf"/>
  <Override PartName="/ppt/media/image8.wmf" ContentType="image/x-wmf"/>
  <Override PartName="/ppt/media/image38.wmf" ContentType="image/x-wmf"/>
  <Override PartName="/ppt/media/image31.wmf" ContentType="image/x-wmf"/>
  <Override PartName="/ppt/media/image13.wmf" ContentType="image/x-wmf"/>
  <Override PartName="/ppt/media/image2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39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media/image32.wmf" ContentType="image/x-wmf"/>
  <Override PartName="/ppt/media/image35.png" ContentType="image/png"/>
  <Override PartName="/ppt/media/image37.wmf" ContentType="image/x-wmf"/>
  <Override PartName="/ppt/media/image7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4CE-6173-41AF-80C5-2EF77D13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758-1028-401F-967F-6536ED52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964-4D26-4A83-8167-0C691586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513-5756-40EB-81D4-586E6740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CC2D-1112-4505-AFCC-782865DF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D40F-A924-429D-9976-58431551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36A8-9BA0-48E4-A8B6-329B5D41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BAD0-C45C-465C-9B3E-95799D29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3B40-9AC3-4FC2-87FC-AC978850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6AAF-7414-48F3-8C4B-5FF55C4E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547C-E659-4047-9E0D-65890746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A67-33BA-4E91-BADC-2921DFC4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24C0-47EE-43C3-BBDD-22888E98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C4DE-28C9-409E-BF96-749881F9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1172-964E-4815-93A9-5987E5F2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FB26-82A6-4AA5-8B96-9908CE66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6AFA-6381-494D-BE0F-214C8ADD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DB0-0052-4FC0-9515-83831BFA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9F0-131C-4E37-84C1-878BB028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1499-5C90-4F80-9E99-EE8F6E28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C60-B2C2-4188-BDFE-1367C2BB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B4A-40F5-476D-A519-5B98F517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F07-42D4-419E-BCA2-74E06633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C115-185D-4EC6-B1E2-DEA35B1A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90A7-FC12-4D6E-B5F9-B7BA2870450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7F4A-76CF-4A2E-B3E5-08D48973D05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B7C5-84B1-4C22-AE88-832DC856F76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616E-43E3-4F05-93A2-5FB1B3CB7D8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4.wmf"/><Relationship Id="rId2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7.wmf"/><Relationship Id="rId2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0.wmf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image" Target="../media/image4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828440" y="3200040"/>
            <a:ext cx="65530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equency Response of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ous-Time System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1331-52E6-4A71-A0CA-714A6C1330D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B42F3F8-E2F9-4894-A408-F89CCF0495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ppose that h(t) i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305560" cy="16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495680" y="2155680"/>
          <a:ext cx="2590920" cy="6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155680"/>
                    <a:ext cx="259092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79440" y="3726000"/>
          <a:ext cx="7026480" cy="122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9440" y="3726000"/>
                    <a:ext cx="702648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914400" y="4952880"/>
          <a:ext cx="7794720" cy="1316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4400" y="4952880"/>
                    <a:ext cx="779472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066680" y="258840"/>
          <a:ext cx="6858000" cy="1265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6680" y="258840"/>
                    <a:ext cx="6858000" cy="12650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09480" y="2362320"/>
          <a:ext cx="1051200" cy="506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480" y="2362320"/>
                    <a:ext cx="1051200" cy="506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28600" y="4724280"/>
          <a:ext cx="1017720" cy="454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4724280"/>
                    <a:ext cx="1017720" cy="454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531-8EF7-499C-AE82-6BF5075686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D12E9-49A8-4344-B31D-1B5DE24E79C6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gnitude and Phase Plo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22440" y="1925640"/>
            <a:ext cx="7988040" cy="4475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graphicFrame>
        <p:nvGraphicFramePr>
          <p:cNvPr id="137" name=""/>
          <p:cNvGraphicFramePr/>
          <p:nvPr/>
        </p:nvGraphicFramePr>
        <p:xfrm>
          <a:off x="5867280" y="2057400"/>
          <a:ext cx="2629080" cy="9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2057400"/>
                    <a:ext cx="2629080" cy="965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638680" y="4495680"/>
          <a:ext cx="2921040" cy="34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4495680"/>
                    <a:ext cx="2921040" cy="3430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28600" y="1676520"/>
          <a:ext cx="3235320" cy="1201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1676520"/>
                    <a:ext cx="3235320" cy="1201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52280" y="5956200"/>
          <a:ext cx="3870360" cy="67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5956200"/>
                    <a:ext cx="3870360" cy="673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E3B-B59D-4B01-9254-9C1BF40CD79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8C2C2-4D5F-4D80-A71A-2BE950A7AA92}" type="datetime1">
              <a:rPr lang="en-US"/>
              <a:t>07/29/26</a:t>
            </a:fld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380880"/>
            <a:ext cx="8508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 Response of Integrator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18920"/>
            <a:ext cx="817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ulse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(t) = u(t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T a Stable Syste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quency respons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H(j</a:t>
            </a:r>
            <a:r>
              <a:rPr b="0" i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es NOT exis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3809880"/>
          <a:ext cx="746136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7461360" cy="1111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454800" y="4952880"/>
            <a:ext cx="25369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eed another ter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09480" y="5353200"/>
            <a:ext cx="7377120" cy="1123920"/>
            <a:chOff x="609480" y="5353200"/>
            <a:chExt cx="7377120" cy="1123920"/>
          </a:xfrm>
        </p:grpSpPr>
        <p:graphicFrame>
          <p:nvGraphicFramePr>
            <p:cNvPr id="151" name=""/>
            <p:cNvGraphicFramePr/>
            <p:nvPr/>
          </p:nvGraphicFramePr>
          <p:xfrm>
            <a:off x="6781680" y="5715000"/>
            <a:ext cx="1204920" cy="45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81680" y="5715000"/>
                      <a:ext cx="1204920" cy="45396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609480" y="5353200"/>
              <a:ext cx="601992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Leaky” Integrator  (a is small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Cannot build a perfect Integra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C9F-2702-4ECF-B6FA-B75727BF97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760C6-1F12-4A17-A110-7B88E44461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88960" y="4900680"/>
                <a:ext cx="703116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↦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Delay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48320" y="533520"/>
          <a:ext cx="365760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33520"/>
                    <a:ext cx="3657600" cy="660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981080" y="3429000"/>
          <a:ext cx="4749840" cy="9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4749840" cy="985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09480" y="1600200"/>
          <a:ext cx="7772400" cy="16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1600200"/>
                    <a:ext cx="77724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6662880" y="4724280"/>
            <a:ext cx="2252160" cy="1219320"/>
            <a:chOff x="6662880" y="4724280"/>
            <a:chExt cx="2252160" cy="1219320"/>
          </a:xfrm>
        </p:grpSpPr>
        <p:graphicFrame>
          <p:nvGraphicFramePr>
            <p:cNvPr id="164" name=""/>
            <p:cNvGraphicFramePr/>
            <p:nvPr/>
          </p:nvGraphicFramePr>
          <p:xfrm>
            <a:off x="6891120" y="4724280"/>
            <a:ext cx="2023920" cy="70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91120" y="4724280"/>
                      <a:ext cx="2023920" cy="70020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 flipH="1">
              <a:off x="6662880" y="5410080"/>
              <a:ext cx="228240" cy="5335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2A9-A6DD-4AC4-9BA3-ACA7CFD738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24718-EAC6-4665-8B12-450A326114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080" y="304560"/>
            <a:ext cx="8356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 w/ Dela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7760" y="1658880"/>
          <a:ext cx="502776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1658880"/>
                    <a:ext cx="5027760" cy="13129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900360" y="3200400"/>
            <a:ext cx="7576920" cy="3047760"/>
            <a:chOff x="900360" y="3200400"/>
            <a:chExt cx="7576920" cy="3047760"/>
          </a:xfrm>
        </p:grpSpPr>
        <p:sp>
          <p:nvSpPr>
            <p:cNvPr id="171" name=""/>
            <p:cNvSpPr/>
            <p:nvPr/>
          </p:nvSpPr>
          <p:spPr>
            <a:xfrm>
              <a:off x="4419720" y="4038480"/>
              <a:ext cx="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073480" y="3276360"/>
              <a:ext cx="3308400" cy="990720"/>
              <a:chOff x="5073480" y="3276360"/>
              <a:chExt cx="3308400" cy="990720"/>
            </a:xfrm>
          </p:grpSpPr>
          <p:graphicFrame>
            <p:nvGraphicFramePr>
              <p:cNvPr id="173" name=""/>
              <p:cNvGraphicFramePr/>
              <p:nvPr/>
            </p:nvGraphicFramePr>
            <p:xfrm>
              <a:off x="5638680" y="3276360"/>
              <a:ext cx="2743200" cy="381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7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276360"/>
                        <a:ext cx="2743200" cy="381240"/>
                      </a:xfrm>
                      <a:prstGeom prst="rect">
                        <a:avLst/>
                      </a:prstGeom>
                      <a:ln w="9360">
                        <a:solidFill>
                          <a:srgbClr val="ff66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75" name=""/>
              <p:cNvSpPr/>
              <p:nvPr/>
            </p:nvSpPr>
            <p:spPr>
              <a:xfrm flipH="1">
                <a:off x="5073480" y="3657600"/>
                <a:ext cx="533520" cy="6094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568520" y="3504960"/>
              <a:ext cx="6476760" cy="838440"/>
            </a:xfrm>
            <a:custGeom>
              <a:avLst/>
              <a:gdLst/>
              <a:ahLst/>
              <a:rect l="l" t="t" r="r" b="b"/>
              <a:pathLst>
                <a:path w="4080" h="528">
                  <a:moveTo>
                    <a:pt x="0" y="528"/>
                  </a:moveTo>
                  <a:lnTo>
                    <a:pt x="1152" y="528"/>
                  </a:lnTo>
                  <a:lnTo>
                    <a:pt x="1152" y="0"/>
                  </a:lnTo>
                  <a:lnTo>
                    <a:pt x="2160" y="0"/>
                  </a:lnTo>
                  <a:lnTo>
                    <a:pt x="2160" y="528"/>
                  </a:lnTo>
                  <a:lnTo>
                    <a:pt x="4080" y="528"/>
                  </a:lnTo>
                </a:path>
              </a:pathLst>
            </a:custGeom>
            <a:noFill/>
            <a:ln w="76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09800" y="373356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Magnitud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00360" y="4876560"/>
              <a:ext cx="168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Linear Phas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191120" y="3200400"/>
              <a:ext cx="0" cy="3047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6680" y="4343400"/>
              <a:ext cx="7315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47920" y="4647960"/>
              <a:ext cx="6400800" cy="1524240"/>
            </a:xfrm>
            <a:custGeom>
              <a:avLst/>
              <a:gdLst/>
              <a:ahLst/>
              <a:rect l="l" t="t" r="r" b="b"/>
              <a:pathLst>
                <a:path w="4032" h="960">
                  <a:moveTo>
                    <a:pt x="0" y="480"/>
                  </a:moveTo>
                  <a:lnTo>
                    <a:pt x="1200" y="480"/>
                  </a:lnTo>
                  <a:lnTo>
                    <a:pt x="1200" y="0"/>
                  </a:lnTo>
                  <a:lnTo>
                    <a:pt x="2256" y="960"/>
                  </a:lnTo>
                  <a:lnTo>
                    <a:pt x="2256" y="480"/>
                  </a:lnTo>
                  <a:lnTo>
                    <a:pt x="3984" y="480"/>
                  </a:lnTo>
                  <a:lnTo>
                    <a:pt x="4032" y="480"/>
                  </a:ln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83" name=""/>
            <p:cNvGraphicFramePr/>
            <p:nvPr/>
          </p:nvGraphicFramePr>
          <p:xfrm>
            <a:off x="8001000" y="4419360"/>
            <a:ext cx="399960" cy="328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001000" y="4419360"/>
                      <a:ext cx="399960" cy="328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8077320" y="5486400"/>
            <a:ext cx="399960" cy="328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5486400"/>
                      <a:ext cx="399960" cy="32832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2DD0-D548-41AF-AE54-EB1C481C0C5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4348F-2668-4EAF-A076-0129440B22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in Gives Sinusoid o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880" y="995400"/>
            <a:ext cx="8209080" cy="57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E4C-3601-46FC-96F3-A54C5974710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43A80-BCB0-4A07-B37A-84D0106D0150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: Ideal Low Pas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66760" y="1703520"/>
          <a:ext cx="5818320" cy="16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1703520"/>
                    <a:ext cx="5818320" cy="1649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52280" y="3733920"/>
                <a:ext cx="5408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↦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562720" y="3794040"/>
                <a:ext cx="32954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39680" y="4915080"/>
                <a:ext cx="87123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098-7D43-426C-B15F-B671470AC8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C5C53-252D-4BCC-831C-E9EBBE955D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sine In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04920" y="1747800"/>
          <a:ext cx="853416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47800"/>
                    <a:ext cx="853416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52280" y="3043080"/>
          <a:ext cx="868680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043080"/>
                    <a:ext cx="868680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838080" y="4417920"/>
          <a:ext cx="5334120" cy="68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17920"/>
                    <a:ext cx="533412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80880" y="5394240"/>
          <a:ext cx="8458200" cy="77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5394240"/>
                    <a:ext cx="8458200" cy="777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922-E9AF-4C3C-B0DA-70E58B4B62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95704-4BAD-4346-8E77-6B3B8443F7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view Fourier Ser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t representation from the sign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orks for PERIODIC Sign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ier Seri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GRAL over one perio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828800" y="4495680"/>
          <a:ext cx="5334120" cy="18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495680"/>
                    <a:ext cx="5334120" cy="1868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25A-3375-4156-9B3E-9A04DF35082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FEB4F-2850-4AB9-AA5F-341ECA9E42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Periodic Signal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3120" cy="205884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028880" y="1676520"/>
            <a:ext cx="7664400" cy="2133360"/>
            <a:chOff x="1028880" y="1676520"/>
            <a:chExt cx="7664400" cy="2133360"/>
          </a:xfrm>
        </p:grpSpPr>
        <p:graphicFrame>
          <p:nvGraphicFramePr>
            <p:cNvPr id="212" name=""/>
            <p:cNvGraphicFramePr/>
            <p:nvPr/>
          </p:nvGraphicFramePr>
          <p:xfrm>
            <a:off x="3429000" y="1676520"/>
            <a:ext cx="217188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29000" y="1676520"/>
                      <a:ext cx="217188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"/>
            <p:cNvGraphicFramePr/>
            <p:nvPr/>
          </p:nvGraphicFramePr>
          <p:xfrm>
            <a:off x="6019920" y="3429000"/>
            <a:ext cx="34272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19920" y="3429000"/>
                      <a:ext cx="342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"/>
            <p:cNvGraphicFramePr/>
            <p:nvPr/>
          </p:nvGraphicFramePr>
          <p:xfrm>
            <a:off x="1028880" y="3429000"/>
            <a:ext cx="72360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028880" y="3429000"/>
                      <a:ext cx="72360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"/>
            <p:cNvGraphicFramePr/>
            <p:nvPr/>
          </p:nvGraphicFramePr>
          <p:xfrm>
            <a:off x="2711520" y="3429000"/>
            <a:ext cx="5587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711520" y="3429000"/>
                      <a:ext cx="558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7524720" y="3429000"/>
            <a:ext cx="53352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524720" y="3429000"/>
                      <a:ext cx="533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4419720" y="3429000"/>
            <a:ext cx="203040" cy="279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419720" y="342900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8566200" y="3429000"/>
            <a:ext cx="127080" cy="2412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8566200" y="3429000"/>
                      <a:ext cx="127080" cy="241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6" name=""/>
          <p:cNvGraphicFramePr/>
          <p:nvPr/>
        </p:nvGraphicFramePr>
        <p:xfrm>
          <a:off x="1371600" y="3878280"/>
          <a:ext cx="3809880" cy="1303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371600" y="3878280"/>
                    <a:ext cx="3809880" cy="1303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447920" y="5299200"/>
          <a:ext cx="3809880" cy="1330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447920" y="5299200"/>
                    <a:ext cx="3809880" cy="1330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715000" y="4699080"/>
          <a:ext cx="3048120" cy="1047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715000" y="4699080"/>
                    <a:ext cx="3048120" cy="10476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34" name=""/>
          <p:cNvGrpSpPr/>
          <p:nvPr/>
        </p:nvGrpSpPr>
        <p:grpSpPr>
          <a:xfrm>
            <a:off x="5181480" y="3962520"/>
            <a:ext cx="3322080" cy="520560"/>
            <a:chOff x="5181480" y="3962520"/>
            <a:chExt cx="3322080" cy="520560"/>
          </a:xfrm>
        </p:grpSpPr>
        <p:sp>
          <p:nvSpPr>
            <p:cNvPr id="235" name=""/>
            <p:cNvSpPr/>
            <p:nvPr/>
          </p:nvSpPr>
          <p:spPr>
            <a:xfrm>
              <a:off x="5704560" y="3962520"/>
              <a:ext cx="2799000" cy="52056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imes New Roman"/>
                </a:rPr>
                <a:t>Fourier Synthesis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181480" y="4191120"/>
              <a:ext cx="533520" cy="228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257800" y="5881680"/>
            <a:ext cx="3198600" cy="520560"/>
            <a:chOff x="5257800" y="5881680"/>
            <a:chExt cx="3198600" cy="520560"/>
          </a:xfrm>
        </p:grpSpPr>
        <p:sp>
          <p:nvSpPr>
            <p:cNvPr id="238" name=""/>
            <p:cNvSpPr/>
            <p:nvPr/>
          </p:nvSpPr>
          <p:spPr>
            <a:xfrm>
              <a:off x="5796000" y="5881680"/>
              <a:ext cx="2660400" cy="52056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imes New Roman"/>
                </a:rPr>
                <a:t>Fourier Analysis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5257800" y="5943240"/>
              <a:ext cx="533520" cy="228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ECA-8CFD-4997-95CC-6E09557AF2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4C727-886B-44ED-8CBF-074627DFB9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59B-4878-4FE0-AC79-A898567EE9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203B2-FB29-45DC-B65B-1B17B051AAE9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quare Wave Signal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190476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685800" y="1523880"/>
            <a:ext cx="8128080" cy="1600200"/>
            <a:chOff x="685800" y="1523880"/>
            <a:chExt cx="8128080" cy="1600200"/>
          </a:xfrm>
        </p:grpSpPr>
        <p:graphicFrame>
          <p:nvGraphicFramePr>
            <p:cNvPr id="245" name=""/>
            <p:cNvGraphicFramePr/>
            <p:nvPr/>
          </p:nvGraphicFramePr>
          <p:xfrm>
            <a:off x="3733920" y="1523880"/>
            <a:ext cx="2171520" cy="38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33920" y="1523880"/>
                      <a:ext cx="2171520" cy="38124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47" name=""/>
            <p:cNvGraphicFramePr/>
            <p:nvPr/>
          </p:nvGraphicFramePr>
          <p:xfrm>
            <a:off x="6362640" y="2743200"/>
            <a:ext cx="34308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62640" y="2743200"/>
                      <a:ext cx="34308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49" name=""/>
            <p:cNvGraphicFramePr/>
            <p:nvPr/>
          </p:nvGraphicFramePr>
          <p:xfrm>
            <a:off x="685800" y="2743200"/>
            <a:ext cx="72396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5800" y="2743200"/>
                      <a:ext cx="72396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"/>
            <p:cNvGraphicFramePr/>
            <p:nvPr/>
          </p:nvGraphicFramePr>
          <p:xfrm>
            <a:off x="2514600" y="2743200"/>
            <a:ext cx="5587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514600" y="2743200"/>
                      <a:ext cx="558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"/>
            <p:cNvGraphicFramePr/>
            <p:nvPr/>
          </p:nvGraphicFramePr>
          <p:xfrm>
            <a:off x="8001000" y="2743200"/>
            <a:ext cx="53352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01000" y="2743200"/>
                      <a:ext cx="533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"/>
            <p:cNvGraphicFramePr/>
            <p:nvPr/>
          </p:nvGraphicFramePr>
          <p:xfrm>
            <a:off x="4572000" y="2743200"/>
            <a:ext cx="203040" cy="279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72000" y="274320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"/>
            <p:cNvGraphicFramePr/>
            <p:nvPr/>
          </p:nvGraphicFramePr>
          <p:xfrm>
            <a:off x="8686800" y="2666880"/>
            <a:ext cx="127080" cy="241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8686800" y="2666880"/>
                      <a:ext cx="127080" cy="2415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59" name=""/>
          <p:cNvGraphicFramePr/>
          <p:nvPr/>
        </p:nvGraphicFramePr>
        <p:xfrm>
          <a:off x="838080" y="5214960"/>
          <a:ext cx="7543800" cy="1465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38080" y="5214960"/>
                    <a:ext cx="75438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914400" y="3695760"/>
          <a:ext cx="7543800" cy="1388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3695760"/>
                    <a:ext cx="754380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9FF-C721-458D-820F-D0C64DB2CC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84FEB-2F43-493A-905D-28CFD06476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pectrum from Fourier Ser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838080" y="3201840"/>
            <a:ext cx="7937640" cy="327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1600200" y="1676520"/>
          <a:ext cx="6789600" cy="150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76520"/>
                    <a:ext cx="6789600" cy="1506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7086600" y="3429000"/>
          <a:ext cx="182880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86600" y="3429000"/>
                    <a:ext cx="1828800" cy="3808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36B-CFF5-4CD6-B732-5CD178C5E49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D897B-DD0B-4896-AB5E-DCB3DF5096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Systems with Periodic Inpu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y superposition,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35040" y="1600200"/>
            <a:ext cx="8280360" cy="204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685800" y="2681280"/>
          <a:ext cx="1905120" cy="92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681280"/>
                    <a:ext cx="1905120" cy="9270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5334120" y="2765520"/>
          <a:ext cx="3504960" cy="76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2765520"/>
                    <a:ext cx="3504960" cy="768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80880" y="4348080"/>
          <a:ext cx="8534520" cy="13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4348080"/>
                    <a:ext cx="85345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438280" y="5904000"/>
          <a:ext cx="3810240" cy="74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38280" y="5904000"/>
                    <a:ext cx="3810240" cy="7412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5157360" y="3510000"/>
            <a:ext cx="37454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utput has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sam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requenci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32AB-1DF5-4C8C-85A8-B04FFC9D184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F8D0D-1B20-4012-B298-701C766140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152280"/>
            <a:ext cx="8432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 (100 H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43000" y="1316160"/>
            <a:ext cx="6781680" cy="2798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419720" y="388620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295280" y="4500720"/>
            <a:ext cx="6782040" cy="23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"/>
          <p:cNvGraphicFramePr/>
          <p:nvPr/>
        </p:nvGraphicFramePr>
        <p:xfrm>
          <a:off x="2909880" y="4114800"/>
          <a:ext cx="347832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9880" y="4114800"/>
                    <a:ext cx="3478320" cy="565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88" name=""/>
          <p:cNvGrpSpPr/>
          <p:nvPr/>
        </p:nvGrpSpPr>
        <p:grpSpPr>
          <a:xfrm>
            <a:off x="4038480" y="1295280"/>
            <a:ext cx="5105520" cy="2362320"/>
            <a:chOff x="4038480" y="1295280"/>
            <a:chExt cx="5105520" cy="2362320"/>
          </a:xfrm>
        </p:grpSpPr>
        <p:sp>
          <p:nvSpPr>
            <p:cNvPr id="289" name=""/>
            <p:cNvSpPr/>
            <p:nvPr/>
          </p:nvSpPr>
          <p:spPr>
            <a:xfrm flipV="1">
              <a:off x="4038480" y="23623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38480" y="2362320"/>
              <a:ext cx="137160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10080" y="23623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292" name=""/>
            <p:cNvGraphicFramePr/>
            <p:nvPr/>
          </p:nvGraphicFramePr>
          <p:xfrm>
            <a:off x="5867280" y="1295280"/>
            <a:ext cx="3276720" cy="932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67280" y="1295280"/>
                      <a:ext cx="3276720" cy="93204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 flipH="1">
              <a:off x="5333760" y="1752480"/>
              <a:ext cx="533160" cy="6098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5410080" y="2666880"/>
              <a:ext cx="3308400" cy="990720"/>
              <a:chOff x="5410080" y="2666880"/>
              <a:chExt cx="3308400" cy="990720"/>
            </a:xfrm>
          </p:grpSpPr>
          <p:graphicFrame>
            <p:nvGraphicFramePr>
              <p:cNvPr id="296" name=""/>
              <p:cNvGraphicFramePr/>
              <p:nvPr/>
            </p:nvGraphicFramePr>
            <p:xfrm>
              <a:off x="5975280" y="2666880"/>
              <a:ext cx="2743200" cy="381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9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975280" y="2666880"/>
                        <a:ext cx="2743200" cy="381240"/>
                      </a:xfrm>
                      <a:prstGeom prst="rect">
                        <a:avLst/>
                      </a:prstGeom>
                      <a:ln w="9360">
                        <a:solidFill>
                          <a:srgbClr val="ff66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298" name=""/>
              <p:cNvSpPr/>
              <p:nvPr/>
            </p:nvSpPr>
            <p:spPr>
              <a:xfrm flipH="1">
                <a:off x="5410080" y="3048120"/>
                <a:ext cx="533520" cy="6094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611-7EBB-4C1F-A2DA-CE42F6D741A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DF1A4-6ABA-443D-B736-E4797308FA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080" y="152280"/>
            <a:ext cx="835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 (200 H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0" name=""/>
          <p:cNvSpPr/>
          <p:nvPr/>
        </p:nvSpPr>
        <p:spPr>
          <a:xfrm>
            <a:off x="4419720" y="388620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295280" y="4470480"/>
            <a:ext cx="6782040" cy="23875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143000" y="1316160"/>
            <a:ext cx="6781680" cy="279864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3276720" y="1295280"/>
            <a:ext cx="5867280" cy="2362320"/>
            <a:chOff x="3276720" y="1295280"/>
            <a:chExt cx="5867280" cy="2362320"/>
          </a:xfrm>
        </p:grpSpPr>
        <p:sp>
          <p:nvSpPr>
            <p:cNvPr id="304" name=""/>
            <p:cNvSpPr/>
            <p:nvPr/>
          </p:nvSpPr>
          <p:spPr>
            <a:xfrm>
              <a:off x="6095880" y="23623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276720" y="23623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76720" y="2362320"/>
              <a:ext cx="281916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5867280" y="1295280"/>
            <a:ext cx="3276720" cy="93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67280" y="1295280"/>
                      <a:ext cx="3276720" cy="93204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 flipH="1">
              <a:off x="5333760" y="1752480"/>
              <a:ext cx="533160" cy="6098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310" name=""/>
            <p:cNvGraphicFramePr/>
            <p:nvPr/>
          </p:nvGraphicFramePr>
          <p:xfrm>
            <a:off x="6673680" y="2666880"/>
            <a:ext cx="1994040" cy="381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73680" y="2666880"/>
                      <a:ext cx="1994040" cy="38124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2" name=""/>
            <p:cNvSpPr/>
            <p:nvPr/>
          </p:nvSpPr>
          <p:spPr>
            <a:xfrm flipH="1">
              <a:off x="6095880" y="3048120"/>
              <a:ext cx="533520" cy="60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313" name=""/>
          <p:cNvGraphicFramePr/>
          <p:nvPr/>
        </p:nvGraphicFramePr>
        <p:xfrm>
          <a:off x="1246320" y="4114800"/>
          <a:ext cx="6807240" cy="56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46320" y="4114800"/>
                    <a:ext cx="6807240" cy="565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B1B-8192-4E20-B411-8B952D995E3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7E94A-3AF9-4CCD-827E-9EB68AB8DE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Bandpass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388620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99960" y="5334120"/>
          <a:ext cx="8591760" cy="87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5334120"/>
                    <a:ext cx="8591760" cy="8744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28600" y="1287360"/>
            <a:ext cx="8229600" cy="339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4952880" y="1281240"/>
          <a:ext cx="4038840" cy="104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1281240"/>
                    <a:ext cx="4038840" cy="10443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 flipH="1">
            <a:off x="6095880" y="2895480"/>
            <a:ext cx="533520" cy="228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1240" y="480060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is the ouput signal ?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31800" y="2514600"/>
            <a:ext cx="1194120" cy="368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Pass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84680" y="2514600"/>
            <a:ext cx="1194120" cy="368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Pass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280" y="2819520"/>
            <a:ext cx="8763120" cy="1295280"/>
            <a:chOff x="152280" y="2819520"/>
            <a:chExt cx="8763120" cy="1295280"/>
          </a:xfrm>
        </p:grpSpPr>
        <p:sp>
          <p:nvSpPr>
            <p:cNvPr id="327" name=""/>
            <p:cNvSpPr/>
            <p:nvPr/>
          </p:nvSpPr>
          <p:spPr>
            <a:xfrm>
              <a:off x="3200400" y="28195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2819520" y="28195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19520" y="2819520"/>
              <a:ext cx="38088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867280" y="2819520"/>
              <a:ext cx="380880" cy="1295280"/>
              <a:chOff x="5867280" y="2819520"/>
              <a:chExt cx="380880" cy="1295280"/>
            </a:xfrm>
          </p:grpSpPr>
          <p:sp>
            <p:nvSpPr>
              <p:cNvPr id="331" name=""/>
              <p:cNvSpPr/>
              <p:nvPr/>
            </p:nvSpPr>
            <p:spPr>
              <a:xfrm>
                <a:off x="6248160" y="2819520"/>
                <a:ext cx="0" cy="12952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5867280" y="2819520"/>
                <a:ext cx="0" cy="12952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67280" y="2819520"/>
                <a:ext cx="38088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3200400" y="4114800"/>
              <a:ext cx="266688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48520" y="4114800"/>
              <a:ext cx="266688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2280" y="4114800"/>
              <a:ext cx="266724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B34-4886-4C1C-80B0-620A176B243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5D681-FA3F-4280-A1B9-F42CBD3641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53880" y="4334040"/>
          <a:ext cx="8358480" cy="12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4334040"/>
                    <a:ext cx="8358480" cy="12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1319040" y="3276720"/>
          <a:ext cx="6504120" cy="84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9040" y="3276720"/>
                    <a:ext cx="6504120" cy="8474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3962520" y="344520"/>
          <a:ext cx="396216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344520"/>
                    <a:ext cx="3962160" cy="866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25600" y="1751040"/>
          <a:ext cx="8084880" cy="129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600" y="1751040"/>
                    <a:ext cx="808488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1859040" y="5927760"/>
          <a:ext cx="4894200" cy="70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9040" y="5927760"/>
                    <a:ext cx="4894200" cy="7016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22F-76CD-41DF-8208-8001DCEAAE4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6623D-4D07-48DB-A051-196713C2B4E4}" type="datetime1">
              <a:rPr lang="en-US"/>
              <a:t>07/29/26</a:t>
            </a:fld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GUI: Sinusoi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57200" y="1033560"/>
            <a:ext cx="8226360" cy="58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7A7-E818-4795-982E-A8E23377967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7373B-916A-42D8-9E46-979076A7618E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10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10 all, start Ch 11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11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72A-8C60-4194-B60C-53C788F40A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93477-B350-4A42-8D30-4EDC2A48D2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20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view of convol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operation for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TI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yste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lex exponential input sign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Frequency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sine sign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l part of complex exponent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ier Series thru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H(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se are Analog Filt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36A-2358-4B6F-B301-89C5B3B8CD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077C0-6F69-4FEB-9D91-6CC63574E5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olution defines an LTI syste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ponse to a complex exponential gives frequency respons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H(j</a:t>
            </a:r>
            <a:r>
              <a:rPr b="0" i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1481040"/>
            <a:ext cx="8610480" cy="21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1219320" y="4210200"/>
          <a:ext cx="5790960" cy="119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10200"/>
                    <a:ext cx="5790960" cy="1199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E6B-3F37-460F-8994-6E8321BC48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5ABBB-9416-4CBF-B3D8-DC0FDBF677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ought Process #1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712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UPERPOSITION  (Linearity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ke x(t) a weighted sum of signa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n y(t) is also a sum—same weigh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DIFFERENT OUTPUT SIGNALS usually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NUSOID IN GIVES SINUSOID OUT”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ke x(t) a weighted sum of sinusoi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n y(t) is also a sum of sinusoi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fferent Magnitudes and Phas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TI SYSTEM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Sinusoidal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9C9-23E2-48D4-B6E3-9102AD506D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FBC89-F73C-419B-98EB-ABBED86060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ought Process #2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956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UPERPOSITION   (Linearity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ke x(t) a weighted sum of signa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Us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Any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x(t) = weighted sum of sinusoi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HOW?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Use FOURIER ANALYSIS INTEGR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To find the weights from x(t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TI SYSTEM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Response changes each sinusoidal compon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7D6-88F4-4A43-973D-3BC0AFE691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3CFC1-95D0-4A79-924B-33FB2E7C1A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Exponential In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80880" y="1676520"/>
                <a:ext cx="83822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↦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057400" y="2438280"/>
                <a:ext cx="4419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05" name=""/>
          <p:cNvGrpSpPr/>
          <p:nvPr/>
        </p:nvGrpSpPr>
        <p:grpSpPr>
          <a:xfrm>
            <a:off x="2590920" y="1752480"/>
            <a:ext cx="6340320" cy="4965840"/>
            <a:chOff x="2590920" y="1752480"/>
            <a:chExt cx="6340320" cy="4965840"/>
          </a:xfrm>
        </p:grpSpPr>
        <p:sp>
          <p:nvSpPr>
            <p:cNvPr id="106" name=""/>
            <p:cNvSpPr/>
            <p:nvPr/>
          </p:nvSpPr>
          <p:spPr>
            <a:xfrm>
              <a:off x="7086600" y="5486400"/>
              <a:ext cx="1844640" cy="8254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Frequenc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419720" y="4647960"/>
              <a:ext cx="0" cy="609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2590920" y="5257800"/>
                  <a:ext cx="434340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</m:sup>
                          </m:sSup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"/>
            <p:cNvSpPr/>
            <p:nvPr/>
          </p:nvSpPr>
          <p:spPr>
            <a:xfrm>
              <a:off x="5486400" y="1752480"/>
              <a:ext cx="1447920" cy="68580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81080" y="3733920"/>
                <a:ext cx="5004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DD0-ECEE-4DDC-A18D-6087CD7429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0B90B-7DD6-4C15-9449-B12F225AA1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When does 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H(j</a:t>
            </a:r>
            <a:r>
              <a:rPr b="0" i="1" lang="en-US" sz="4000" spc="-1" strike="noStrike">
                <a:solidFill>
                  <a:srgbClr val="0000cc"/>
                </a:solidFill>
                <a:latin typeface="Symbol"/>
                <a:ea typeface="Symbol"/>
              </a:rPr>
              <a:t>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)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Exist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 is                            ?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us the frequency response exists if the LTI system i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bl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ystem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2514600"/>
          <a:ext cx="7239240" cy="13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723924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89520" y="3886200"/>
          <a:ext cx="401148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89520" y="3886200"/>
                    <a:ext cx="4011480" cy="11365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362320" y="1752480"/>
          <a:ext cx="2438280" cy="57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1752480"/>
                    <a:ext cx="2438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25E-CCF0-4434-9DE3-38EDD65144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5DA39-1701-4C80-BD7A-6E35D84B76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1-11T16:03:31Z</cp:lastPrinted>
  <dcterms:modified xsi:type="dcterms:W3CDTF">2006-04-03T14:46:28Z</dcterms:modified>
  <cp:revision>439</cp:revision>
  <dc:subject/>
  <dc:title>SPFirst Lecture #2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