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A87-79E1-475D-B265-B8D3FC74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94C-4EAB-4053-AC5E-0A1E2FD6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210-816C-4C95-B9DD-DAE3EC71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53C-A67C-4AC2-9CD2-A374D59F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A0F2-A8AC-4034-A5D0-DB6C02FB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FFED-73F3-4753-9AFD-43B143BA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3FD5-A430-4416-998F-8DECE27B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9A12-60C9-4AB0-A0C1-3772BCBB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8306-5E5A-44F4-83A0-514BF648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FE60-A606-4D9C-8241-AFB5F1AD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128-6F5D-4480-84BB-9CD9505B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4C2-C9E6-4791-9883-07C4CFB0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8CD5-3D59-468C-83C0-2BFDEE48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0DF3-6C2E-4675-8786-1B84DE99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0FB7-0C5B-4E9F-A115-0B8E97A8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A6C5-D476-4362-8E1D-033D75F9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E09E-CF0C-4126-B9DE-4F100EDA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D26-E51D-4D1C-88D0-BAB519CF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EB9-785E-44A6-A827-0F5C296C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FB5-EC8A-48AB-BA4A-EDCF40AF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30A-F3E4-4B19-BF08-9FF0D14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A13-B61E-43A9-8040-7F70EB54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7BC-3367-4C4B-B93E-7A6369BA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C9C-E43A-4676-8EAB-0105378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F635-A1BF-431F-8D1B-7B64B2A1F00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A0C9-5E92-4868-94C5-095478B309A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3176-4C80-4668-B6A5-670F90BF108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392C-8DA9-42DC-AC36-4E32ABCF13D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2320" y="3428640"/>
            <a:ext cx="59436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gital Filte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f Analog Signal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306E-0D6E-467B-BA4B-686268D0987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3508B5-807C-4B5E-816B-3E51E9BC7A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 DOMAIN --&gt; TIM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6188760" y="2057400"/>
            <a:ext cx="26604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ULER’s Formul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9480" y="4038480"/>
            <a:ext cx="7010640" cy="838440"/>
            <a:chOff x="609480" y="4038480"/>
            <a:chExt cx="7010640" cy="838440"/>
          </a:xfrm>
        </p:grpSpPr>
        <p:sp>
          <p:nvSpPr>
            <p:cNvPr id="240" name=""/>
            <p:cNvSpPr/>
            <p:nvPr/>
          </p:nvSpPr>
          <p:spPr>
            <a:xfrm>
              <a:off x="609480" y="4419720"/>
              <a:ext cx="70106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4038480"/>
              <a:ext cx="533520" cy="838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038480"/>
              <a:ext cx="1295280" cy="838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7920" y="1806480"/>
                <a:ext cx="5421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828800" y="2666880"/>
                <a:ext cx="5562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828800" y="3505320"/>
                <a:ext cx="4648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43000" y="4648320"/>
                <a:ext cx="6705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030400" y="5486400"/>
                <a:ext cx="4203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,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AF2-8C74-41BF-AF5C-EEFDA87DD5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46C43-02F9-4EFF-843C-5C58761176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REVIOUS LECTURE RE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INUSOID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PUT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ha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E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ERENT Amplitude and Ph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RESPON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 F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GNITUDE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HASE vs.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OTT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038480" y="3886200"/>
            <a:ext cx="5105520" cy="2440080"/>
            <a:chOff x="4038480" y="3886200"/>
            <a:chExt cx="5105520" cy="2440080"/>
          </a:xfrm>
        </p:grpSpPr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038480" y="5391000"/>
                  <a:ext cx="510552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e>
                      </m:d>
                      <m:r>
                        <m:t xml:space="preserve">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∠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52" name=""/>
            <p:cNvSpPr/>
            <p:nvPr/>
          </p:nvSpPr>
          <p:spPr>
            <a:xfrm>
              <a:off x="5181480" y="4572000"/>
              <a:ext cx="0" cy="9158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789240" y="3886200"/>
              <a:ext cx="1238400" cy="1601280"/>
              <a:chOff x="6789240" y="3886200"/>
              <a:chExt cx="1238400" cy="1601280"/>
            </a:xfrm>
          </p:grpSpPr>
          <p:sp>
            <p:nvSpPr>
              <p:cNvPr id="254" name=""/>
              <p:cNvSpPr/>
              <p:nvPr/>
            </p:nvSpPr>
            <p:spPr>
              <a:xfrm>
                <a:off x="7135200" y="3886200"/>
                <a:ext cx="89244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MAG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789240" y="4323960"/>
                <a:ext cx="330120" cy="11635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714080" y="4572000"/>
              <a:ext cx="1227600" cy="915480"/>
              <a:chOff x="7714080" y="4572000"/>
              <a:chExt cx="1227600" cy="915480"/>
            </a:xfrm>
          </p:grpSpPr>
          <p:sp>
            <p:nvSpPr>
              <p:cNvPr id="257" name=""/>
              <p:cNvSpPr/>
              <p:nvPr/>
            </p:nvSpPr>
            <p:spPr>
              <a:xfrm>
                <a:off x="7848720" y="5030640"/>
                <a:ext cx="228600" cy="4568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14080" y="4572000"/>
                <a:ext cx="122760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PHASE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721-9470-4100-9B45-3A2519462F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20802-9DA5-43F1-B2B3-5E27FC5F3F60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PL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NSE GRID </a:t>
            </a:r>
            <a:r>
              <a:rPr b="1" lang="en-US" sz="4400" spc="-1" strike="noStrike">
                <a:solidFill>
                  <a:srgbClr val="ff6600"/>
                </a:solidFill>
                <a:latin typeface="Courier New"/>
              </a:rPr>
              <a:t>(ww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from -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to  +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ww = -pi:(pi/100):pi;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HH = freqz(bb,1,ww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ECTOR </a:t>
            </a:r>
            <a:r>
              <a:rPr b="1" lang="en-US" sz="4000" spc="-1" strike="noStrike">
                <a:solidFill>
                  <a:srgbClr val="ff6600"/>
                </a:solidFill>
                <a:latin typeface="Courier New"/>
              </a:rPr>
              <a:t>b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ntains Filter Coeffici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SP-First:   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HH = freekz(bb,1,ww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022480" y="4680000"/>
                <a:ext cx="464184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6A5-D937-4AFC-9B56-D23A64159A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FB1F3-F7B1-4089-9412-9162DAC0A5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of FREQ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271440"/>
            <a:ext cx="8686800" cy="658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38280" y="3117960"/>
                <a:ext cx="3853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5" name=""/>
          <p:cNvGrpSpPr/>
          <p:nvPr/>
        </p:nvGrpSpPr>
        <p:grpSpPr>
          <a:xfrm>
            <a:off x="6095520" y="1599840"/>
            <a:ext cx="2522520" cy="3657960"/>
            <a:chOff x="6095520" y="1599840"/>
            <a:chExt cx="2522520" cy="3657960"/>
          </a:xfrm>
        </p:grpSpPr>
        <p:sp>
          <p:nvSpPr>
            <p:cNvPr id="266" name=""/>
            <p:cNvSpPr/>
            <p:nvPr/>
          </p:nvSpPr>
          <p:spPr>
            <a:xfrm flipH="1" flipV="1">
              <a:off x="6095520" y="1599840"/>
              <a:ext cx="685800" cy="160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095520" y="3581280"/>
              <a:ext cx="838440" cy="1676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13760" y="3200400"/>
              <a:ext cx="22042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ESPONSE at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/3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47000" y="685800"/>
                <a:ext cx="1868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962520" y="6432480"/>
                <a:ext cx="144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0880" y="6226200"/>
                <a:ext cx="5922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8458200" y="6242040"/>
                <a:ext cx="446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8715240" y="2790720"/>
                <a:ext cx="3524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0AA-18DB-46E0-B0B6-39C704D6CA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86FE1-4C70-4D54-8DE8-2C26ECC0B6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057400" y="3657600"/>
            <a:ext cx="4789440" cy="1509840"/>
            <a:chOff x="2057400" y="3657600"/>
            <a:chExt cx="4789440" cy="1509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65530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5812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"/>
            <p:cNvSpPr/>
            <p:nvPr/>
          </p:nvSpPr>
          <p:spPr>
            <a:xfrm>
              <a:off x="3352680" y="36576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2320" y="41148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41148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1160" y="36576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6040" y="36576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4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8195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0481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5909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20040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43828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92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7913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0199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5627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17220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41008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430440" y="3719520"/>
                  <a:ext cx="18226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844640" y="5343480"/>
                <a:ext cx="53802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93800" y="1676520"/>
                <a:ext cx="725148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458-3569-4439-848F-33AB106453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80080-FB22-4A1A-AE3F-32CCDED46AE6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39840" y="1638360"/>
                <a:ext cx="8312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 (answe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46240" y="2637000"/>
                <a:ext cx="75880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One Step-  evaluate 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 flipH="1">
            <a:off x="7315200" y="2133720"/>
            <a:ext cx="533520" cy="685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6720" y="3494160"/>
                <a:ext cx="5380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28680" y="4406760"/>
                <a:ext cx="61545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52280" y="5384880"/>
                <a:ext cx="5562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616720" y="5345280"/>
                <a:ext cx="33987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F6B-FAE5-4308-B890-6B4017A1A74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57B56-F3C7-4F3E-9D41-70589322B57E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63680" y="1673280"/>
                <a:ext cx="814680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844640" y="5321160"/>
                <a:ext cx="5380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2057400" y="3657600"/>
            <a:ext cx="4789440" cy="1509840"/>
            <a:chOff x="2057400" y="3657600"/>
            <a:chExt cx="4789440" cy="1509840"/>
          </a:xfrm>
        </p:grpSpPr>
        <p:grpSp>
          <p:nvGrpSpPr>
            <p:cNvPr id="310" name=""/>
            <p:cNvGrpSpPr/>
            <p:nvPr/>
          </p:nvGrpSpPr>
          <p:grpSpPr>
            <a:xfrm>
              <a:off x="2057400" y="3657600"/>
              <a:ext cx="4572000" cy="1219320"/>
              <a:chOff x="2057400" y="3657600"/>
              <a:chExt cx="4572000" cy="1219320"/>
            </a:xfrm>
          </p:grpSpPr>
          <p:sp>
            <p:nvSpPr>
              <p:cNvPr id="311" name=""/>
              <p:cNvSpPr/>
              <p:nvPr/>
            </p:nvSpPr>
            <p:spPr>
              <a:xfrm>
                <a:off x="3352680" y="365760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62320" y="411480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57800" y="411480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1160" y="365760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16040" y="36576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574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28195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0481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5909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20040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3828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292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57913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5627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17220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541008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3430440" y="3711600"/>
                    <a:ext cx="182268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35812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5530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F0A-BDA6-4E2F-9387-3175F5AE9D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951BF-92D5-467D-A8A4-8E962624BBB0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 (ans-1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68360" y="2708280"/>
                <a:ext cx="843588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585800" y="4378320"/>
                <a:ext cx="6170760" cy="22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925-ED9B-422A-8EE6-917A6BC708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33025-140B-40C3-BEFF-A3F34DA1B23A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 (ans-2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96840" y="3487680"/>
                <a:ext cx="89852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280" y="5105520"/>
                <a:ext cx="700092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766880" y="2577960"/>
                <a:ext cx="553572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147-1A2A-4179-B751-453407CBBA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CECC1-76B4-4A0B-A1DB-2DA189D528B5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thru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ultiply the Magnitud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dd the Pha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5280" y="4146480"/>
                <a:ext cx="885060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523880" y="1676520"/>
                <a:ext cx="39420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2286000" y="571500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3080" y="556272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E1C-D4CD-490A-885F-799D23AE9E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F04D7-4560-44A3-9817-C606C072D4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27A-D9EE-452D-9B3B-CC717B96B7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B87E0-0527-41D4-8DF1-5D0137D9BE27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120680"/>
            <a:ext cx="8153280" cy="5661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Demo with Sinusoid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0000" y="1143000"/>
            <a:ext cx="8796240" cy="896040"/>
            <a:chOff x="90000" y="1143000"/>
            <a:chExt cx="8796240" cy="896040"/>
          </a:xfrm>
        </p:grpSpPr>
        <p:sp>
          <p:nvSpPr>
            <p:cNvPr id="349" name=""/>
            <p:cNvSpPr/>
            <p:nvPr/>
          </p:nvSpPr>
          <p:spPr>
            <a:xfrm>
              <a:off x="5037480" y="1701720"/>
              <a:ext cx="889560" cy="3373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LTER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00" y="1341360"/>
              <a:ext cx="6213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[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80360" y="1143000"/>
              <a:ext cx="6058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y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[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1B6-EAF3-4298-809E-07A954CE5A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B3828-CD22-4971-A617-6D4A16CAC6B0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GITAL “FILTER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7600" y="21528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of x(t)   (SUM of SINUSOID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x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s ALIASING a PROBLEM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[n]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FIR Gain or Null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, OUTPUT y(t) = 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28600" y="1900080"/>
            <a:ext cx="8778960" cy="1635120"/>
            <a:chOff x="228600" y="1900080"/>
            <a:chExt cx="8778960" cy="1635120"/>
          </a:xfrm>
        </p:grpSpPr>
        <p:sp>
          <p:nvSpPr>
            <p:cNvPr id="355" name=""/>
            <p:cNvSpPr/>
            <p:nvPr/>
          </p:nvSpPr>
          <p:spPr>
            <a:xfrm>
              <a:off x="3505320" y="190512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0080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4792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146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674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560" y="19051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96440" y="19051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3440" y="19051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8320" y="190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9907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2193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62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37160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0948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388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0010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2296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7724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38188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620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0481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8195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42900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66688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1722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57150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2448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562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3511440" y="1900080"/>
                  <a:ext cx="18226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3778200" y="3095640"/>
                  <a:ext cx="35244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6629400" y="3095640"/>
                  <a:ext cx="3510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1658880" y="318132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8655120" y="3135240"/>
                  <a:ext cx="352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5" name=""/>
          <p:cNvGrpSpPr/>
          <p:nvPr/>
        </p:nvGrpSpPr>
        <p:grpSpPr>
          <a:xfrm>
            <a:off x="231840" y="3790800"/>
            <a:ext cx="714240" cy="2228760"/>
            <a:chOff x="231840" y="3790800"/>
            <a:chExt cx="714240" cy="2228760"/>
          </a:xfrm>
        </p:grpSpPr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231840" y="4458960"/>
                  <a:ext cx="70632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595440" y="3790800"/>
                  <a:ext cx="3506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595440" y="5695920"/>
                  <a:ext cx="3506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7B1-A7AC-451B-A7E6-71AB3217EF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1750D-5ADE-4DA8-AC27-F335F10BE4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SCA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IME SAMPL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LIASING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SCAL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8600" y="1905120"/>
            <a:ext cx="8763120" cy="1600200"/>
            <a:chOff x="228600" y="1905120"/>
            <a:chExt cx="8763120" cy="1600200"/>
          </a:xfrm>
        </p:grpSpPr>
        <p:sp>
          <p:nvSpPr>
            <p:cNvPr id="402" name=""/>
            <p:cNvSpPr/>
            <p:nvPr/>
          </p:nvSpPr>
          <p:spPr>
            <a:xfrm>
              <a:off x="3505320" y="1905120"/>
              <a:ext cx="190476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00800" y="190512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4792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00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674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560" y="19051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96440" y="19051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63440" y="19051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68320" y="190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86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9907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2193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62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37160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0948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388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0010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2296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7724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838188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7620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860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0481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28195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42900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66688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814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1722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7150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32448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562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3533760" y="191304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379260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668808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58880" y="318132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8669160" y="3164040"/>
                  <a:ext cx="32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087880" y="4876920"/>
                <a:ext cx="39038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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75320" y="3735360"/>
                <a:ext cx="1741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0E1-A022-417F-8918-2DC0274501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7CA66-C1E5-4C5D-8545-C0FD27EEE0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11-pt AVERAGER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28600" y="1828800"/>
            <a:ext cx="8780400" cy="1600200"/>
            <a:chOff x="228600" y="1828800"/>
            <a:chExt cx="8780400" cy="1600200"/>
          </a:xfrm>
        </p:grpSpPr>
        <p:sp>
          <p:nvSpPr>
            <p:cNvPr id="447" name=""/>
            <p:cNvSpPr/>
            <p:nvPr/>
          </p:nvSpPr>
          <p:spPr>
            <a:xfrm>
              <a:off x="3505320" y="1828800"/>
              <a:ext cx="190476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0080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4792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146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100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74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72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7560" y="18288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6440" y="1828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63440" y="18288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68320" y="18288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86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9907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2193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762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37160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0948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388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80010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2296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7724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38188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620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860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0481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276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8195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42900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6688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814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9436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1722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7150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32448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5562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3533760" y="183672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79260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668808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1658880" y="310500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8686800" y="3087720"/>
                  <a:ext cx="32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7" name=""/>
          <p:cNvGrpSpPr/>
          <p:nvPr/>
        </p:nvGrpSpPr>
        <p:grpSpPr>
          <a:xfrm>
            <a:off x="228600" y="4033800"/>
            <a:ext cx="8610840" cy="2700360"/>
            <a:chOff x="228600" y="4033800"/>
            <a:chExt cx="8610840" cy="2700360"/>
          </a:xfrm>
        </p:grpSpPr>
        <p:sp>
          <p:nvSpPr>
            <p:cNvPr id="488" name=""/>
            <p:cNvSpPr/>
            <p:nvPr/>
          </p:nvSpPr>
          <p:spPr>
            <a:xfrm>
              <a:off x="228600" y="4038480"/>
              <a:ext cx="1905120" cy="19051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250 Hz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25 Hz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13520" y="4033800"/>
              <a:ext cx="925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304920" y="6019920"/>
                  <a:ext cx="72388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50</m:t>
                      </m:r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π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92440" y="4216320"/>
                <a:ext cx="6127560" cy="16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514600" y="2776680"/>
                <a:ext cx="38862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08E-5056-450E-9300-3BC3B60ADD1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3CE23-4248-4D04-9D54-574CDDC3F2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-A FREQUENCY SCA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4952520"/>
            <a:ext cx="8178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ONSTRUCT up to 0.5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SCAL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8600" y="1905120"/>
            <a:ext cx="8763120" cy="1600200"/>
            <a:chOff x="228600" y="1905120"/>
            <a:chExt cx="8763120" cy="1600200"/>
          </a:xfrm>
        </p:grpSpPr>
        <p:sp>
          <p:nvSpPr>
            <p:cNvPr id="496" name=""/>
            <p:cNvSpPr/>
            <p:nvPr/>
          </p:nvSpPr>
          <p:spPr>
            <a:xfrm>
              <a:off x="3505320" y="1905120"/>
              <a:ext cx="190476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7920" y="190512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100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674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2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560" y="19051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96440" y="19051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63440" y="19051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68320" y="190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86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9907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2193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2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37160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0948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388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80010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82296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7724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838188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620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860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0481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28195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42900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266688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14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1722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7150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32448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562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3533760" y="191304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379260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668808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658880" y="318132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8669160" y="3164040"/>
                  <a:ext cx="32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6" name=""/>
          <p:cNvSpPr/>
          <p:nvPr/>
        </p:nvSpPr>
        <p:spPr>
          <a:xfrm>
            <a:off x="304920" y="3962520"/>
            <a:ext cx="817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IME SAMPLING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248520" y="5159520"/>
                <a:ext cx="23619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419720" y="3809880"/>
                <a:ext cx="40161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←</m:t>
                    </m:r>
                    <m:sSub>
                      <m:e>
                        <m:r>
                          <m:t xml:space="preserve">t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210-69AF-4BF0-96A2-1788AD4D69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72140-9E88-41FE-819B-201447E545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CK the FREQUENC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" y="1828800"/>
            <a:ext cx="8763120" cy="1600200"/>
            <a:chOff x="228600" y="1828800"/>
            <a:chExt cx="8763120" cy="1600200"/>
          </a:xfrm>
        </p:grpSpPr>
        <p:sp>
          <p:nvSpPr>
            <p:cNvPr id="541" name=""/>
            <p:cNvSpPr/>
            <p:nvPr/>
          </p:nvSpPr>
          <p:spPr>
            <a:xfrm>
              <a:off x="3505320" y="1828800"/>
              <a:ext cx="190476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0080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4792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100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674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72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7560" y="18288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96440" y="1828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63440" y="18288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8320" y="18288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86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9907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12193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62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37160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0948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388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0010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2296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77724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838188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620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60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481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276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8195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42900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66688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814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9436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1722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7150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32448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562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3533760" y="183672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379260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8" name=""/>
                <p:cNvSpPr txBox="1"/>
                <p:nvPr/>
              </p:nvSpPr>
              <p:spPr>
                <a:xfrm>
                  <a:off x="668808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1658880" y="310500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8669160" y="3087720"/>
                  <a:ext cx="32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1" name=""/>
          <p:cNvSpPr/>
          <p:nvPr/>
        </p:nvSpPr>
        <p:spPr>
          <a:xfrm>
            <a:off x="1157400" y="5715000"/>
            <a:ext cx="18709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s = 1000 Hz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09680" y="3581280"/>
            <a:ext cx="1524240" cy="1981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.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0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3581280"/>
            <a:ext cx="1523880" cy="1981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.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0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3581280"/>
            <a:ext cx="1905120" cy="19051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0 Hz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 Hz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02240" y="5791320"/>
            <a:ext cx="197604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O new freq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52280" y="3657600"/>
            <a:ext cx="1905120" cy="19051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0 Hz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 Hz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3706920" y="3584520"/>
                <a:ext cx="17794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1AC-2E0F-4AF4-90EE-30769896A8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1903D-2D2F-48C2-93F0-ACA1D363C2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11-pt AVERAG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40864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5885640" y="2057400"/>
            <a:ext cx="2666520" cy="1447920"/>
            <a:chOff x="5885640" y="2057400"/>
            <a:chExt cx="2666520" cy="1447920"/>
          </a:xfrm>
        </p:grpSpPr>
        <p:sp>
          <p:nvSpPr>
            <p:cNvPr id="591" name=""/>
            <p:cNvSpPr/>
            <p:nvPr/>
          </p:nvSpPr>
          <p:spPr>
            <a:xfrm>
              <a:off x="5885640" y="2057400"/>
              <a:ext cx="266652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NULLS or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629040" y="2514600"/>
              <a:ext cx="15228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238880" y="2514600"/>
              <a:ext cx="15264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848360" y="2514600"/>
              <a:ext cx="15228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019560" y="2514600"/>
              <a:ext cx="15228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67280" y="3276720"/>
            <a:ext cx="1436760" cy="2361960"/>
            <a:chOff x="5867280" y="3276720"/>
            <a:chExt cx="1436760" cy="2361960"/>
          </a:xfrm>
        </p:grpSpPr>
        <p:sp>
          <p:nvSpPr>
            <p:cNvPr id="597" name=""/>
            <p:cNvSpPr/>
            <p:nvPr/>
          </p:nvSpPr>
          <p:spPr>
            <a:xfrm>
              <a:off x="6324480" y="327672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24480" y="548640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6400800" y="3428640"/>
              <a:ext cx="0" cy="60948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5867280" y="4038480"/>
                  <a:ext cx="1436760" cy="4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3962520" y="2286000"/>
            <a:ext cx="1600200" cy="3200400"/>
            <a:chOff x="3962520" y="2286000"/>
            <a:chExt cx="1600200" cy="3200400"/>
          </a:xfrm>
        </p:grpSpPr>
        <p:sp>
          <p:nvSpPr>
            <p:cNvPr id="602" name=""/>
            <p:cNvSpPr/>
            <p:nvPr/>
          </p:nvSpPr>
          <p:spPr>
            <a:xfrm>
              <a:off x="4876920" y="2286000"/>
              <a:ext cx="15228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6920" y="53341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952880" y="2438280"/>
              <a:ext cx="0" cy="1524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3962520" y="3967200"/>
                  <a:ext cx="160020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EB8-E33E-49B2-BC8D-D6F799B308F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6A041-5139-4CFB-AB8C-BF7E43307C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068560" y="1528920"/>
                <a:ext cx="563868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039760" y="3086280"/>
                <a:ext cx="62661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280" y="2843280"/>
                <a:ext cx="2210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524400" y="4495680"/>
                <a:ext cx="4019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505320" y="57913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0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1BB-73BE-42E3-A7A1-BD89731C30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A3A65-AE9B-4E05-AEB2-A4618109440F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50450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257800" y="6553080"/>
            <a:ext cx="838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24680" y="6553080"/>
            <a:ext cx="8384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2440" y="3657600"/>
            <a:ext cx="122148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= 1000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295280" y="3276720"/>
            <a:ext cx="7182720" cy="3276360"/>
            <a:chOff x="1295280" y="3276720"/>
            <a:chExt cx="7182720" cy="3276360"/>
          </a:xfrm>
        </p:grpSpPr>
        <p:sp>
          <p:nvSpPr>
            <p:cNvPr id="618" name=""/>
            <p:cNvSpPr/>
            <p:nvPr/>
          </p:nvSpPr>
          <p:spPr>
            <a:xfrm>
              <a:off x="6770160" y="3276720"/>
              <a:ext cx="170784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MAG SCAL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733920" y="3352680"/>
              <a:ext cx="3047760" cy="457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95280" y="6553080"/>
              <a:ext cx="83844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76520" y="4191120"/>
              <a:ext cx="1600200" cy="2057400"/>
            </a:xfrm>
            <a:custGeom>
              <a:avLst/>
              <a:gdLst/>
              <a:ahLst/>
              <a:rect l="l" t="t" r="r" b="b"/>
              <a:pathLst>
                <a:path w="1008" h="1296">
                  <a:moveTo>
                    <a:pt x="1008" y="0"/>
                  </a:moveTo>
                  <a:cubicBezTo>
                    <a:pt x="908" y="4"/>
                    <a:pt x="808" y="8"/>
                    <a:pt x="768" y="144"/>
                  </a:cubicBezTo>
                  <a:cubicBezTo>
                    <a:pt x="728" y="280"/>
                    <a:pt x="872" y="696"/>
                    <a:pt x="768" y="816"/>
                  </a:cubicBezTo>
                  <a:cubicBezTo>
                    <a:pt x="664" y="936"/>
                    <a:pt x="271" y="784"/>
                    <a:pt x="144" y="864"/>
                  </a:cubicBezTo>
                  <a:cubicBezTo>
                    <a:pt x="16" y="943"/>
                    <a:pt x="8" y="1119"/>
                    <a:pt x="0" y="1296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809880" y="3962520"/>
            <a:ext cx="4815000" cy="2590560"/>
            <a:chOff x="3809880" y="3962520"/>
            <a:chExt cx="4815000" cy="2590560"/>
          </a:xfrm>
        </p:grpSpPr>
        <p:sp>
          <p:nvSpPr>
            <p:cNvPr id="623" name=""/>
            <p:cNvSpPr/>
            <p:nvPr/>
          </p:nvSpPr>
          <p:spPr>
            <a:xfrm>
              <a:off x="6392880" y="4038480"/>
              <a:ext cx="22320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PHASE CHANG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4876560" y="3962520"/>
              <a:ext cx="1523880" cy="3045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09880" y="6553080"/>
              <a:ext cx="8384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0" y="4038480"/>
              <a:ext cx="1014480" cy="2210040"/>
            </a:xfrm>
            <a:custGeom>
              <a:avLst/>
              <a:gdLst/>
              <a:ahLst/>
              <a:rect l="l" t="t" r="r" b="b"/>
              <a:pathLst>
                <a:path w="687" h="1440">
                  <a:moveTo>
                    <a:pt x="48" y="0"/>
                  </a:moveTo>
                  <a:cubicBezTo>
                    <a:pt x="168" y="48"/>
                    <a:pt x="288" y="96"/>
                    <a:pt x="384" y="240"/>
                  </a:cubicBezTo>
                  <a:cubicBezTo>
                    <a:pt x="479" y="383"/>
                    <a:pt x="687" y="664"/>
                    <a:pt x="624" y="864"/>
                  </a:cubicBezTo>
                  <a:cubicBezTo>
                    <a:pt x="560" y="1063"/>
                    <a:pt x="280" y="1251"/>
                    <a:pt x="0" y="1440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27160" y="2805120"/>
                <a:ext cx="2442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135000" y="4479840"/>
                <a:ext cx="2568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387-BF0E-42D5-BF35-DEA79CD2E1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E5B9D-C403-4935-950A-51323276903A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65240" y="304920"/>
            <a:ext cx="8826480" cy="64260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755640" y="4038480"/>
            <a:ext cx="36295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FECTIV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6629400"/>
            <a:ext cx="17528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52680" y="3429000"/>
            <a:ext cx="1524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62720" y="54100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22096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38680" y="2362320"/>
            <a:ext cx="0" cy="3047760"/>
          </a:xfrm>
          <a:prstGeom prst="line">
            <a:avLst/>
          </a:prstGeom>
          <a:ln w="38160">
            <a:solidFill>
              <a:srgbClr val="99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27960" y="99072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98840" y="4572000"/>
            <a:ext cx="29725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-PASS FIL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414520" y="1405080"/>
                <a:ext cx="1573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6D7-D68E-4293-A459-F7B366EA3CD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45630-50A7-4D5E-86EC-8C5DB15658FF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6, Sections 6-6, 6-7 &amp; 6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B93-542A-4183-ACCD-3DD9D7B0CE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AFB09-BD8A-484F-A79C-66CD4BB087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TYP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-PASS FILTER (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LP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LUR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ENUATES HIGH FREQUENC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IGH-PASS FILTER (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HP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PENING for IMA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OSTS THE HIGH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MOVES D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ND-PASS FILTER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BP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334120" y="3232080"/>
            <a:ext cx="3733560" cy="30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D39-B217-4455-B3A2-DDCF5A860E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40A8C-FD7E-440B-BECB-C585D7D79C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 &amp; W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600200" y="1430280"/>
            <a:ext cx="6553080" cy="542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EC0-5EDF-490E-8CEC-BD987169378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34357-F8F5-4FE2-BD16-A55C452C67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&amp;W IMAGE with COSIN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2339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5199840" y="1676520"/>
            <a:ext cx="33444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ILTERED: 11-pt AV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39C-67EE-4E2E-9539-2A54DAA6122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A7DE5-BF74-487D-8916-26629B51AA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ED B&amp;W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838080" y="1557360"/>
            <a:ext cx="6400800" cy="53006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7409160" y="3124080"/>
            <a:ext cx="10249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LPF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LU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F77-9364-43C3-A937-A4D7E40DC45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CB4FC-A931-46D5-A9F5-7DF84547D8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OW of B&amp;W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3908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464480" y="1828800"/>
            <a:ext cx="204624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LACK = 255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67960" y="5257800"/>
            <a:ext cx="17262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ITE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FF4-9D67-4145-B4D3-EE494529B0E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15C16-C1E4-4C3D-8107-1C0EF75861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ED ROW of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839080" cy="34099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21000" y="5396040"/>
            <a:ext cx="6176160" cy="5814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DJUSTED DELAY by 5 sampl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00D-22E8-483C-922F-C03A3031C6B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8D5A4-2BCB-4D0F-93D6-C14083A696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FFECTIV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e NO Aliasing, t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LOG FREQ &lt;--&gt; DIGITAL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, we can plo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d Freq. Axi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752480" y="3200400"/>
                <a:ext cx="37339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495680" y="4724280"/>
                <a:ext cx="39751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5638680" y="548640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001000" y="5410080"/>
            <a:ext cx="152280" cy="533520"/>
          </a:xfrm>
          <a:prstGeom prst="upArrow">
            <a:avLst>
              <a:gd name="adj1" fmla="val 50000"/>
              <a:gd name="adj2" fmla="val 87589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18000" y="5867280"/>
            <a:ext cx="2954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ALOG FREQUENC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27680" y="3809880"/>
            <a:ext cx="2768400" cy="990720"/>
          </a:xfrm>
          <a:custGeom>
            <a:avLst/>
            <a:gdLst/>
            <a:ahLst/>
            <a:rect l="l" t="t" r="r" b="b"/>
            <a:pathLst>
              <a:path w="1744" h="624">
                <a:moveTo>
                  <a:pt x="16" y="624"/>
                </a:moveTo>
                <a:cubicBezTo>
                  <a:pt x="8" y="544"/>
                  <a:pt x="0" y="464"/>
                  <a:pt x="112" y="432"/>
                </a:cubicBezTo>
                <a:cubicBezTo>
                  <a:pt x="224" y="400"/>
                  <a:pt x="456" y="440"/>
                  <a:pt x="688" y="432"/>
                </a:cubicBezTo>
                <a:cubicBezTo>
                  <a:pt x="920" y="424"/>
                  <a:pt x="1328" y="455"/>
                  <a:pt x="1504" y="384"/>
                </a:cubicBezTo>
                <a:cubicBezTo>
                  <a:pt x="1679" y="312"/>
                  <a:pt x="1711" y="156"/>
                  <a:pt x="1744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42800" y="342900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11C-189F-4EF3-A9D9-3FD518984F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B1A26-F15C-439A-B460-84BD9B4E016A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 &amp; FREQ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   Linear &amp;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PLETELY CHARACTERIZ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y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ULSE RESPONS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[n]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time domai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wo DOMAINS: time &amp; frequenc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 back and forth QUICK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86000" y="3962520"/>
            <a:ext cx="6248520" cy="804600"/>
            <a:chOff x="2286000" y="3962520"/>
            <a:chExt cx="6248520" cy="804600"/>
          </a:xfrm>
        </p:grpSpPr>
        <p:graphicFrame>
          <p:nvGraphicFramePr>
            <p:cNvPr id="671" name=""/>
            <p:cNvGraphicFramePr/>
            <p:nvPr/>
          </p:nvGraphicFramePr>
          <p:xfrm>
            <a:off x="3429000" y="4038480"/>
            <a:ext cx="3962520" cy="7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038480"/>
                      <a:ext cx="3962520" cy="728640"/>
                    </a:xfrm>
                    <a:prstGeom prst="rect">
                      <a:avLst/>
                    </a:prstGeom>
                    <a:ln w="57240">
                      <a:solidFill>
                        <a:srgbClr val="0000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73" name=""/>
            <p:cNvSpPr/>
            <p:nvPr/>
          </p:nvSpPr>
          <p:spPr>
            <a:xfrm>
              <a:off x="2286000" y="4419720"/>
              <a:ext cx="1143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91520" y="4419720"/>
              <a:ext cx="1143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49720" y="396252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[n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47120" y="396252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y[n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C79-C2D7-4D67-BAA8-9C1722317F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D7764-593C-47D9-A0B5-CB1C26EAB209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thru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686800" cy="50896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 flipH="1" flipV="1">
            <a:off x="3809520" y="2437920"/>
            <a:ext cx="685800" cy="25909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4038480"/>
            <a:ext cx="3276720" cy="76212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7101000" y="3765600"/>
            <a:ext cx="1788840" cy="2711520"/>
            <a:chOff x="7101000" y="3765600"/>
            <a:chExt cx="1788840" cy="2711520"/>
          </a:xfrm>
        </p:grpSpPr>
        <p:sp>
          <p:nvSpPr>
            <p:cNvPr id="682" name=""/>
            <p:cNvSpPr/>
            <p:nvPr/>
          </p:nvSpPr>
          <p:spPr>
            <a:xfrm>
              <a:off x="7543800" y="6019920"/>
              <a:ext cx="1143000" cy="45720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01000" y="3765600"/>
              <a:ext cx="17884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DD PHASE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153280" y="4191120"/>
              <a:ext cx="736560" cy="1828800"/>
            </a:xfrm>
            <a:custGeom>
              <a:avLst/>
              <a:gdLst/>
              <a:ahLst/>
              <a:rect l="l" t="t" r="r" b="b"/>
              <a:pathLst>
                <a:path w="464" h="1152">
                  <a:moveTo>
                    <a:pt x="0" y="0"/>
                  </a:moveTo>
                  <a:cubicBezTo>
                    <a:pt x="199" y="71"/>
                    <a:pt x="399" y="143"/>
                    <a:pt x="432" y="336"/>
                  </a:cubicBezTo>
                  <a:cubicBezTo>
                    <a:pt x="464" y="528"/>
                    <a:pt x="328" y="840"/>
                    <a:pt x="192" y="1152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276720" y="3003480"/>
            <a:ext cx="5443200" cy="3473640"/>
            <a:chOff x="3276720" y="3003480"/>
            <a:chExt cx="5443200" cy="3473640"/>
          </a:xfrm>
        </p:grpSpPr>
        <p:sp>
          <p:nvSpPr>
            <p:cNvPr id="686" name=""/>
            <p:cNvSpPr/>
            <p:nvPr/>
          </p:nvSpPr>
          <p:spPr>
            <a:xfrm>
              <a:off x="3276720" y="6019920"/>
              <a:ext cx="1143000" cy="45720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38520" y="3003480"/>
              <a:ext cx="23814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ULTIPLY MAG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3429000"/>
              <a:ext cx="2297160" cy="2590920"/>
            </a:xfrm>
            <a:custGeom>
              <a:avLst/>
              <a:gdLst/>
              <a:ahLst/>
              <a:rect l="l" t="t" r="r" b="b"/>
              <a:pathLst>
                <a:path w="1447" h="1632">
                  <a:moveTo>
                    <a:pt x="1296" y="0"/>
                  </a:moveTo>
                  <a:cubicBezTo>
                    <a:pt x="1364" y="172"/>
                    <a:pt x="1432" y="344"/>
                    <a:pt x="1440" y="480"/>
                  </a:cubicBezTo>
                  <a:cubicBezTo>
                    <a:pt x="1447" y="615"/>
                    <a:pt x="1440" y="736"/>
                    <a:pt x="1344" y="816"/>
                  </a:cubicBezTo>
                  <a:cubicBezTo>
                    <a:pt x="1248" y="896"/>
                    <a:pt x="975" y="888"/>
                    <a:pt x="864" y="960"/>
                  </a:cubicBezTo>
                  <a:cubicBezTo>
                    <a:pt x="752" y="1031"/>
                    <a:pt x="719" y="1176"/>
                    <a:pt x="672" y="1248"/>
                  </a:cubicBezTo>
                  <a:cubicBezTo>
                    <a:pt x="624" y="1319"/>
                    <a:pt x="687" y="1328"/>
                    <a:pt x="576" y="1392"/>
                  </a:cubicBezTo>
                  <a:cubicBezTo>
                    <a:pt x="464" y="1455"/>
                    <a:pt x="232" y="1543"/>
                    <a:pt x="0" y="1632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 flipH="1">
            <a:off x="6019920" y="4495680"/>
            <a:ext cx="1676160" cy="13716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583-F104-40DF-B5EF-8BECAC9924F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A72AC-7505-464E-9B3C-262727C1DA90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wo Domains: Time &amp; Frequenc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ck the spectrum of x[n] thru an FIR Filter: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inusoid-IN gives Sinusoid-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does Frequency Response affect x(t) to produce y(t)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4800600"/>
            <a:ext cx="8001000" cy="1590840"/>
            <a:chOff x="457200" y="4800600"/>
            <a:chExt cx="8001000" cy="1590840"/>
          </a:xfrm>
        </p:grpSpPr>
        <p:sp>
          <p:nvSpPr>
            <p:cNvPr id="93" name=""/>
            <p:cNvSpPr/>
            <p:nvPr/>
          </p:nvSpPr>
          <p:spPr>
            <a:xfrm>
              <a:off x="3505320" y="480564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80564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480564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1008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6748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560" y="480564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96440" y="480564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3440" y="48056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8320" y="4805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3583080" y="4800600"/>
                  <a:ext cx="18223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"/>
            <p:cNvSpPr/>
            <p:nvPr/>
          </p:nvSpPr>
          <p:spPr>
            <a:xfrm>
              <a:off x="4116240" y="57200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6100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895480" y="5567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124080" y="572004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666880" y="572004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276720" y="5871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514600" y="5871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6100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943600" y="5567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172200" y="594828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715000" y="594828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324480" y="5795640"/>
              <a:ext cx="0" cy="304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562720" y="5795640"/>
              <a:ext cx="0" cy="304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657600" y="6024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705720" y="6024600"/>
                  <a:ext cx="29340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A37-2FFE-4F85-B0AE-FF23B3BE8C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03C7A-7FE2-4EFC-A87A-B620FF0A5C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 &amp; FREQUENC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304640" y="3124080"/>
            <a:ext cx="63453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R DIFFERENCE EQUATION is the TIME-DOMAI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23720" y="1555920"/>
                <a:ext cx="80694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7520" y="3686040"/>
                <a:ext cx="54003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1680" y="5560920"/>
                <a:ext cx="90820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39D-11FE-44F4-9CE7-94C8C144AA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35FBB-1575-4944-995F-E88365A2BA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 DELAY by 2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19320" y="4795920"/>
            <a:ext cx="4572000" cy="1224000"/>
            <a:chOff x="1219320" y="4795920"/>
            <a:chExt cx="4572000" cy="1224000"/>
          </a:xfrm>
        </p:grpSpPr>
        <p:sp>
          <p:nvSpPr>
            <p:cNvPr id="127" name=""/>
            <p:cNvSpPr/>
            <p:nvPr/>
          </p:nvSpPr>
          <p:spPr>
            <a:xfrm>
              <a:off x="2514600" y="48006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52578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52578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3080" y="48006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7960" y="48006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6019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981080" y="5486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20968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5248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362320" y="5790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600200" y="5790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6019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952880" y="5486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181480" y="5867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24280" y="5867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33412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7200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2592360" y="4795920"/>
                  <a:ext cx="182232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"/>
          <p:cNvGrpSpPr/>
          <p:nvPr/>
        </p:nvGrpSpPr>
        <p:grpSpPr>
          <a:xfrm>
            <a:off x="1219320" y="2895480"/>
            <a:ext cx="3886200" cy="914400"/>
            <a:chOff x="1219320" y="2895480"/>
            <a:chExt cx="3886200" cy="914400"/>
          </a:xfrm>
        </p:grpSpPr>
        <p:sp>
          <p:nvSpPr>
            <p:cNvPr id="146" name=""/>
            <p:cNvSpPr/>
            <p:nvPr/>
          </p:nvSpPr>
          <p:spPr>
            <a:xfrm>
              <a:off x="2209680" y="289548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335268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800" y="33526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8160" y="28954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3040" y="28954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2622600" y="2979720"/>
                  <a:ext cx="1093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18960" y="1731960"/>
                <a:ext cx="79725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38680" y="3733920"/>
                <a:ext cx="30099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43720" y="2666880"/>
                <a:ext cx="2997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43200" y="5943600"/>
                <a:ext cx="293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715000" y="5943600"/>
                <a:ext cx="293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D1F-B993-425C-9B1C-6E4F5E45EF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08159-3C7B-4F4A-B9B0-7DA0B72736C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by 2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961680" y="4038480"/>
            <a:ext cx="1767240" cy="1297800"/>
            <a:chOff x="6961680" y="4038480"/>
            <a:chExt cx="1767240" cy="1297800"/>
          </a:xfrm>
        </p:grpSpPr>
        <p:sp>
          <p:nvSpPr>
            <p:cNvPr id="159" name=""/>
            <p:cNvSpPr/>
            <p:nvPr/>
          </p:nvSpPr>
          <p:spPr>
            <a:xfrm>
              <a:off x="6961680" y="4876560"/>
              <a:ext cx="176724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= 2 ONL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554600" y="4038480"/>
              <a:ext cx="0" cy="838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828800" y="26668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1240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3124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7280" y="26668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216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28800" y="2751120"/>
                <a:ext cx="1917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8960" y="1731960"/>
                <a:ext cx="79725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290840" y="3254400"/>
                <a:ext cx="46785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54000" y="4100400"/>
            <a:ext cx="3832200" cy="866880"/>
            <a:chOff x="54000" y="4100400"/>
            <a:chExt cx="3832200" cy="866880"/>
          </a:xfrm>
        </p:grpSpPr>
        <p:sp>
          <p:nvSpPr>
            <p:cNvPr id="170" name=""/>
            <p:cNvSpPr/>
            <p:nvPr/>
          </p:nvSpPr>
          <p:spPr>
            <a:xfrm>
              <a:off x="1523880" y="4102200"/>
              <a:ext cx="2362320" cy="850680"/>
            </a:xfrm>
            <a:custGeom>
              <a:avLst/>
              <a:gdLst/>
              <a:ahLst/>
              <a:rect l="l" t="t" r="r" b="b"/>
              <a:pathLst>
                <a:path w="1488" h="536">
                  <a:moveTo>
                    <a:pt x="0" y="296"/>
                  </a:moveTo>
                  <a:cubicBezTo>
                    <a:pt x="80" y="267"/>
                    <a:pt x="160" y="239"/>
                    <a:pt x="336" y="200"/>
                  </a:cubicBezTo>
                  <a:cubicBezTo>
                    <a:pt x="511" y="160"/>
                    <a:pt x="864" y="0"/>
                    <a:pt x="1056" y="56"/>
                  </a:cubicBezTo>
                  <a:cubicBezTo>
                    <a:pt x="1247" y="111"/>
                    <a:pt x="1367" y="323"/>
                    <a:pt x="1488" y="53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000" y="4100400"/>
                  <a:ext cx="18223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1371600" y="4876920"/>
            <a:ext cx="4789440" cy="1509480"/>
            <a:chOff x="1371600" y="4876920"/>
            <a:chExt cx="4789440" cy="1509480"/>
          </a:xfrm>
        </p:grpSpPr>
        <p:grpSp>
          <p:nvGrpSpPr>
            <p:cNvPr id="173" name=""/>
            <p:cNvGrpSpPr/>
            <p:nvPr/>
          </p:nvGrpSpPr>
          <p:grpSpPr>
            <a:xfrm>
              <a:off x="1371600" y="4876920"/>
              <a:ext cx="4572000" cy="1218960"/>
              <a:chOff x="1371600" y="4876920"/>
              <a:chExt cx="4572000" cy="1218960"/>
            </a:xfrm>
          </p:grpSpPr>
          <p:sp>
            <p:nvSpPr>
              <p:cNvPr id="174" name=""/>
              <p:cNvSpPr/>
              <p:nvPr/>
            </p:nvSpPr>
            <p:spPr>
              <a:xfrm>
                <a:off x="2666880" y="487692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6520" y="533412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72000" y="53341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725360" y="48769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30240" y="4876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71600" y="60958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133720" y="55623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236232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90512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514600" y="58669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752480" y="58669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43400" y="60958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105520" y="55623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334120" y="59432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876920" y="59432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548640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72428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2867040" y="4876920"/>
                    <a:ext cx="1476360" cy="86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895480" y="60199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867280" y="60199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076-1444-45EB-BF41-D821C0252A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B2FF8-46AA-4F25-AC41-12ADAE1981AD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DELAY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837160" y="4419360"/>
            <a:ext cx="2625120" cy="1927800"/>
            <a:chOff x="2837160" y="4419360"/>
            <a:chExt cx="2625120" cy="1927800"/>
          </a:xfrm>
        </p:grpSpPr>
        <p:sp>
          <p:nvSpPr>
            <p:cNvPr id="196" name=""/>
            <p:cNvSpPr/>
            <p:nvPr/>
          </p:nvSpPr>
          <p:spPr>
            <a:xfrm>
              <a:off x="2837160" y="5105520"/>
              <a:ext cx="2625120" cy="12416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ONLY ONE 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non-ZERO TE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for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at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=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429000" y="4419360"/>
              <a:ext cx="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67280" y="3505320"/>
            <a:ext cx="137160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9560" y="3544920"/>
                <a:ext cx="6581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39840" y="1657440"/>
                <a:ext cx="8216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65280" y="2666880"/>
                <a:ext cx="3254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0D4-B893-40DA-A0DE-B21755B510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F9B66-4D8D-4D34-9C61-76F7153A64B9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 DOMAIN --&gt; TIME ?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T with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125880" y="1752480"/>
                <a:ext cx="53323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or 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19600" y="3727440"/>
                <a:ext cx="50958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762120" y="2743200"/>
            <a:ext cx="6243480" cy="914400"/>
            <a:chOff x="762120" y="2743200"/>
            <a:chExt cx="6243480" cy="914400"/>
          </a:xfrm>
        </p:grpSpPr>
        <p:grpSp>
          <p:nvGrpSpPr>
            <p:cNvPr id="207" name=""/>
            <p:cNvGrpSpPr/>
            <p:nvPr/>
          </p:nvGrpSpPr>
          <p:grpSpPr>
            <a:xfrm>
              <a:off x="762120" y="2743200"/>
              <a:ext cx="3886200" cy="914400"/>
              <a:chOff x="762120" y="2743200"/>
              <a:chExt cx="3886200" cy="914400"/>
            </a:xfrm>
          </p:grpSpPr>
          <p:sp>
            <p:nvSpPr>
              <p:cNvPr id="208" name=""/>
              <p:cNvSpPr/>
              <p:nvPr/>
            </p:nvSpPr>
            <p:spPr>
              <a:xfrm>
                <a:off x="1752480" y="274320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2120" y="320040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57600" y="320040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10960" y="27432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15840" y="2743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2165400" y="2827440"/>
                    <a:ext cx="1093680" cy="72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5135400" y="2768760"/>
                  <a:ext cx="187020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457200" y="4648320"/>
            <a:ext cx="4789440" cy="1509480"/>
            <a:chOff x="457200" y="4648320"/>
            <a:chExt cx="4789440" cy="1509480"/>
          </a:xfrm>
        </p:grpSpPr>
        <p:grpSp>
          <p:nvGrpSpPr>
            <p:cNvPr id="216" name=""/>
            <p:cNvGrpSpPr/>
            <p:nvPr/>
          </p:nvGrpSpPr>
          <p:grpSpPr>
            <a:xfrm>
              <a:off x="457200" y="4648320"/>
              <a:ext cx="4572000" cy="1218960"/>
              <a:chOff x="457200" y="4648320"/>
              <a:chExt cx="4572000" cy="1218960"/>
            </a:xfrm>
          </p:grpSpPr>
          <p:sp>
            <p:nvSpPr>
              <p:cNvPr id="217" name=""/>
              <p:cNvSpPr/>
              <p:nvPr/>
            </p:nvSpPr>
            <p:spPr>
              <a:xfrm>
                <a:off x="1752480" y="464832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2120" y="510552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57600" y="51055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10960" y="46483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15840" y="46483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7200" y="58672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1219320" y="53337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44792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99072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600200" y="56383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838080" y="56383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29000" y="58672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191120" y="53337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419720" y="57146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962520" y="57146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457200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80988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4" name=""/>
                  <p:cNvSpPr txBox="1"/>
                  <p:nvPr/>
                </p:nvSpPr>
                <p:spPr>
                  <a:xfrm>
                    <a:off x="1830240" y="4710240"/>
                    <a:ext cx="182268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981080" y="57913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952880" y="57913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32D-1AB0-41CD-B3FF-52536854A4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EDFF8-B728-4B4A-B622-9A49E6A8E2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0-01T12:26:52Z</cp:lastPrinted>
  <dcterms:modified xsi:type="dcterms:W3CDTF">2003-10-06T16:20:38Z</dcterms:modified>
  <cp:revision>305</cp:revision>
  <dc:subject/>
  <dc:title>SPFirst Lecture #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